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E0A-E541-4154-B02F-2AB513BD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5A9-273E-4642-8EF2-E595CC29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5482B-26B5-458C-A194-9602AE2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B50A-683A-479B-B627-18DF7E23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3DBE2-A20D-4DA0-A05D-74B2E59D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62F3B-972A-4C96-9053-64D56BA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F41C-769A-48CF-A3EB-F5604AB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2D848-F185-4309-8C9A-FC10930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35F60-0581-4CFA-88A0-8E32C015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0020A-EE4C-4F66-BB58-3F0008E0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FD0B-B94E-4219-AFFE-2F476B01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DFB95-3CC1-4742-88B5-CCF41B53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7A9-ECE9-4DF7-AA45-7284E06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C9C31-1CC4-486E-BE96-9A54AAF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46FCB-F316-436E-B4FF-7FA6249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D9A4-03DD-4A9E-B67C-D5DC7775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60004-E6FE-438A-A1C9-F978359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B04E4-874B-4398-B742-49727B34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A3933-9C4F-457A-B20C-2E6E7DA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06676-0AB1-464A-B374-3278553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A541-902B-4455-971E-2C64592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F2FA-23FF-48E5-80B2-5CCA4AB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B506-9121-49EE-871C-C631A94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744-9505-413C-A96A-90947D92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C0BA4-A59D-47E9-ABCB-0F069A5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B59F1-B8FF-43BC-8C9C-B95D92EE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4CC8-676D-4EE6-BFB5-59FA016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17FD6-D857-43CB-BF42-58EA6AF2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B955E-3959-4BD7-A677-AB365E4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B0DC1-2B71-4865-BE96-CBD6BCC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23399-C435-4F17-ABF0-2832844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E6F4E-A430-4529-85A6-11762A8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98BF-8390-4406-AEAD-0C3D30A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184A-C95A-46A6-A1F0-A2267F6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643-A4AD-491A-A433-6BAF4C64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D19C-82C6-46B7-819E-4B27594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4F96-9286-476E-8D3E-2C47BC58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77FC6-FD71-47D3-B1C2-686AC185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72945-57A2-48A1-8409-81F961CF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E6E94-7C28-4B44-B2DF-4F5B2C1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15A66-F653-479F-AA56-D8D5F33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8852B-6BC4-4EE2-B6A2-F8A2A25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AC04F-1CF1-498C-8B65-73CF5C8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7E9A7-8DF4-4A63-AE6E-C844DA3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6BD5F-784A-480C-8208-F904AFC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952-99E8-46FF-95A8-1D1E974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4A1B1-213E-42A5-8F6F-AF13127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CF44E-2712-45BA-B7D4-84B97CE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ADD19-F81B-4542-AE71-C5D872E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69DD2-DED3-4FEC-89E1-B01898C4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0CBED-0EBF-46BA-9DD1-8A149DFF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3339F-0B68-47D9-8D53-354BCBE7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7D62A-8BA2-4A54-ACA5-9E982AE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5D5AE-C05C-403E-A11A-E10C1F1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C26CD-57F2-4031-9D9F-6EDE2FB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EE87D-39E4-430C-8646-1643C52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FB80-2B4B-45F9-BAD5-E321D164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4C463-7C9A-41BF-9D4D-75F317AD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F20E2-C552-4562-AE0D-2FD806B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904E1-6626-4E26-A12B-3408EA4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A11A3-C699-4F56-AE1D-DF8BA94D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84A59-596B-4855-BEBF-AEDEDCB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1C381-C725-4767-9474-8422E1DC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E2B2C-28DB-41D0-A18E-83441CEE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EE95-8F97-4EC4-9439-BA5942B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F89-4FE2-493A-91B2-8B99660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679-FB01-4EE0-9E9D-F3DD365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388D-D861-4FFC-975F-F6A6292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548-E94B-42E2-B13E-5F8ED96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1168-8C3D-4C5E-A465-3CE8F64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C5CC-0221-4DE5-A6AA-29FF23C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A4D5-7863-4ED2-946E-D46FCB8B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D260-7229-4EE9-A297-74164E2A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2386-1FC2-48B3-B30C-7F2E1D5D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A02A-8CFC-4F01-8281-88027BAA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C62D-2214-42E9-851B-A0ED134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684D-B5C8-47C4-A0DD-D0D4A89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793C-A30E-46D0-9915-13E9B69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B44F-EF44-4645-92B6-87D177FD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328-42F8-405E-A31C-2B39B5F1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A590-30CF-4384-8E6D-F410103F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E9F1-2D9E-4F92-9DFA-C8946C7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027D-9584-441E-A0E9-4DCC58A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516D-C010-411A-B088-E5D5DD9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A96F-776E-4311-831B-7BFB791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E427-0704-49F9-8F2A-BF9A7A0C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06D8-4D35-4C56-A0AD-C6D8D4A4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23EA-69CE-44C2-AF8E-47C6D9DD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4890-FBA6-45CF-A313-B4FB8C01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CA84-8EE5-459C-B8D8-146FD4F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1B0-3C93-4A42-B977-7481DBAB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0251-81AF-4BB8-A398-D047A80C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A460-93D7-45FA-A41F-1891A36F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6E5D-3FA7-4786-92F3-7008E9E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36BB-935C-47AD-9898-E0B9E6F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60B7-6182-4DC5-BDEB-2DC734FB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D6B2-E879-44DA-B6B8-122B81E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05A6-EF0A-48FE-8BAC-6A97DCDA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145D-F011-407B-9C22-67D38B8F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C241-27C2-4847-9317-3851A115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BBBF-906C-4437-AAE0-5799DA88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BF1-C7AD-425E-88CB-11EE150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2695-72EB-45DC-BE4C-534D343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A938-303A-4B43-BD65-39BFDD86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C37D-FBF4-49CA-B578-89FD8FE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80C7-835B-4737-8F48-7A4A737A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F1F2-2A42-49E4-B795-B9127DEF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5190-8310-4D7B-8B45-43178A9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45B2-D9C7-4CF4-99FF-B746244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BA93-EB57-4BB1-ACAB-4E8DDDF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FF753-0735-420F-A8F7-D3B60CA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5D25B-9D37-4B99-8E69-59CB30E6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9FB-6703-4163-8929-D34734B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B3C05-A8FF-4286-A1D5-20D9917D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491A-A659-4E59-A669-0052C14C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AE5C-09C5-4B99-8037-B7B13CAC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84FD-823F-43BC-884E-FB3BB88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83596-689F-4EF5-A2D4-1257867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8876-84DE-40B4-A251-C0F2A874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8571-5294-44A7-A5F2-B7A8B55B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B7C0-3356-4DE1-84B0-E068C3D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ACE9-34C0-4363-9E34-B80B7F3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8811-6840-493A-82E1-B531EDC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ABF-2E88-41F6-83DE-AF5CB4B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52FF-5B29-4569-88ED-1D599B0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5810-D219-47EB-B515-2D6468D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4C7CF-2752-4A9F-9C82-9841A038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C8DF-5654-4326-83EC-9536F6AD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1DED-A19A-4683-9F44-17C867D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8F37-AD44-474A-8B83-729BF6C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5991-BB27-4128-B4BA-F2A4BC13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FADAC-3E83-4F5B-99C5-CCDE8934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4D8B-C1A6-45A9-B776-EF4D349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0319F-23C2-4498-910A-1367E2F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D9C-8B04-469D-B733-B76741A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2D29-F6F3-4BC0-847B-A8945A5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EFE69-B4D6-480C-AAAC-473E343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14656-153F-4611-82E7-B72AD30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B9EE-8EEC-4D32-9157-2E235476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B23C-160B-4485-802E-6545B61A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4FC4-6245-4ACA-9B18-734C0F2A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0771B-9750-49C6-A564-1071518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4ADE-B19A-4B31-831B-D62ED356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294E-2445-46BF-9420-D21C582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F3AB-9056-44B1-B335-1A278F2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B03-9954-4860-B8A9-16B6E8E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280" y="647280"/>
            <a:ext cx="66214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B7AC-6C37-4554-AC3E-61EADB28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1735-A231-42F7-BD4C-D3D5D79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865C-15AE-4B61-AC4D-3F8A5B9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13D30-4993-4A17-B1FA-E5800DB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9280" y="4003920"/>
            <a:ext cx="80614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AD2B-1E5C-4E69-B1B0-E269FA1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9920" y="165384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928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9920" y="4003920"/>
            <a:ext cx="39337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7DEB-7FC3-4407-B58E-5AD841D3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6520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90760" y="165384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3928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6520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90760" y="4003920"/>
            <a:ext cx="25956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2C01E-7790-40F3-B053-3703F0AD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6684-E7BD-4C78-95B6-2CF46BF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EF39D-D5D2-4129-8322-09C6EDD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72060-4B56-4278-AE9D-86F33F62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7305840" cy="144792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38200"/>
            <a:ext cx="9144000" cy="85680"/>
          </a:xfrm>
          <a:prstGeom prst="rect">
            <a:avLst/>
          </a:prstGeom>
          <a:solidFill>
            <a:srgbClr val="9cb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A9D8D7EF-0CAB-4FCB-821E-EE1237E6F443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7737480" y="108000"/>
            <a:ext cx="130644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D2B46EAB-5FD2-4789-ABE5-6E22BA63612F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606B252D-EECE-40FB-95DD-CE62F3B7146D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C7AD281B-18AC-4BAF-9E6F-EE1BE842E94B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BAA1D8A2-61BC-4BFC-8919-4D451F40B181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108000"/>
            <a:ext cx="7305840" cy="664056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1447920"/>
            <a:ext cx="7315200" cy="5029200"/>
          </a:xfrm>
          <a:prstGeom prst="rect">
            <a:avLst/>
          </a:prstGeom>
          <a:solidFill>
            <a:srgbClr val="9cb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7305840" y="1447920"/>
            <a:ext cx="1834920" cy="50292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7737480" y="108000"/>
            <a:ext cx="1306440" cy="100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39640" y="6548040"/>
            <a:ext cx="2889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08000" y="178920"/>
            <a:ext cx="44640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3680" y="654840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741-4036-4806-868E-901826D8BD9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BF55E63A-44FC-4CFC-90D0-9780FE2FFBC2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353E247F-EB6E-4505-94E1-D482D912CA54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87CC1E7B-A100-422A-9E28-1F2D5E836811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E1AD08EB-BF80-426D-9DCD-6F9EE67E76C0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288239E8-B132-4438-BC23-22074DAF33FA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31BE81CA-E8FC-47B4-AFE8-77424E42BC96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2" marL="1295280" indent="-380880">
              <a:lnSpc>
                <a:spcPct val="95000"/>
              </a:lnSpc>
              <a:spcBef>
                <a:spcPts val="601"/>
              </a:spcBef>
              <a:buClr>
                <a:srgbClr val="7f0101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3" marL="1714680" indent="-381240">
              <a:lnSpc>
                <a:spcPct val="95000"/>
              </a:lnSpc>
              <a:spcBef>
                <a:spcPts val="601"/>
              </a:spcBef>
              <a:buClr>
                <a:srgbClr val="0a017f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4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5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6" marL="2286000" indent="-380880">
              <a:lnSpc>
                <a:spcPct val="95000"/>
              </a:lnSpc>
              <a:spcBef>
                <a:spcPts val="601"/>
              </a:spcBef>
              <a:buClr>
                <a:srgbClr val="05027d"/>
              </a:buClr>
              <a:buSzPct val="85000"/>
              <a:buFont typeface="Helvetica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© Oscar Nierstra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107640" y="1789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Times New Roman"/>
              </a:rPr>
              <a:t>ESE — Software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543440" y="6552720"/>
            <a:ext cx="135108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a7a7a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ESE 12.</a:t>
            </a:r>
            <a:fld id="{95FACB5E-4F88-4A8A-A99B-A7F3E5D92DB1}" type="slidenum">
              <a:rPr b="0" lang="de-CH" sz="1200" spc="-1" strike="noStrike">
                <a:solidFill>
                  <a:srgbClr val="a7a7a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A4F3A3E2-8E6C-472C-A7BC-2321F3EBF2AF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Measurement Mapping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403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Measure &amp; Measurement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a017f"/>
                </a:solidFill>
                <a:uFillTx/>
                <a:latin typeface="Arial"/>
              </a:rPr>
              <a:t>measure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is a function mapping an </a:t>
            </a: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attribute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of a real world entity (= the domain) onto a </a:t>
            </a: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symbol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in a set with known mathematical relations (= the range).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a017f"/>
                </a:solidFill>
                <a:uFillTx/>
                <a:latin typeface="Arial"/>
              </a:rPr>
              <a:t>measurement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is the symbol assigned to the real world attribute by the measure.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4749840" y="2057400"/>
            <a:ext cx="1523880" cy="16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3" name="Oval 7"/>
          <p:cNvSpPr/>
          <p:nvPr/>
        </p:nvSpPr>
        <p:spPr>
          <a:xfrm>
            <a:off x="6883560" y="2057400"/>
            <a:ext cx="1523880" cy="16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4" name="Oval 8"/>
          <p:cNvSpPr/>
          <p:nvPr/>
        </p:nvSpPr>
        <p:spPr>
          <a:xfrm>
            <a:off x="520704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5" name="Oval 9"/>
          <p:cNvSpPr/>
          <p:nvPr/>
        </p:nvSpPr>
        <p:spPr>
          <a:xfrm>
            <a:off x="574056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6" name="Oval 10"/>
          <p:cNvSpPr/>
          <p:nvPr/>
        </p:nvSpPr>
        <p:spPr>
          <a:xfrm>
            <a:off x="520704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749304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734076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749304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4971960" y="249552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Frank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5619600" y="2749680"/>
            <a:ext cx="36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Joe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4998240" y="305424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Laura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7689960" y="23302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1.80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7550280" y="25621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7688160" y="32320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1.73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6" name="Freeform 20"/>
          <p:cNvSpPr/>
          <p:nvPr/>
        </p:nvSpPr>
        <p:spPr>
          <a:xfrm>
            <a:off x="7315200" y="237492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32"/>
                </a:moveTo>
                <a:lnTo>
                  <a:pt x="0" y="0"/>
                </a:lnTo>
                <a:lnTo>
                  <a:pt x="96" y="32"/>
                </a:lnTo>
                <a:lnTo>
                  <a:pt x="0" y="5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7" name="Line 21"/>
          <p:cNvSpPr/>
          <p:nvPr/>
        </p:nvSpPr>
        <p:spPr>
          <a:xfrm>
            <a:off x="5270400" y="2425680"/>
            <a:ext cx="2044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8" name="Freeform 22"/>
          <p:cNvSpPr/>
          <p:nvPr/>
        </p:nvSpPr>
        <p:spPr>
          <a:xfrm>
            <a:off x="7162920" y="271764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32"/>
                </a:moveTo>
                <a:lnTo>
                  <a:pt x="0" y="0"/>
                </a:lnTo>
                <a:lnTo>
                  <a:pt x="96" y="8"/>
                </a:lnTo>
                <a:lnTo>
                  <a:pt x="8" y="5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5816520" y="2768760"/>
            <a:ext cx="13464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0" name="Freeform 24"/>
          <p:cNvSpPr/>
          <p:nvPr/>
        </p:nvSpPr>
        <p:spPr>
          <a:xfrm>
            <a:off x="7277040" y="3314880"/>
            <a:ext cx="152640" cy="7596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24"/>
                </a:moveTo>
                <a:lnTo>
                  <a:pt x="0" y="0"/>
                </a:lnTo>
                <a:lnTo>
                  <a:pt x="96" y="24"/>
                </a:lnTo>
                <a:lnTo>
                  <a:pt x="0" y="4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1" name="Line 25"/>
          <p:cNvSpPr/>
          <p:nvPr/>
        </p:nvSpPr>
        <p:spPr>
          <a:xfrm>
            <a:off x="5295960" y="33526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2" name="Rectangle 26"/>
          <p:cNvSpPr/>
          <p:nvPr/>
        </p:nvSpPr>
        <p:spPr>
          <a:xfrm>
            <a:off x="4821840" y="4006800"/>
            <a:ext cx="358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5027d"/>
                </a:solidFill>
                <a:latin typeface="Arial"/>
              </a:rPr>
              <a:t>Example: measure mapping height 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5067720" y="4286160"/>
            <a:ext cx="324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5027d"/>
                </a:solidFill>
                <a:latin typeface="Arial"/>
              </a:rPr>
              <a:t>attribute of person on a number 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4" name="Rectangle 28"/>
          <p:cNvSpPr/>
          <p:nvPr/>
        </p:nvSpPr>
        <p:spPr>
          <a:xfrm>
            <a:off x="5074920" y="456552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5027d"/>
                </a:solidFill>
                <a:latin typeface="Arial"/>
              </a:rPr>
              <a:t>representing height in meters.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85800" y="54100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Purpose: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Manipulate symbol(s) in the range to draw conclusions about attribute(s) in the domain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CD556C7A-F251-4032-AB67-F8BFEFAA7D4A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Precisenes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To be </a:t>
            </a:r>
            <a:r>
              <a:rPr b="0" lang="en-US" sz="2400" spc="-1" strike="noStrike" u="sng">
                <a:solidFill>
                  <a:srgbClr val="0a017f"/>
                </a:solidFill>
                <a:uFillTx/>
                <a:latin typeface="Arial"/>
              </a:rPr>
              <a:t>precise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, the definition of the measure must specify: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017f"/>
                </a:solidFill>
                <a:latin typeface="Arial"/>
              </a:rPr>
              <a:t>domain: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do we measure people’s height or width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017f"/>
                </a:solidFill>
                <a:latin typeface="Arial"/>
              </a:rPr>
              <a:t>range: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do we measure height in centimetres or inches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017f"/>
                </a:solidFill>
                <a:latin typeface="Arial"/>
              </a:rPr>
              <a:t>mapping rules: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do we allow shoes to be worn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5ED00C83-95A8-424B-8541-47D91ABB85BC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Possible Problem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09480" y="2209680"/>
          <a:ext cx="7772400" cy="3227400"/>
        </p:xfrm>
        <a:graphic>
          <a:graphicData uri="http://schemas.openxmlformats.org/drawingml/2006/table">
            <a:tbl>
              <a:tblPr/>
              <a:tblGrid>
                <a:gridCol w="2819520"/>
                <a:gridCol w="495288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Do we use the same units to compare? 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What is a “line of code”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What is the “time unit”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s the context the same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Were programmers familiar with the language? 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s “code size” really what we want to produce? 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What about code quality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How do we want to interpret results? 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Average productivity of a programmer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Programmer X is twice as productive as Y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What do we want to do with the results? 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Do you reward “productive” programmers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Do you compare productivity of software processes?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Text Box 31"/>
          <p:cNvSpPr/>
          <p:nvPr/>
        </p:nvSpPr>
        <p:spPr>
          <a:xfrm>
            <a:off x="457200" y="1660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Example: Compare productivity in lines of code per time unit.</a:t>
            </a:r>
            <a:endParaRPr b="0" lang="en-US" sz="20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CDF5331-8AE6-42DB-B4FB-177B92B10CD0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GQM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Goal — Question — Metrics approach</a:t>
            </a:r>
            <a:br>
              <a:rPr sz="2000"/>
            </a:b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[Basili et al. 1984]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Define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e.g., “How effective is the coding standard XYZ?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Break down into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Who is using XYZ?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What is productivity/quality with/without XYZ?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Pick suitable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Proportion of developers using XYZ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Their experience with XYZ ...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Resulting code size, complexity, robustness ...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30688960-9616-498A-B05A-845E9925B0C0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Validity and reliability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grpSp>
        <p:nvGrpSpPr>
          <p:cNvPr id="622" name="Group 79"/>
          <p:cNvGrpSpPr/>
          <p:nvPr/>
        </p:nvGrpSpPr>
        <p:grpSpPr>
          <a:xfrm>
            <a:off x="1371600" y="2819520"/>
            <a:ext cx="1981080" cy="1981080"/>
            <a:chOff x="1371600" y="2819520"/>
            <a:chExt cx="1981080" cy="1981080"/>
          </a:xfrm>
        </p:grpSpPr>
        <p:grpSp>
          <p:nvGrpSpPr>
            <p:cNvPr id="623" name="Group 17"/>
            <p:cNvGrpSpPr/>
            <p:nvPr/>
          </p:nvGrpSpPr>
          <p:grpSpPr>
            <a:xfrm>
              <a:off x="1371600" y="2819520"/>
              <a:ext cx="1981080" cy="1981080"/>
              <a:chOff x="1371600" y="2819520"/>
              <a:chExt cx="1981080" cy="1981080"/>
            </a:xfrm>
          </p:grpSpPr>
          <p:sp>
            <p:nvSpPr>
              <p:cNvPr id="624" name="Oval 11"/>
              <p:cNvSpPr/>
              <p:nvPr/>
            </p:nvSpPr>
            <p:spPr>
              <a:xfrm>
                <a:off x="2209680" y="3657600"/>
                <a:ext cx="304920" cy="304920"/>
              </a:xfrm>
              <a:prstGeom prst="ellipse">
                <a:avLst/>
              </a:prstGeom>
              <a:solidFill>
                <a:srgbClr val="0a017f"/>
              </a:solidFill>
              <a:ln w="936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25" name="Oval 12"/>
              <p:cNvSpPr/>
              <p:nvPr/>
            </p:nvSpPr>
            <p:spPr>
              <a:xfrm>
                <a:off x="2057400" y="3505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26" name="Oval 13"/>
              <p:cNvSpPr/>
              <p:nvPr/>
            </p:nvSpPr>
            <p:spPr>
              <a:xfrm>
                <a:off x="1905120" y="3353040"/>
                <a:ext cx="914400" cy="91440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27" name="Oval 14"/>
              <p:cNvSpPr/>
              <p:nvPr/>
            </p:nvSpPr>
            <p:spPr>
              <a:xfrm>
                <a:off x="1752480" y="3200400"/>
                <a:ext cx="1219320" cy="121932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28" name="Oval 15"/>
              <p:cNvSpPr/>
              <p:nvPr/>
            </p:nvSpPr>
            <p:spPr>
              <a:xfrm>
                <a:off x="1600200" y="3048120"/>
                <a:ext cx="1523880" cy="15238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29" name="Rectangle 16"/>
              <p:cNvSpPr/>
              <p:nvPr/>
            </p:nvSpPr>
            <p:spPr>
              <a:xfrm>
                <a:off x="1371600" y="2819520"/>
                <a:ext cx="1981080" cy="1981080"/>
              </a:xfrm>
              <a:prstGeom prst="rect">
                <a:avLst/>
              </a:prstGeom>
              <a:noFill/>
              <a:ln w="2844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</p:grpSp>
        <p:sp>
          <p:nvSpPr>
            <p:cNvPr id="630" name="Oval 32"/>
            <p:cNvSpPr/>
            <p:nvPr/>
          </p:nvSpPr>
          <p:spPr>
            <a:xfrm>
              <a:off x="2743200" y="31240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1" name="Oval 33"/>
            <p:cNvSpPr/>
            <p:nvPr/>
          </p:nvSpPr>
          <p:spPr>
            <a:xfrm>
              <a:off x="2819520" y="3200400"/>
              <a:ext cx="7596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2" name="Oval 34"/>
            <p:cNvSpPr/>
            <p:nvPr/>
          </p:nvSpPr>
          <p:spPr>
            <a:xfrm>
              <a:off x="2895480" y="30481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3" name="Oval 35"/>
            <p:cNvSpPr/>
            <p:nvPr/>
          </p:nvSpPr>
          <p:spPr>
            <a:xfrm>
              <a:off x="2971800" y="32004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4" name="Oval 36"/>
            <p:cNvSpPr/>
            <p:nvPr/>
          </p:nvSpPr>
          <p:spPr>
            <a:xfrm>
              <a:off x="2895480" y="33526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5" name="Oval 37"/>
            <p:cNvSpPr/>
            <p:nvPr/>
          </p:nvSpPr>
          <p:spPr>
            <a:xfrm>
              <a:off x="2666880" y="32767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6" name="Oval 38"/>
            <p:cNvSpPr/>
            <p:nvPr/>
          </p:nvSpPr>
          <p:spPr>
            <a:xfrm>
              <a:off x="2743200" y="29718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7" name="Oval 39"/>
            <p:cNvSpPr/>
            <p:nvPr/>
          </p:nvSpPr>
          <p:spPr>
            <a:xfrm>
              <a:off x="3124080" y="31240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8" name="Oval 40"/>
            <p:cNvSpPr/>
            <p:nvPr/>
          </p:nvSpPr>
          <p:spPr>
            <a:xfrm>
              <a:off x="3048120" y="2971800"/>
              <a:ext cx="7596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39" name="Oval 41"/>
            <p:cNvSpPr/>
            <p:nvPr/>
          </p:nvSpPr>
          <p:spPr>
            <a:xfrm>
              <a:off x="3048120" y="3352680"/>
              <a:ext cx="7596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40" name="Oval 42"/>
            <p:cNvSpPr/>
            <p:nvPr/>
          </p:nvSpPr>
          <p:spPr>
            <a:xfrm>
              <a:off x="2743200" y="34290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41" name="Oval 43"/>
            <p:cNvSpPr/>
            <p:nvPr/>
          </p:nvSpPr>
          <p:spPr>
            <a:xfrm>
              <a:off x="3200400" y="32767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</p:grpSp>
      <p:grpSp>
        <p:nvGrpSpPr>
          <p:cNvPr id="642" name="Group 80"/>
          <p:cNvGrpSpPr/>
          <p:nvPr/>
        </p:nvGrpSpPr>
        <p:grpSpPr>
          <a:xfrm>
            <a:off x="3581280" y="2819520"/>
            <a:ext cx="1981080" cy="1981080"/>
            <a:chOff x="3581280" y="2819520"/>
            <a:chExt cx="1981080" cy="1981080"/>
          </a:xfrm>
        </p:grpSpPr>
        <p:grpSp>
          <p:nvGrpSpPr>
            <p:cNvPr id="643" name="Group 18"/>
            <p:cNvGrpSpPr/>
            <p:nvPr/>
          </p:nvGrpSpPr>
          <p:grpSpPr>
            <a:xfrm>
              <a:off x="3581280" y="2819520"/>
              <a:ext cx="1981080" cy="1981080"/>
              <a:chOff x="3581280" y="2819520"/>
              <a:chExt cx="1981080" cy="1981080"/>
            </a:xfrm>
          </p:grpSpPr>
          <p:sp>
            <p:nvSpPr>
              <p:cNvPr id="644" name="Oval 19"/>
              <p:cNvSpPr/>
              <p:nvPr/>
            </p:nvSpPr>
            <p:spPr>
              <a:xfrm>
                <a:off x="4419360" y="3657600"/>
                <a:ext cx="304920" cy="304920"/>
              </a:xfrm>
              <a:prstGeom prst="ellipse">
                <a:avLst/>
              </a:prstGeom>
              <a:solidFill>
                <a:srgbClr val="0a017f"/>
              </a:solidFill>
              <a:ln w="936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45" name="Oval 20"/>
              <p:cNvSpPr/>
              <p:nvPr/>
            </p:nvSpPr>
            <p:spPr>
              <a:xfrm>
                <a:off x="4267080" y="3505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46" name="Oval 21"/>
              <p:cNvSpPr/>
              <p:nvPr/>
            </p:nvSpPr>
            <p:spPr>
              <a:xfrm>
                <a:off x="4114800" y="3353040"/>
                <a:ext cx="914400" cy="91440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47" name="Oval 22"/>
              <p:cNvSpPr/>
              <p:nvPr/>
            </p:nvSpPr>
            <p:spPr>
              <a:xfrm>
                <a:off x="3962160" y="3200400"/>
                <a:ext cx="1219320" cy="121932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48" name="Oval 23"/>
              <p:cNvSpPr/>
              <p:nvPr/>
            </p:nvSpPr>
            <p:spPr>
              <a:xfrm>
                <a:off x="3809880" y="3048120"/>
                <a:ext cx="1523880" cy="15238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49" name="Rectangle 24"/>
              <p:cNvSpPr/>
              <p:nvPr/>
            </p:nvSpPr>
            <p:spPr>
              <a:xfrm>
                <a:off x="3581280" y="2819520"/>
                <a:ext cx="1981080" cy="1981080"/>
              </a:xfrm>
              <a:prstGeom prst="rect">
                <a:avLst/>
              </a:prstGeom>
              <a:noFill/>
              <a:ln w="2844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</p:grpSp>
        <p:sp>
          <p:nvSpPr>
            <p:cNvPr id="650" name="Oval 44"/>
            <p:cNvSpPr/>
            <p:nvPr/>
          </p:nvSpPr>
          <p:spPr>
            <a:xfrm>
              <a:off x="4343400" y="33526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1" name="Oval 46"/>
            <p:cNvSpPr/>
            <p:nvPr/>
          </p:nvSpPr>
          <p:spPr>
            <a:xfrm>
              <a:off x="4495680" y="33526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2" name="Oval 47"/>
            <p:cNvSpPr/>
            <p:nvPr/>
          </p:nvSpPr>
          <p:spPr>
            <a:xfrm>
              <a:off x="4724280" y="40384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3" name="Oval 48"/>
            <p:cNvSpPr/>
            <p:nvPr/>
          </p:nvSpPr>
          <p:spPr>
            <a:xfrm>
              <a:off x="4800600" y="35053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4" name="Oval 49"/>
            <p:cNvSpPr/>
            <p:nvPr/>
          </p:nvSpPr>
          <p:spPr>
            <a:xfrm>
              <a:off x="4952880" y="36576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5" name="Oval 50"/>
            <p:cNvSpPr/>
            <p:nvPr/>
          </p:nvSpPr>
          <p:spPr>
            <a:xfrm>
              <a:off x="5029200" y="38862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6" name="Oval 51"/>
            <p:cNvSpPr/>
            <p:nvPr/>
          </p:nvSpPr>
          <p:spPr>
            <a:xfrm>
              <a:off x="4952880" y="41148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7" name="Oval 52"/>
            <p:cNvSpPr/>
            <p:nvPr/>
          </p:nvSpPr>
          <p:spPr>
            <a:xfrm>
              <a:off x="4572000" y="42670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8" name="Oval 53"/>
            <p:cNvSpPr/>
            <p:nvPr/>
          </p:nvSpPr>
          <p:spPr>
            <a:xfrm>
              <a:off x="4343400" y="41148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59" name="Oval 54"/>
            <p:cNvSpPr/>
            <p:nvPr/>
          </p:nvSpPr>
          <p:spPr>
            <a:xfrm>
              <a:off x="4267080" y="38862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60" name="Oval 56"/>
            <p:cNvSpPr/>
            <p:nvPr/>
          </p:nvSpPr>
          <p:spPr>
            <a:xfrm>
              <a:off x="4038480" y="38098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61" name="Oval 57"/>
            <p:cNvSpPr/>
            <p:nvPr/>
          </p:nvSpPr>
          <p:spPr>
            <a:xfrm>
              <a:off x="4114800" y="35053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</p:grpSp>
      <p:grpSp>
        <p:nvGrpSpPr>
          <p:cNvPr id="662" name="Group 81"/>
          <p:cNvGrpSpPr/>
          <p:nvPr/>
        </p:nvGrpSpPr>
        <p:grpSpPr>
          <a:xfrm>
            <a:off x="5791320" y="2819520"/>
            <a:ext cx="1981080" cy="1981080"/>
            <a:chOff x="5791320" y="2819520"/>
            <a:chExt cx="1981080" cy="1981080"/>
          </a:xfrm>
        </p:grpSpPr>
        <p:grpSp>
          <p:nvGrpSpPr>
            <p:cNvPr id="663" name="Group 25"/>
            <p:cNvGrpSpPr/>
            <p:nvPr/>
          </p:nvGrpSpPr>
          <p:grpSpPr>
            <a:xfrm>
              <a:off x="5791320" y="2819520"/>
              <a:ext cx="1981080" cy="1981080"/>
              <a:chOff x="5791320" y="2819520"/>
              <a:chExt cx="1981080" cy="1981080"/>
            </a:xfrm>
          </p:grpSpPr>
          <p:sp>
            <p:nvSpPr>
              <p:cNvPr id="664" name="Oval 26"/>
              <p:cNvSpPr/>
              <p:nvPr/>
            </p:nvSpPr>
            <p:spPr>
              <a:xfrm>
                <a:off x="6629400" y="3657600"/>
                <a:ext cx="304920" cy="304920"/>
              </a:xfrm>
              <a:prstGeom prst="ellipse">
                <a:avLst/>
              </a:prstGeom>
              <a:solidFill>
                <a:srgbClr val="0a017f"/>
              </a:solidFill>
              <a:ln w="936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65" name="Oval 27"/>
              <p:cNvSpPr/>
              <p:nvPr/>
            </p:nvSpPr>
            <p:spPr>
              <a:xfrm>
                <a:off x="6477120" y="3505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66" name="Oval 28"/>
              <p:cNvSpPr/>
              <p:nvPr/>
            </p:nvSpPr>
            <p:spPr>
              <a:xfrm>
                <a:off x="6324840" y="3353040"/>
                <a:ext cx="914400" cy="91440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67" name="Oval 29"/>
              <p:cNvSpPr/>
              <p:nvPr/>
            </p:nvSpPr>
            <p:spPr>
              <a:xfrm>
                <a:off x="6172200" y="3200400"/>
                <a:ext cx="1219320" cy="121932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68" name="Oval 30"/>
              <p:cNvSpPr/>
              <p:nvPr/>
            </p:nvSpPr>
            <p:spPr>
              <a:xfrm>
                <a:off x="6019920" y="3048120"/>
                <a:ext cx="1523880" cy="1523880"/>
              </a:xfrm>
              <a:prstGeom prst="ellipse">
                <a:avLst/>
              </a:prstGeom>
              <a:noFill/>
              <a:ln w="1908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  <p:sp>
            <p:nvSpPr>
              <p:cNvPr id="669" name="Rectangle 31"/>
              <p:cNvSpPr/>
              <p:nvPr/>
            </p:nvSpPr>
            <p:spPr>
              <a:xfrm>
                <a:off x="5791320" y="2819520"/>
                <a:ext cx="1981080" cy="1981080"/>
              </a:xfrm>
              <a:prstGeom prst="rect">
                <a:avLst/>
              </a:prstGeom>
              <a:noFill/>
              <a:ln w="28440">
                <a:solidFill>
                  <a:srgbClr val="050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5027d"/>
                  </a:solidFill>
                  <a:latin typeface="Arial"/>
                </a:endParaRPr>
              </a:p>
            </p:txBody>
          </p:sp>
        </p:grpSp>
        <p:sp>
          <p:nvSpPr>
            <p:cNvPr id="670" name="Oval 59"/>
            <p:cNvSpPr/>
            <p:nvPr/>
          </p:nvSpPr>
          <p:spPr>
            <a:xfrm>
              <a:off x="6553080" y="36576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1" name="Oval 60"/>
            <p:cNvSpPr/>
            <p:nvPr/>
          </p:nvSpPr>
          <p:spPr>
            <a:xfrm>
              <a:off x="6553080" y="38862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2" name="Oval 61"/>
            <p:cNvSpPr/>
            <p:nvPr/>
          </p:nvSpPr>
          <p:spPr>
            <a:xfrm>
              <a:off x="6705720" y="3962520"/>
              <a:ext cx="7596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3" name="Oval 62"/>
            <p:cNvSpPr/>
            <p:nvPr/>
          </p:nvSpPr>
          <p:spPr>
            <a:xfrm>
              <a:off x="6934320" y="3962520"/>
              <a:ext cx="7596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4" name="Oval 63"/>
            <p:cNvSpPr/>
            <p:nvPr/>
          </p:nvSpPr>
          <p:spPr>
            <a:xfrm>
              <a:off x="6934320" y="3809880"/>
              <a:ext cx="7596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5" name="Oval 64"/>
            <p:cNvSpPr/>
            <p:nvPr/>
          </p:nvSpPr>
          <p:spPr>
            <a:xfrm>
              <a:off x="7010280" y="365760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6" name="Oval 65"/>
            <p:cNvSpPr/>
            <p:nvPr/>
          </p:nvSpPr>
          <p:spPr>
            <a:xfrm>
              <a:off x="6858000" y="35812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7" name="Oval 66"/>
            <p:cNvSpPr/>
            <p:nvPr/>
          </p:nvSpPr>
          <p:spPr>
            <a:xfrm>
              <a:off x="6705720" y="3505320"/>
              <a:ext cx="7596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8" name="Oval 67"/>
            <p:cNvSpPr/>
            <p:nvPr/>
          </p:nvSpPr>
          <p:spPr>
            <a:xfrm>
              <a:off x="6629400" y="35812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79" name="Oval 68"/>
            <p:cNvSpPr/>
            <p:nvPr/>
          </p:nvSpPr>
          <p:spPr>
            <a:xfrm>
              <a:off x="6553080" y="3809880"/>
              <a:ext cx="7632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80" name="Oval 69"/>
            <p:cNvSpPr/>
            <p:nvPr/>
          </p:nvSpPr>
          <p:spPr>
            <a:xfrm>
              <a:off x="6781680" y="3733920"/>
              <a:ext cx="76320" cy="7596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  <p:sp>
          <p:nvSpPr>
            <p:cNvPr id="681" name="Oval 70"/>
            <p:cNvSpPr/>
            <p:nvPr/>
          </p:nvSpPr>
          <p:spPr>
            <a:xfrm>
              <a:off x="6705720" y="3809880"/>
              <a:ext cx="75960" cy="76320"/>
            </a:xfrm>
            <a:prstGeom prst="ellipse">
              <a:avLst/>
            </a:prstGeom>
            <a:solidFill>
              <a:srgbClr val="7f0101"/>
            </a:solidFill>
            <a:ln w="9360">
              <a:solidFill>
                <a:srgbClr val="050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5027d"/>
                </a:solidFill>
                <a:latin typeface="Arial"/>
              </a:endParaRPr>
            </a:p>
          </p:txBody>
        </p:sp>
      </p:grpSp>
      <p:sp>
        <p:nvSpPr>
          <p:cNvPr id="682" name="Text Box 71"/>
          <p:cNvSpPr/>
          <p:nvPr/>
        </p:nvSpPr>
        <p:spPr>
          <a:xfrm>
            <a:off x="1371600" y="4848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Reliable but not valid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83" name="Text Box 72"/>
          <p:cNvSpPr/>
          <p:nvPr/>
        </p:nvSpPr>
        <p:spPr>
          <a:xfrm>
            <a:off x="3581280" y="4844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Valid but not reliable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84" name="Text Box 75"/>
          <p:cNvSpPr/>
          <p:nvPr/>
        </p:nvSpPr>
        <p:spPr>
          <a:xfrm>
            <a:off x="57913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Valid and reliable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39280" y="1654200"/>
            <a:ext cx="80614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A good metric is both </a:t>
            </a:r>
            <a:r>
              <a:rPr b="0" lang="en-US" sz="2000" spc="-1" strike="noStrike" u="sng">
                <a:solidFill>
                  <a:srgbClr val="0a017f"/>
                </a:solidFill>
                <a:uFillTx/>
                <a:latin typeface="Arial"/>
              </a:rPr>
              <a:t>valid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(measures what it is intended to measure)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a017f"/>
                </a:solidFill>
                <a:uFillTx/>
                <a:latin typeface="Arial"/>
              </a:rPr>
              <a:t>reliable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(yields consistent results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86" name="Text Box 78"/>
          <p:cNvSpPr/>
          <p:nvPr/>
        </p:nvSpPr>
        <p:spPr>
          <a:xfrm>
            <a:off x="4038480" y="5715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27d"/>
                </a:solidFill>
                <a:latin typeface="Arial"/>
              </a:rPr>
              <a:t>See: Stephen H. Kan, </a:t>
            </a:r>
            <a:r>
              <a:rPr b="0" i="1" lang="en-US" sz="1400" spc="-1" strike="noStrike">
                <a:solidFill>
                  <a:srgbClr val="7f0101"/>
                </a:solidFill>
                <a:latin typeface="Arial"/>
              </a:rPr>
              <a:t>Metrics and Models in Software Quality Engineering</a:t>
            </a:r>
            <a:r>
              <a:rPr b="0" lang="en-US" sz="1400" spc="-1" strike="noStrike">
                <a:solidFill>
                  <a:srgbClr val="05027d"/>
                </a:solidFill>
                <a:latin typeface="Arial"/>
              </a:rPr>
              <a:t>, Addison Wesley, 2002. Ch. 3.4</a:t>
            </a:r>
            <a:endParaRPr b="0" lang="en-US" sz="14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30AE22B4-27FA-41E9-B422-D465EF038F18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ome Desirable Properties of Metric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Valid and reliable (consistent)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Objective, precise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Intuitive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Robust (failure-tolerant)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Automatable and economical (practical)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3581280" y="4952880"/>
            <a:ext cx="4800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6f6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017f"/>
                </a:solidFill>
                <a:latin typeface="Arial"/>
              </a:rPr>
              <a:t>See: 2.Brian Henderson-Sellers, </a:t>
            </a:r>
            <a:r>
              <a:rPr b="0" i="1" lang="en-US" sz="1400" spc="-1" strike="noStrike">
                <a:solidFill>
                  <a:srgbClr val="7f0101"/>
                </a:solidFill>
                <a:latin typeface="Arial"/>
              </a:rPr>
              <a:t>Object-Oriented Metrics: Measures of Complexity</a:t>
            </a:r>
            <a:r>
              <a:rPr b="0" i="1" lang="en-US" sz="1400" spc="-1" strike="noStrike">
                <a:solidFill>
                  <a:srgbClr val="0a017f"/>
                </a:solidFill>
                <a:latin typeface="Arial"/>
              </a:rPr>
              <a:t>, Prentice-Hall, 1996, Ch. 2.6</a:t>
            </a:r>
            <a:endParaRPr b="0" lang="en-US" sz="1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5943600" y="2133720"/>
            <a:ext cx="2743200" cy="1828800"/>
          </a:xfrm>
          <a:prstGeom prst="foldedCorner">
            <a:avLst>
              <a:gd name="adj" fmla="val 12500"/>
            </a:avLst>
          </a:prstGeom>
          <a:solidFill>
            <a:srgbClr val="f5f399"/>
          </a:solidFill>
          <a:ln w="9360">
            <a:solidFill>
              <a:srgbClr val="05027d"/>
            </a:solidFill>
            <a:miter/>
          </a:ln>
          <a:effectLst>
            <a:outerShdw dist="17819" dir="2700000" blurRad="0" rotWithShape="0">
              <a:srgbClr val="0502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Caveat: Attempts to define formally desirable properties have been heavily disputed …</a:t>
            </a:r>
            <a:endParaRPr b="0" lang="en-US" sz="20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D4B6CB23-7736-4213-AA6C-789FFB7D2C58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1523880"/>
            <a:ext cx="7305840" cy="495324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465440" cy="386712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are metrics? Why do we need them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17f"/>
                </a:solidFill>
                <a:latin typeface="Arial"/>
              </a:rPr>
              <a:t>Metrics for cost estim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software quality evalu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119A628-73B7-48DB-B761-2C4D78E21C62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ost estimation objective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Cost estimation and planning/scheduling are closely related activiti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o establish a budget for a software project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o provide a means of controlling project cost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o monitor progress against the budget 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comparing planned with estimated cost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o establish a cost database for future estimation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7C2E83D6-C775-4215-B848-97BD542EAB95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Estimation technique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9280" y="5063760"/>
            <a:ext cx="687564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Each method has strengths and weaknesses!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Estimation should be based on several method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39640" y="2017800"/>
          <a:ext cx="7429680" cy="2724120"/>
        </p:xfrm>
        <a:graphic>
          <a:graphicData uri="http://schemas.openxmlformats.org/drawingml/2006/table">
            <a:tbl>
              <a:tblPr/>
              <a:tblGrid>
                <a:gridCol w="2805120"/>
                <a:gridCol w="46245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xpert judgement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cheap, but risky!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stimation by analogy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limited applicability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Parkinson's Law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unlimited risk!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Pricing to win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.e., you do what you can with the money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Top-down estimation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ay miss low-level problems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Bottom-up estimation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ay underestimate integration costs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Algorithmic cost modelling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requires correlation data</a:t>
                      </a:r>
                      <a:endParaRPr b="0" lang="en-US" sz="18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965DA64B-055C-41BF-8153-47DB966BAA0B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Algorithmic cost modelling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Cost is estimated as a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mathematical function of product, project and process attributes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whose values are estimated by project manager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he function is derived from a study of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historical costing data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Most commonly used product attribute for cost estimation is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LOC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(code size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Most models are basically similar but with different attribute valu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6CEE1B23-2099-47D7-A8A1-0D889F3EF55F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42" name="Rectangle 1026"/>
          <p:cNvSpPr/>
          <p:nvPr/>
        </p:nvSpPr>
        <p:spPr>
          <a:xfrm>
            <a:off x="0" y="1523880"/>
            <a:ext cx="7305840" cy="495324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543" name="Picture 1027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465440" cy="38671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are metrics? Why do we need them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cost estim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software quality evalu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3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77A00FC-E044-45C2-8844-3836A43CF7C1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Measurement-based estimation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507600" y="2050920"/>
            <a:ext cx="16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27d"/>
                </a:solidFill>
                <a:latin typeface="Arial"/>
              </a:rPr>
              <a:t>A. Measure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508320" y="2444760"/>
            <a:ext cx="145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Develop a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1955160" y="2451240"/>
            <a:ext cx="196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0007"/>
                </a:solidFill>
                <a:latin typeface="Arial"/>
              </a:rPr>
              <a:t>system model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507960" y="276228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and measure its size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2306160" y="3753000"/>
            <a:ext cx="166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27d"/>
                </a:solidFill>
                <a:latin typeface="Arial"/>
              </a:rPr>
              <a:t>B. Estimate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2305080" y="4146480"/>
            <a:ext cx="340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Determine the effort with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2305080" y="4464000"/>
            <a:ext cx="184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respect to an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4291200" y="4470480"/>
            <a:ext cx="130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0007"/>
                </a:solidFill>
                <a:latin typeface="Arial"/>
              </a:rPr>
              <a:t>empirical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2306880" y="4788000"/>
            <a:ext cx="125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0007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4" name="Rectangle 13"/>
          <p:cNvSpPr/>
          <p:nvPr/>
        </p:nvSpPr>
        <p:spPr>
          <a:xfrm>
            <a:off x="3592440" y="4781520"/>
            <a:ext cx="252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of measurements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5" name="Rectangle 14"/>
          <p:cNvSpPr/>
          <p:nvPr/>
        </p:nvSpPr>
        <p:spPr>
          <a:xfrm>
            <a:off x="2304720" y="5099040"/>
            <a:ext cx="69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from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6" name="Rectangle 15"/>
          <p:cNvSpPr/>
          <p:nvPr/>
        </p:nvSpPr>
        <p:spPr>
          <a:xfrm>
            <a:off x="3095640" y="5105520"/>
            <a:ext cx="20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0007"/>
                </a:solidFill>
                <a:latin typeface="Arial"/>
              </a:rPr>
              <a:t>similar projects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5078880" y="1962000"/>
            <a:ext cx="162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27d"/>
                </a:solidFill>
                <a:latin typeface="Arial"/>
              </a:rPr>
              <a:t>C. Interpret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5078520" y="2355840"/>
            <a:ext cx="279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Adapt the effort with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29" name="Rectangle 18"/>
          <p:cNvSpPr/>
          <p:nvPr/>
        </p:nvSpPr>
        <p:spPr>
          <a:xfrm>
            <a:off x="5078880" y="2673360"/>
            <a:ext cx="27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respect to a specific 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5081400" y="2997360"/>
            <a:ext cx="352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0007"/>
                </a:solidFill>
                <a:latin typeface="Arial"/>
              </a:rPr>
              <a:t>Development Project Plan</a:t>
            </a:r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1" name="Freeform 21"/>
          <p:cNvSpPr/>
          <p:nvPr/>
        </p:nvSpPr>
        <p:spPr>
          <a:xfrm>
            <a:off x="609480" y="3467160"/>
            <a:ext cx="1257480" cy="1371600"/>
          </a:xfrm>
          <a:custGeom>
            <a:avLst/>
            <a:gdLst/>
            <a:ahLst/>
            <a:rect l="l" t="t" r="r" b="b"/>
            <a:pathLst>
              <a:path w="792" h="864">
                <a:moveTo>
                  <a:pt x="96" y="0"/>
                </a:moveTo>
                <a:lnTo>
                  <a:pt x="96" y="0"/>
                </a:lnTo>
                <a:lnTo>
                  <a:pt x="96" y="0"/>
                </a:lnTo>
                <a:lnTo>
                  <a:pt x="64" y="88"/>
                </a:lnTo>
                <a:lnTo>
                  <a:pt x="56" y="168"/>
                </a:lnTo>
                <a:lnTo>
                  <a:pt x="72" y="248"/>
                </a:lnTo>
                <a:lnTo>
                  <a:pt x="112" y="320"/>
                </a:lnTo>
                <a:lnTo>
                  <a:pt x="168" y="392"/>
                </a:lnTo>
                <a:lnTo>
                  <a:pt x="256" y="464"/>
                </a:lnTo>
                <a:lnTo>
                  <a:pt x="512" y="592"/>
                </a:lnTo>
                <a:lnTo>
                  <a:pt x="512" y="592"/>
                </a:lnTo>
                <a:lnTo>
                  <a:pt x="512" y="592"/>
                </a:lnTo>
                <a:lnTo>
                  <a:pt x="520" y="592"/>
                </a:lnTo>
                <a:lnTo>
                  <a:pt x="552" y="536"/>
                </a:lnTo>
                <a:lnTo>
                  <a:pt x="584" y="488"/>
                </a:lnTo>
                <a:lnTo>
                  <a:pt x="584" y="480"/>
                </a:lnTo>
                <a:lnTo>
                  <a:pt x="600" y="496"/>
                </a:lnTo>
                <a:lnTo>
                  <a:pt x="688" y="656"/>
                </a:lnTo>
                <a:lnTo>
                  <a:pt x="784" y="808"/>
                </a:lnTo>
                <a:lnTo>
                  <a:pt x="792" y="832"/>
                </a:lnTo>
                <a:lnTo>
                  <a:pt x="768" y="840"/>
                </a:lnTo>
                <a:lnTo>
                  <a:pt x="600" y="848"/>
                </a:lnTo>
                <a:lnTo>
                  <a:pt x="432" y="864"/>
                </a:lnTo>
                <a:lnTo>
                  <a:pt x="408" y="864"/>
                </a:lnTo>
                <a:lnTo>
                  <a:pt x="416" y="856"/>
                </a:lnTo>
                <a:lnTo>
                  <a:pt x="424" y="816"/>
                </a:lnTo>
                <a:lnTo>
                  <a:pt x="440" y="784"/>
                </a:lnTo>
                <a:lnTo>
                  <a:pt x="448" y="776"/>
                </a:lnTo>
                <a:lnTo>
                  <a:pt x="448" y="776"/>
                </a:lnTo>
                <a:lnTo>
                  <a:pt x="448" y="776"/>
                </a:lnTo>
                <a:lnTo>
                  <a:pt x="304" y="720"/>
                </a:lnTo>
                <a:lnTo>
                  <a:pt x="184" y="648"/>
                </a:lnTo>
                <a:lnTo>
                  <a:pt x="96" y="552"/>
                </a:lnTo>
                <a:lnTo>
                  <a:pt x="32" y="456"/>
                </a:lnTo>
                <a:lnTo>
                  <a:pt x="8" y="344"/>
                </a:lnTo>
                <a:lnTo>
                  <a:pt x="0" y="232"/>
                </a:lnTo>
                <a:lnTo>
                  <a:pt x="32" y="112"/>
                </a:lnTo>
                <a:lnTo>
                  <a:pt x="96" y="0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17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2" name="Freeform 23"/>
          <p:cNvSpPr/>
          <p:nvPr/>
        </p:nvSpPr>
        <p:spPr>
          <a:xfrm>
            <a:off x="6477120" y="3733920"/>
            <a:ext cx="1371600" cy="1257120"/>
          </a:xfrm>
          <a:custGeom>
            <a:avLst/>
            <a:gdLst/>
            <a:ahLst/>
            <a:rect l="l" t="t" r="r" b="b"/>
            <a:pathLst>
              <a:path w="864" h="792">
                <a:moveTo>
                  <a:pt x="0" y="696"/>
                </a:moveTo>
                <a:lnTo>
                  <a:pt x="0" y="696"/>
                </a:lnTo>
                <a:lnTo>
                  <a:pt x="0" y="696"/>
                </a:lnTo>
                <a:lnTo>
                  <a:pt x="88" y="728"/>
                </a:lnTo>
                <a:lnTo>
                  <a:pt x="168" y="736"/>
                </a:lnTo>
                <a:lnTo>
                  <a:pt x="248" y="720"/>
                </a:lnTo>
                <a:lnTo>
                  <a:pt x="320" y="680"/>
                </a:lnTo>
                <a:lnTo>
                  <a:pt x="392" y="624"/>
                </a:lnTo>
                <a:lnTo>
                  <a:pt x="464" y="536"/>
                </a:lnTo>
                <a:lnTo>
                  <a:pt x="592" y="280"/>
                </a:lnTo>
                <a:lnTo>
                  <a:pt x="592" y="280"/>
                </a:lnTo>
                <a:lnTo>
                  <a:pt x="592" y="280"/>
                </a:lnTo>
                <a:lnTo>
                  <a:pt x="592" y="272"/>
                </a:lnTo>
                <a:lnTo>
                  <a:pt x="536" y="240"/>
                </a:lnTo>
                <a:lnTo>
                  <a:pt x="488" y="208"/>
                </a:lnTo>
                <a:lnTo>
                  <a:pt x="480" y="208"/>
                </a:lnTo>
                <a:lnTo>
                  <a:pt x="496" y="192"/>
                </a:lnTo>
                <a:lnTo>
                  <a:pt x="656" y="104"/>
                </a:lnTo>
                <a:lnTo>
                  <a:pt x="808" y="8"/>
                </a:lnTo>
                <a:lnTo>
                  <a:pt x="832" y="0"/>
                </a:lnTo>
                <a:lnTo>
                  <a:pt x="840" y="24"/>
                </a:lnTo>
                <a:lnTo>
                  <a:pt x="848" y="192"/>
                </a:lnTo>
                <a:lnTo>
                  <a:pt x="864" y="360"/>
                </a:lnTo>
                <a:lnTo>
                  <a:pt x="864" y="384"/>
                </a:lnTo>
                <a:lnTo>
                  <a:pt x="856" y="376"/>
                </a:lnTo>
                <a:lnTo>
                  <a:pt x="816" y="368"/>
                </a:lnTo>
                <a:lnTo>
                  <a:pt x="784" y="352"/>
                </a:lnTo>
                <a:lnTo>
                  <a:pt x="776" y="344"/>
                </a:lnTo>
                <a:lnTo>
                  <a:pt x="776" y="344"/>
                </a:lnTo>
                <a:lnTo>
                  <a:pt x="776" y="344"/>
                </a:lnTo>
                <a:lnTo>
                  <a:pt x="720" y="488"/>
                </a:lnTo>
                <a:lnTo>
                  <a:pt x="648" y="608"/>
                </a:lnTo>
                <a:lnTo>
                  <a:pt x="552" y="696"/>
                </a:lnTo>
                <a:lnTo>
                  <a:pt x="456" y="760"/>
                </a:lnTo>
                <a:lnTo>
                  <a:pt x="344" y="784"/>
                </a:lnTo>
                <a:lnTo>
                  <a:pt x="232" y="792"/>
                </a:lnTo>
                <a:lnTo>
                  <a:pt x="112" y="760"/>
                </a:lnTo>
                <a:lnTo>
                  <a:pt x="0" y="696"/>
                </a:lnTo>
                <a:lnTo>
                  <a:pt x="0" y="69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17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BA89D1AB-B5E8-4A74-8CBD-C4F372A187D9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Lines of code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Lines of Code as a measure of system size?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Easy to measure; but </a:t>
            </a: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not well-defined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for modern languag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7f0101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0101"/>
                </a:solidFill>
                <a:latin typeface="Arial"/>
              </a:rPr>
              <a:t>What's a line of code?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poor indicator of productivity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Ignores software reuse, code duplication, benefits of redesign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The lower level the language, the more productive the programmer!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The more verbose the programmer, the higher the productivity!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6A6654FC-E86B-4A66-8082-D4067A64EBA0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Function point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Function Points (Albrecht, 1979)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Based on a combination of program characteristics: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external inputs and outputs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user interactions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external interfaces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files used by the system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A weight is associated with each of thes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The function point count is computed by multiplying each raw count by the weight and summing all valu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Function point count modified by complexity of the project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846398DD-B58D-4604-9B30-1D945EBEFC71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Function point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Good points, bad point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Can be measured already after design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FPs can be used to estimate LOC depending on the average number of LOC per FP for a given languag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LOC can vary wildly in relation to FP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FPs are very subjective — depend on the estimator. They cannot be counted automatically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0BE89A77-D3D4-4B8C-A23F-A28DF3FBE162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17f"/>
                </a:solidFill>
                <a:latin typeface="Arial"/>
              </a:rPr>
              <a:t>Programmer productivity</a:t>
            </a:r>
            <a:endParaRPr b="1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A measure of the rate at which individual engineers involved in software development produce software and associated documentation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Productivity metric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Size-related measures based on some output from the software process. This may be lines of delivered source code, object code instructions, etc.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Function-related measures based on an estimate of the functionality of the delivered software. Function-points are the best known of this type of measur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DF48F4CF-86EE-4B6B-B6B6-073674B30897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17f"/>
                </a:solidFill>
                <a:latin typeface="Arial"/>
              </a:rPr>
              <a:t>Programmer productivity …</a:t>
            </a:r>
            <a:endParaRPr b="1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Productivity estimat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Real-time embedded systems, 40-160 LOC/P-month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Systems programs , 150-400 LOC/P-month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Commercial applications, 200-800 LOC/P-month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Quality and productivity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0101"/>
                </a:solidFill>
                <a:latin typeface="Arial"/>
              </a:rPr>
              <a:t>All metrics based on volume/unit time are flawed because they do not take quality into account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Productivity may generally be increased at the cost of quality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It is not clear how productivity/quality metrics are related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07AA8043-ACA7-4673-B422-68884A43866A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The COCOMO model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33520" indent="-53352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Developed at TRW, a US defence contractor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Based on a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cost database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of more than 60 different project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Exists in three stag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Basic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— Gives a “ball-park” estimate based on product attribut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Intermediate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— Modifies basic estimate using project and process attribut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Advanced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— Estimates project phases and parts separately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EBF903E-8F35-4C36-BED0-5FC738762B99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Basic COCOMO Formula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Effort = C </a:t>
            </a:r>
            <a:r>
              <a:rPr b="0" lang="en-US" sz="2400" spc="-1" strike="noStrike">
                <a:solidFill>
                  <a:srgbClr val="0a017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PM</a:t>
            </a:r>
            <a:r>
              <a:rPr b="0" lang="en-US" sz="2400" spc="-1" strike="noStrike" baseline="30000">
                <a:solidFill>
                  <a:srgbClr val="0a017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a017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C is a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complexity factor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PM is a product metric (size or functionality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exponent S is close to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, but increasing for large project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M is a multiplier based on process, product and development attributes (~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1E657D53-ACD3-4C48-AD44-5619BCE36D62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OCOMO Project classe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539640" y="1798560"/>
          <a:ext cx="8061480" cy="3749760"/>
        </p:xfrm>
        <a:graphic>
          <a:graphicData uri="http://schemas.openxmlformats.org/drawingml/2006/table">
            <a:tbl>
              <a:tblPr/>
              <a:tblGrid>
                <a:gridCol w="4978440"/>
                <a:gridCol w="308304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Organic mode: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small teams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familiar environment,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well-understood applications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no difficult non-functional requirements (EASY)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ffort = 2.4 (KDSI) </a:t>
                      </a:r>
                      <a:r>
                        <a:rPr b="0" i="1" lang="en-US" sz="2000" spc="-1" strike="noStrike" baseline="30000">
                          <a:solidFill>
                            <a:srgbClr val="0a017f"/>
                          </a:solidFill>
                          <a:latin typeface="Arial"/>
                        </a:rPr>
                        <a:t>1.05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M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Semi-detached mode: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Project team may have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experience mixture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system may have more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significant non-functional constraints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organization may have less familiarity with application (HARDER)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ffort = 3 (KDSI) </a:t>
                      </a:r>
                      <a:r>
                        <a:rPr b="0" i="1" lang="en-US" sz="2000" spc="-1" strike="noStrike" baseline="30000">
                          <a:solidFill>
                            <a:srgbClr val="0a017f"/>
                          </a:solidFill>
                          <a:latin typeface="Arial"/>
                        </a:rPr>
                        <a:t>1.12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M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mbedded: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Hardware/software systems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f0101"/>
                          </a:solidFill>
                          <a:latin typeface="Arial"/>
                        </a:rPr>
                        <a:t>tight constraints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, unusual for team to have deep application experience (HARD)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ffort = 3.6 (KDSI) </a:t>
                      </a:r>
                      <a:r>
                        <a:rPr b="0" i="1" lang="en-US" sz="2000" spc="-1" strike="noStrike" baseline="30000">
                          <a:solidFill>
                            <a:srgbClr val="0a017f"/>
                          </a:solidFill>
                          <a:latin typeface="Arial"/>
                        </a:rPr>
                        <a:t>1.2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 M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Rectangle 21"/>
          <p:cNvSpPr/>
          <p:nvPr/>
        </p:nvSpPr>
        <p:spPr>
          <a:xfrm>
            <a:off x="5175000" y="5797440"/>
            <a:ext cx="34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7f"/>
                </a:solidFill>
                <a:latin typeface="Arial"/>
              </a:rPr>
              <a:t>KDSI = Kilo Delivered Source Instructions</a:t>
            </a:r>
            <a:endParaRPr b="0" lang="en-US" sz="14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8FAD2359-83E1-41A8-B6CD-1B14D656C7AF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OCOMO assumptions and problem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23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Implicit productivity estimate 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Organic mode = 16 LOC/day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Embedded mode = 4 LOC/day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ime required is a function of total effort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not team siz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Not clear how to adapt model to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personnel availability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7607160" cy="272556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5"/>
          <p:cNvSpPr/>
          <p:nvPr/>
        </p:nvSpPr>
        <p:spPr>
          <a:xfrm>
            <a:off x="4450680" y="6400800"/>
            <a:ext cx="3564000" cy="276480"/>
          </a:xfrm>
          <a:prstGeom prst="rect">
            <a:avLst/>
          </a:prstGeom>
          <a:solidFill>
            <a:srgbClr val="f5f399"/>
          </a:solidFill>
          <a:ln w="0">
            <a:noFill/>
          </a:ln>
          <a:effectLst>
            <a:outerShdw dist="17819" dir="2700000" blurRad="0" rotWithShape="0">
              <a:srgbClr val="0502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27d"/>
                </a:solidFill>
                <a:latin typeface="Courier New"/>
              </a:rPr>
              <a:t>http://en.wikipedia.org/wiki/Fair_use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CA12451C-877A-4DF5-B11A-62D39707F5E2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0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0101"/>
                </a:solidFill>
                <a:latin typeface="Arial"/>
              </a:rPr>
              <a:t>Software Engineering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, I. Sommerville, Addison-Wesley, Fifth Edn., 1996.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0101"/>
                </a:solidFill>
                <a:latin typeface="Arial"/>
              </a:rPr>
              <a:t>Software Metrics: A Rigorous &amp; Practical Approach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, Norman E. Fenton, Shari l. Pfleeger, Thompson Computer Press, 1996.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8CFC74F5-5658-4752-B79A-9828CBD487E5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OCOMO assumptions and problems ...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Staff required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can’t be computed by dividing the development time by the required schedul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he number of people working on a project varies depending on the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phase of the project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he more people who work on the project, the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more total effort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is usually required (!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Very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rapid build-up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of people often correlates with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schedule slippag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9D7B371C-6023-4A65-8EBD-522048603C1D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88" name="Rectangle 1026"/>
          <p:cNvSpPr/>
          <p:nvPr/>
        </p:nvSpPr>
        <p:spPr>
          <a:xfrm>
            <a:off x="0" y="1523880"/>
            <a:ext cx="7305840" cy="495324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789" name="Picture 1027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465440" cy="386712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are metrics? Why do we need them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cost estim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17f"/>
                </a:solidFill>
                <a:latin typeface="Arial"/>
              </a:rPr>
              <a:t>Metrics for software quality evalu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3CB55941-8189-4A1F-9538-E1BA9E267026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Quantitative Quality Model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11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Quality according to ISO 9126 standard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Divide-and conquer approach via “hierarchical quality model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Leaves are simple metrics, measuring basic attribute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1244880" y="3905280"/>
            <a:ext cx="75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98" name="Rectangle 6"/>
          <p:cNvSpPr/>
          <p:nvPr/>
        </p:nvSpPr>
        <p:spPr>
          <a:xfrm>
            <a:off x="1320120" y="4057560"/>
            <a:ext cx="5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Qua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1143000" y="3728880"/>
            <a:ext cx="9144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2943000" y="310356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Functiona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1" name="Rectangle 9"/>
          <p:cNvSpPr/>
          <p:nvPr/>
        </p:nvSpPr>
        <p:spPr>
          <a:xfrm>
            <a:off x="3069360" y="349884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Reliabi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2" name="Rectangle 10"/>
          <p:cNvSpPr/>
          <p:nvPr/>
        </p:nvSpPr>
        <p:spPr>
          <a:xfrm>
            <a:off x="3053520" y="388620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Efficienc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3115080" y="427212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Usabi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4" name="Rectangle 12"/>
          <p:cNvSpPr/>
          <p:nvPr/>
        </p:nvSpPr>
        <p:spPr>
          <a:xfrm>
            <a:off x="2861280" y="4657680"/>
            <a:ext cx="121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aintainabi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3043800" y="5043600"/>
            <a:ext cx="84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Portabi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6" name="Rectangle 14"/>
          <p:cNvSpPr/>
          <p:nvPr/>
        </p:nvSpPr>
        <p:spPr>
          <a:xfrm>
            <a:off x="1155600" y="5672160"/>
            <a:ext cx="80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ISO 9126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7" name="Rectangle 15"/>
          <p:cNvSpPr/>
          <p:nvPr/>
        </p:nvSpPr>
        <p:spPr>
          <a:xfrm>
            <a:off x="3201840" y="56721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Factor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8" name="Freeform 16"/>
          <p:cNvSpPr/>
          <p:nvPr/>
        </p:nvSpPr>
        <p:spPr>
          <a:xfrm>
            <a:off x="1011240" y="5535720"/>
            <a:ext cx="1309680" cy="314280"/>
          </a:xfrm>
          <a:custGeom>
            <a:avLst/>
            <a:gdLst/>
            <a:ahLst/>
            <a:rect l="l" t="t" r="r" b="b"/>
            <a:pathLst>
              <a:path w="825" h="198">
                <a:moveTo>
                  <a:pt x="0" y="198"/>
                </a:moveTo>
                <a:lnTo>
                  <a:pt x="0" y="70"/>
                </a:lnTo>
                <a:lnTo>
                  <a:pt x="409" y="0"/>
                </a:lnTo>
                <a:lnTo>
                  <a:pt x="825" y="70"/>
                </a:lnTo>
                <a:lnTo>
                  <a:pt x="825" y="198"/>
                </a:lnTo>
                <a:lnTo>
                  <a:pt x="0" y="1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09" name="Freeform 17"/>
          <p:cNvSpPr/>
          <p:nvPr/>
        </p:nvSpPr>
        <p:spPr>
          <a:xfrm>
            <a:off x="2838600" y="5535720"/>
            <a:ext cx="1309680" cy="314280"/>
          </a:xfrm>
          <a:custGeom>
            <a:avLst/>
            <a:gdLst/>
            <a:ahLst/>
            <a:rect l="l" t="t" r="r" b="b"/>
            <a:pathLst>
              <a:path w="825" h="198">
                <a:moveTo>
                  <a:pt x="0" y="198"/>
                </a:moveTo>
                <a:lnTo>
                  <a:pt x="0" y="70"/>
                </a:lnTo>
                <a:lnTo>
                  <a:pt x="410" y="0"/>
                </a:lnTo>
                <a:lnTo>
                  <a:pt x="825" y="70"/>
                </a:lnTo>
                <a:lnTo>
                  <a:pt x="825" y="198"/>
                </a:lnTo>
                <a:lnTo>
                  <a:pt x="0" y="1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0" name="Rectangle 18"/>
          <p:cNvSpPr/>
          <p:nvPr/>
        </p:nvSpPr>
        <p:spPr>
          <a:xfrm>
            <a:off x="4723920" y="5672160"/>
            <a:ext cx="117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haracteristic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1" name="Freeform 19"/>
          <p:cNvSpPr/>
          <p:nvPr/>
        </p:nvSpPr>
        <p:spPr>
          <a:xfrm>
            <a:off x="4667400" y="5535720"/>
            <a:ext cx="1309680" cy="314280"/>
          </a:xfrm>
          <a:custGeom>
            <a:avLst/>
            <a:gdLst/>
            <a:ahLst/>
            <a:rect l="l" t="t" r="r" b="b"/>
            <a:pathLst>
              <a:path w="825" h="198">
                <a:moveTo>
                  <a:pt x="0" y="198"/>
                </a:moveTo>
                <a:lnTo>
                  <a:pt x="0" y="70"/>
                </a:lnTo>
                <a:lnTo>
                  <a:pt x="409" y="0"/>
                </a:lnTo>
                <a:lnTo>
                  <a:pt x="825" y="70"/>
                </a:lnTo>
                <a:lnTo>
                  <a:pt x="825" y="198"/>
                </a:lnTo>
                <a:lnTo>
                  <a:pt x="0" y="1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6859800" y="5672160"/>
            <a:ext cx="52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etric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3" name="Freeform 21"/>
          <p:cNvSpPr/>
          <p:nvPr/>
        </p:nvSpPr>
        <p:spPr>
          <a:xfrm>
            <a:off x="6494400" y="5535720"/>
            <a:ext cx="1309680" cy="314280"/>
          </a:xfrm>
          <a:custGeom>
            <a:avLst/>
            <a:gdLst/>
            <a:ahLst/>
            <a:rect l="l" t="t" r="r" b="b"/>
            <a:pathLst>
              <a:path w="825" h="198">
                <a:moveTo>
                  <a:pt x="0" y="198"/>
                </a:moveTo>
                <a:lnTo>
                  <a:pt x="0" y="70"/>
                </a:lnTo>
                <a:lnTo>
                  <a:pt x="416" y="0"/>
                </a:lnTo>
                <a:lnTo>
                  <a:pt x="825" y="70"/>
                </a:lnTo>
                <a:lnTo>
                  <a:pt x="825" y="198"/>
                </a:lnTo>
                <a:lnTo>
                  <a:pt x="0" y="1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4" name="AutoShape 22"/>
          <p:cNvSpPr/>
          <p:nvPr/>
        </p:nvSpPr>
        <p:spPr>
          <a:xfrm>
            <a:off x="2838600" y="3048120"/>
            <a:ext cx="1320480" cy="325440"/>
          </a:xfrm>
          <a:prstGeom prst="roundRect">
            <a:avLst>
              <a:gd name="adj" fmla="val 4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5" name="AutoShape 23"/>
          <p:cNvSpPr/>
          <p:nvPr/>
        </p:nvSpPr>
        <p:spPr>
          <a:xfrm>
            <a:off x="2838600" y="3443400"/>
            <a:ext cx="1320480" cy="325440"/>
          </a:xfrm>
          <a:prstGeom prst="roundRect">
            <a:avLst>
              <a:gd name="adj" fmla="val 4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6" name="AutoShape 24"/>
          <p:cNvSpPr/>
          <p:nvPr/>
        </p:nvSpPr>
        <p:spPr>
          <a:xfrm>
            <a:off x="2838600" y="3840120"/>
            <a:ext cx="1320480" cy="314280"/>
          </a:xfrm>
          <a:prstGeom prst="roundRect">
            <a:avLst>
              <a:gd name="adj" fmla="val 4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7" name="AutoShape 25"/>
          <p:cNvSpPr/>
          <p:nvPr/>
        </p:nvSpPr>
        <p:spPr>
          <a:xfrm>
            <a:off x="2838600" y="4235400"/>
            <a:ext cx="1320480" cy="316080"/>
          </a:xfrm>
          <a:prstGeom prst="roundRect">
            <a:avLst>
              <a:gd name="adj" fmla="val 482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8" name="AutoShape 26"/>
          <p:cNvSpPr/>
          <p:nvPr/>
        </p:nvSpPr>
        <p:spPr>
          <a:xfrm>
            <a:off x="2838600" y="4621320"/>
            <a:ext cx="1320480" cy="325440"/>
          </a:xfrm>
          <a:prstGeom prst="roundRect">
            <a:avLst>
              <a:gd name="adj" fmla="val 4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19" name="AutoShape 27"/>
          <p:cNvSpPr/>
          <p:nvPr/>
        </p:nvSpPr>
        <p:spPr>
          <a:xfrm>
            <a:off x="2838600" y="5018040"/>
            <a:ext cx="1320480" cy="325440"/>
          </a:xfrm>
          <a:prstGeom prst="roundRect">
            <a:avLst>
              <a:gd name="adj" fmla="val 4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0" name="Rectangle 28"/>
          <p:cNvSpPr/>
          <p:nvPr/>
        </p:nvSpPr>
        <p:spPr>
          <a:xfrm>
            <a:off x="4655520" y="320508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Error toleranc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1" name="Rectangle 29"/>
          <p:cNvSpPr/>
          <p:nvPr/>
        </p:nvSpPr>
        <p:spPr>
          <a:xfrm>
            <a:off x="4667400" y="3149640"/>
            <a:ext cx="13190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2" name="Rectangle 30"/>
          <p:cNvSpPr/>
          <p:nvPr/>
        </p:nvSpPr>
        <p:spPr>
          <a:xfrm>
            <a:off x="4929480" y="3641760"/>
            <a:ext cx="78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Accurac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3" name="Rectangle 31"/>
          <p:cNvSpPr/>
          <p:nvPr/>
        </p:nvSpPr>
        <p:spPr>
          <a:xfrm>
            <a:off x="4667400" y="3595680"/>
            <a:ext cx="1319040" cy="3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4" name="Rectangle 32"/>
          <p:cNvSpPr/>
          <p:nvPr/>
        </p:nvSpPr>
        <p:spPr>
          <a:xfrm>
            <a:off x="4902120" y="4525920"/>
            <a:ext cx="80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Simplic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5" name="Rectangle 33"/>
          <p:cNvSpPr/>
          <p:nvPr/>
        </p:nvSpPr>
        <p:spPr>
          <a:xfrm>
            <a:off x="4667400" y="4479840"/>
            <a:ext cx="131904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6" name="Rectangle 34"/>
          <p:cNvSpPr/>
          <p:nvPr/>
        </p:nvSpPr>
        <p:spPr>
          <a:xfrm>
            <a:off x="4861440" y="497196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odular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7" name="Rectangle 35"/>
          <p:cNvSpPr/>
          <p:nvPr/>
        </p:nvSpPr>
        <p:spPr>
          <a:xfrm>
            <a:off x="4667400" y="4916520"/>
            <a:ext cx="13190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8" name="Rectangle 36"/>
          <p:cNvSpPr/>
          <p:nvPr/>
        </p:nvSpPr>
        <p:spPr>
          <a:xfrm>
            <a:off x="4821120" y="408780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onsistenc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29" name="Rectangle 37"/>
          <p:cNvSpPr/>
          <p:nvPr/>
        </p:nvSpPr>
        <p:spPr>
          <a:xfrm>
            <a:off x="4667400" y="4032360"/>
            <a:ext cx="13190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0" name="Line 38"/>
          <p:cNvSpPr/>
          <p:nvPr/>
        </p:nvSpPr>
        <p:spPr>
          <a:xfrm flipV="1">
            <a:off x="2057400" y="3250800"/>
            <a:ext cx="78120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1" name="Line 39"/>
          <p:cNvSpPr/>
          <p:nvPr/>
        </p:nvSpPr>
        <p:spPr>
          <a:xfrm flipV="1">
            <a:off x="2057400" y="3666960"/>
            <a:ext cx="78120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2" name="Line 40"/>
          <p:cNvSpPr/>
          <p:nvPr/>
        </p:nvSpPr>
        <p:spPr>
          <a:xfrm flipV="1">
            <a:off x="2057400" y="3981600"/>
            <a:ext cx="7812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3" name="Line 41"/>
          <p:cNvSpPr/>
          <p:nvPr/>
        </p:nvSpPr>
        <p:spPr>
          <a:xfrm>
            <a:off x="2057400" y="4083120"/>
            <a:ext cx="7812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4" name="Line 42"/>
          <p:cNvSpPr/>
          <p:nvPr/>
        </p:nvSpPr>
        <p:spPr>
          <a:xfrm>
            <a:off x="2057400" y="4083120"/>
            <a:ext cx="78120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5" name="Line 43"/>
          <p:cNvSpPr/>
          <p:nvPr/>
        </p:nvSpPr>
        <p:spPr>
          <a:xfrm>
            <a:off x="2057400" y="4083120"/>
            <a:ext cx="781200" cy="10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6" name="Line 44"/>
          <p:cNvSpPr/>
          <p:nvPr/>
        </p:nvSpPr>
        <p:spPr>
          <a:xfrm flipV="1">
            <a:off x="4148280" y="3250800"/>
            <a:ext cx="5191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7" name="Line 45"/>
          <p:cNvSpPr/>
          <p:nvPr/>
        </p:nvSpPr>
        <p:spPr>
          <a:xfrm>
            <a:off x="4148280" y="3565440"/>
            <a:ext cx="5191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8" name="Line 46"/>
          <p:cNvSpPr/>
          <p:nvPr/>
        </p:nvSpPr>
        <p:spPr>
          <a:xfrm>
            <a:off x="4148280" y="3565440"/>
            <a:ext cx="5191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39" name="Line 47"/>
          <p:cNvSpPr/>
          <p:nvPr/>
        </p:nvSpPr>
        <p:spPr>
          <a:xfrm>
            <a:off x="4148280" y="3565440"/>
            <a:ext cx="51912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0" name="Line 48"/>
          <p:cNvSpPr/>
          <p:nvPr/>
        </p:nvSpPr>
        <p:spPr>
          <a:xfrm>
            <a:off x="4148280" y="4815000"/>
            <a:ext cx="51912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1" name="Line 49"/>
          <p:cNvSpPr/>
          <p:nvPr/>
        </p:nvSpPr>
        <p:spPr>
          <a:xfrm flipV="1">
            <a:off x="4148280" y="4601880"/>
            <a:ext cx="5191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2" name="Line 50"/>
          <p:cNvSpPr/>
          <p:nvPr/>
        </p:nvSpPr>
        <p:spPr>
          <a:xfrm flipV="1">
            <a:off x="4148280" y="4184280"/>
            <a:ext cx="51912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3" name="Line 51"/>
          <p:cNvSpPr/>
          <p:nvPr/>
        </p:nvSpPr>
        <p:spPr>
          <a:xfrm>
            <a:off x="4148280" y="5180040"/>
            <a:ext cx="1332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4" name="Line 52"/>
          <p:cNvSpPr/>
          <p:nvPr/>
        </p:nvSpPr>
        <p:spPr>
          <a:xfrm>
            <a:off x="4148280" y="5180040"/>
            <a:ext cx="1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5" name="Line 53"/>
          <p:cNvSpPr/>
          <p:nvPr/>
        </p:nvSpPr>
        <p:spPr>
          <a:xfrm flipV="1">
            <a:off x="4148280" y="5068440"/>
            <a:ext cx="1332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6" name="Line 54"/>
          <p:cNvSpPr/>
          <p:nvPr/>
        </p:nvSpPr>
        <p:spPr>
          <a:xfrm>
            <a:off x="4148280" y="4398840"/>
            <a:ext cx="133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7" name="Line 55"/>
          <p:cNvSpPr/>
          <p:nvPr/>
        </p:nvSpPr>
        <p:spPr>
          <a:xfrm>
            <a:off x="4148280" y="4398840"/>
            <a:ext cx="13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8" name="Line 56"/>
          <p:cNvSpPr/>
          <p:nvPr/>
        </p:nvSpPr>
        <p:spPr>
          <a:xfrm flipV="1">
            <a:off x="4148280" y="4297320"/>
            <a:ext cx="1332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49" name="Line 57"/>
          <p:cNvSpPr/>
          <p:nvPr/>
        </p:nvSpPr>
        <p:spPr>
          <a:xfrm>
            <a:off x="4148280" y="3981600"/>
            <a:ext cx="1332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0" name="Line 58"/>
          <p:cNvSpPr/>
          <p:nvPr/>
        </p:nvSpPr>
        <p:spPr>
          <a:xfrm>
            <a:off x="4148280" y="3981600"/>
            <a:ext cx="1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1" name="Line 59"/>
          <p:cNvSpPr/>
          <p:nvPr/>
        </p:nvSpPr>
        <p:spPr>
          <a:xfrm flipV="1">
            <a:off x="4148280" y="3881520"/>
            <a:ext cx="13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2" name="Line 60"/>
          <p:cNvSpPr/>
          <p:nvPr/>
        </p:nvSpPr>
        <p:spPr>
          <a:xfrm>
            <a:off x="4148280" y="3200400"/>
            <a:ext cx="1332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3" name="Line 61"/>
          <p:cNvSpPr/>
          <p:nvPr/>
        </p:nvSpPr>
        <p:spPr>
          <a:xfrm>
            <a:off x="4148280" y="3200400"/>
            <a:ext cx="1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4" name="Line 62"/>
          <p:cNvSpPr/>
          <p:nvPr/>
        </p:nvSpPr>
        <p:spPr>
          <a:xfrm flipV="1">
            <a:off x="4148280" y="3098880"/>
            <a:ext cx="13320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5" name="Rectangle 63"/>
          <p:cNvSpPr/>
          <p:nvPr/>
        </p:nvSpPr>
        <p:spPr>
          <a:xfrm>
            <a:off x="6362640" y="3666960"/>
            <a:ext cx="158436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6" name="Rectangle 64"/>
          <p:cNvSpPr/>
          <p:nvPr/>
        </p:nvSpPr>
        <p:spPr>
          <a:xfrm>
            <a:off x="6507000" y="3743280"/>
            <a:ext cx="118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defect dens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7" name="Rectangle 65"/>
          <p:cNvSpPr/>
          <p:nvPr/>
        </p:nvSpPr>
        <p:spPr>
          <a:xfrm>
            <a:off x="6379560" y="38955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= #defects / siz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8" name="Line 66"/>
          <p:cNvSpPr/>
          <p:nvPr/>
        </p:nvSpPr>
        <p:spPr>
          <a:xfrm>
            <a:off x="5977080" y="3780000"/>
            <a:ext cx="13176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59" name="Line 67"/>
          <p:cNvSpPr/>
          <p:nvPr/>
        </p:nvSpPr>
        <p:spPr>
          <a:xfrm>
            <a:off x="5977080" y="3780000"/>
            <a:ext cx="3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0" name="Line 68"/>
          <p:cNvSpPr/>
          <p:nvPr/>
        </p:nvSpPr>
        <p:spPr>
          <a:xfrm flipV="1">
            <a:off x="5977080" y="3666960"/>
            <a:ext cx="131760" cy="1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1" name="Rectangle 69"/>
          <p:cNvSpPr/>
          <p:nvPr/>
        </p:nvSpPr>
        <p:spPr>
          <a:xfrm>
            <a:off x="6362640" y="4815000"/>
            <a:ext cx="158436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2" name="Line 70"/>
          <p:cNvSpPr/>
          <p:nvPr/>
        </p:nvSpPr>
        <p:spPr>
          <a:xfrm>
            <a:off x="5977080" y="5119560"/>
            <a:ext cx="13176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3" name="Line 71"/>
          <p:cNvSpPr/>
          <p:nvPr/>
        </p:nvSpPr>
        <p:spPr>
          <a:xfrm>
            <a:off x="5977080" y="5119560"/>
            <a:ext cx="131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4" name="Line 72"/>
          <p:cNvSpPr/>
          <p:nvPr/>
        </p:nvSpPr>
        <p:spPr>
          <a:xfrm flipV="1">
            <a:off x="5977080" y="4916520"/>
            <a:ext cx="38556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5" name="Rectangle 73"/>
          <p:cNvSpPr/>
          <p:nvPr/>
        </p:nvSpPr>
        <p:spPr>
          <a:xfrm>
            <a:off x="6406920" y="4890960"/>
            <a:ext cx="146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orrection impact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6" name="Rectangle 74"/>
          <p:cNvSpPr/>
          <p:nvPr/>
        </p:nvSpPr>
        <p:spPr>
          <a:xfrm>
            <a:off x="6558840" y="5043600"/>
            <a:ext cx="13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= #components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7" name="Rectangle 75"/>
          <p:cNvSpPr/>
          <p:nvPr/>
        </p:nvSpPr>
        <p:spPr>
          <a:xfrm>
            <a:off x="6859440" y="520524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hanged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8" name="Rectangle 76"/>
          <p:cNvSpPr/>
          <p:nvPr/>
        </p:nvSpPr>
        <p:spPr>
          <a:xfrm>
            <a:off x="6362640" y="4398840"/>
            <a:ext cx="158436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69" name="Rectangle 77"/>
          <p:cNvSpPr/>
          <p:nvPr/>
        </p:nvSpPr>
        <p:spPr>
          <a:xfrm>
            <a:off x="6475680" y="4464000"/>
            <a:ext cx="12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orrection tim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0" name="Line 78"/>
          <p:cNvSpPr/>
          <p:nvPr/>
        </p:nvSpPr>
        <p:spPr>
          <a:xfrm>
            <a:off x="5977080" y="4602240"/>
            <a:ext cx="38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1" name="Line 79"/>
          <p:cNvSpPr/>
          <p:nvPr/>
        </p:nvSpPr>
        <p:spPr>
          <a:xfrm>
            <a:off x="5977080" y="4602240"/>
            <a:ext cx="131760" cy="11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2" name="Line 80"/>
          <p:cNvSpPr/>
          <p:nvPr/>
        </p:nvSpPr>
        <p:spPr>
          <a:xfrm flipV="1">
            <a:off x="5977080" y="4500720"/>
            <a:ext cx="13176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3" name="Line 81"/>
          <p:cNvSpPr/>
          <p:nvPr/>
        </p:nvSpPr>
        <p:spPr>
          <a:xfrm>
            <a:off x="5977080" y="4184640"/>
            <a:ext cx="1317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4" name="Line 82"/>
          <p:cNvSpPr/>
          <p:nvPr/>
        </p:nvSpPr>
        <p:spPr>
          <a:xfrm>
            <a:off x="5977080" y="4184640"/>
            <a:ext cx="13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5" name="Line 83"/>
          <p:cNvSpPr/>
          <p:nvPr/>
        </p:nvSpPr>
        <p:spPr>
          <a:xfrm flipV="1">
            <a:off x="5977080" y="4083120"/>
            <a:ext cx="13176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6" name="Line 84"/>
          <p:cNvSpPr/>
          <p:nvPr/>
        </p:nvSpPr>
        <p:spPr>
          <a:xfrm>
            <a:off x="5977080" y="3251160"/>
            <a:ext cx="13176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7" name="Line 85"/>
          <p:cNvSpPr/>
          <p:nvPr/>
        </p:nvSpPr>
        <p:spPr>
          <a:xfrm>
            <a:off x="5977080" y="3251160"/>
            <a:ext cx="131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78" name="Line 86"/>
          <p:cNvSpPr/>
          <p:nvPr/>
        </p:nvSpPr>
        <p:spPr>
          <a:xfrm flipV="1">
            <a:off x="5977080" y="3149640"/>
            <a:ext cx="13176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6430EC96-6348-475F-80F7-9D006F3CAA21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Define your own” Quality Model 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39280" y="1654200"/>
            <a:ext cx="806148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Define the quality model with the development team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Team chooses the characteristics, design principles, metrics ... and the threshold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884" name="Rectangle 52"/>
          <p:cNvSpPr/>
          <p:nvPr/>
        </p:nvSpPr>
        <p:spPr>
          <a:xfrm>
            <a:off x="1059480" y="4043520"/>
            <a:ext cx="121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aintainabil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5" name="Rectangle 53"/>
          <p:cNvSpPr/>
          <p:nvPr/>
        </p:nvSpPr>
        <p:spPr>
          <a:xfrm>
            <a:off x="1419120" y="59817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Factor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6" name="Rectangle 54"/>
          <p:cNvSpPr/>
          <p:nvPr/>
        </p:nvSpPr>
        <p:spPr>
          <a:xfrm>
            <a:off x="2606400" y="5981760"/>
            <a:ext cx="117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Characteristic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7" name="Freeform 55"/>
          <p:cNvSpPr/>
          <p:nvPr/>
        </p:nvSpPr>
        <p:spPr>
          <a:xfrm>
            <a:off x="1082520" y="5805360"/>
            <a:ext cx="1217880" cy="365400"/>
          </a:xfrm>
          <a:custGeom>
            <a:avLst/>
            <a:gdLst/>
            <a:ahLst/>
            <a:rect l="l" t="t" r="r" b="b"/>
            <a:pathLst>
              <a:path w="767" h="230">
                <a:moveTo>
                  <a:pt x="0" y="230"/>
                </a:moveTo>
                <a:lnTo>
                  <a:pt x="0" y="76"/>
                </a:lnTo>
                <a:lnTo>
                  <a:pt x="383" y="0"/>
                </a:lnTo>
                <a:lnTo>
                  <a:pt x="767" y="76"/>
                </a:lnTo>
                <a:lnTo>
                  <a:pt x="767" y="230"/>
                </a:lnTo>
                <a:lnTo>
                  <a:pt x="0" y="2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8" name="Freeform 56"/>
          <p:cNvSpPr/>
          <p:nvPr/>
        </p:nvSpPr>
        <p:spPr>
          <a:xfrm>
            <a:off x="2544840" y="5805360"/>
            <a:ext cx="1217520" cy="365400"/>
          </a:xfrm>
          <a:custGeom>
            <a:avLst/>
            <a:gdLst/>
            <a:ahLst/>
            <a:rect l="l" t="t" r="r" b="b"/>
            <a:pathLst>
              <a:path w="767" h="230">
                <a:moveTo>
                  <a:pt x="0" y="230"/>
                </a:moveTo>
                <a:lnTo>
                  <a:pt x="0" y="76"/>
                </a:lnTo>
                <a:lnTo>
                  <a:pt x="383" y="0"/>
                </a:lnTo>
                <a:lnTo>
                  <a:pt x="767" y="76"/>
                </a:lnTo>
                <a:lnTo>
                  <a:pt x="767" y="230"/>
                </a:lnTo>
                <a:lnTo>
                  <a:pt x="0" y="2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89" name="Rectangle 57"/>
          <p:cNvSpPr/>
          <p:nvPr/>
        </p:nvSpPr>
        <p:spPr>
          <a:xfrm>
            <a:off x="4250520" y="5981760"/>
            <a:ext cx="138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Design Principl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0" name="Freeform 58"/>
          <p:cNvSpPr/>
          <p:nvPr/>
        </p:nvSpPr>
        <p:spPr>
          <a:xfrm>
            <a:off x="4006800" y="5805360"/>
            <a:ext cx="1827360" cy="365400"/>
          </a:xfrm>
          <a:custGeom>
            <a:avLst/>
            <a:gdLst/>
            <a:ahLst/>
            <a:rect l="l" t="t" r="r" b="b"/>
            <a:pathLst>
              <a:path w="1151" h="230">
                <a:moveTo>
                  <a:pt x="0" y="230"/>
                </a:moveTo>
                <a:lnTo>
                  <a:pt x="0" y="76"/>
                </a:lnTo>
                <a:lnTo>
                  <a:pt x="575" y="0"/>
                </a:lnTo>
                <a:lnTo>
                  <a:pt x="1151" y="76"/>
                </a:lnTo>
                <a:lnTo>
                  <a:pt x="1151" y="230"/>
                </a:lnTo>
                <a:lnTo>
                  <a:pt x="0" y="2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1" name="Rectangle 59"/>
          <p:cNvSpPr/>
          <p:nvPr/>
        </p:nvSpPr>
        <p:spPr>
          <a:xfrm>
            <a:off x="6659640" y="5981760"/>
            <a:ext cx="52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etric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2" name="Freeform 60"/>
          <p:cNvSpPr/>
          <p:nvPr/>
        </p:nvSpPr>
        <p:spPr>
          <a:xfrm>
            <a:off x="6076800" y="5805360"/>
            <a:ext cx="1828800" cy="365400"/>
          </a:xfrm>
          <a:custGeom>
            <a:avLst/>
            <a:gdLst/>
            <a:ahLst/>
            <a:rect l="l" t="t" r="r" b="b"/>
            <a:pathLst>
              <a:path w="1152" h="230">
                <a:moveTo>
                  <a:pt x="0" y="230"/>
                </a:moveTo>
                <a:lnTo>
                  <a:pt x="0" y="76"/>
                </a:lnTo>
                <a:lnTo>
                  <a:pt x="576" y="0"/>
                </a:lnTo>
                <a:lnTo>
                  <a:pt x="1152" y="76"/>
                </a:lnTo>
                <a:lnTo>
                  <a:pt x="1152" y="230"/>
                </a:lnTo>
                <a:lnTo>
                  <a:pt x="0" y="2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3" name="AutoShape 61"/>
          <p:cNvSpPr/>
          <p:nvPr/>
        </p:nvSpPr>
        <p:spPr>
          <a:xfrm>
            <a:off x="990720" y="3976560"/>
            <a:ext cx="1320840" cy="376200"/>
          </a:xfrm>
          <a:prstGeom prst="roundRect">
            <a:avLst>
              <a:gd name="adj" fmla="val 48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4" name="Rectangle 62"/>
          <p:cNvSpPr/>
          <p:nvPr/>
        </p:nvSpPr>
        <p:spPr>
          <a:xfrm>
            <a:off x="4006800" y="3002040"/>
            <a:ext cx="183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5" name="Rectangle 63"/>
          <p:cNvSpPr/>
          <p:nvPr/>
        </p:nvSpPr>
        <p:spPr>
          <a:xfrm>
            <a:off x="2693160" y="406224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5027d"/>
                </a:solidFill>
                <a:latin typeface="Arial"/>
              </a:rPr>
              <a:t>Modularity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6" name="Rectangle 64"/>
          <p:cNvSpPr/>
          <p:nvPr/>
        </p:nvSpPr>
        <p:spPr>
          <a:xfrm>
            <a:off x="2544840" y="3976560"/>
            <a:ext cx="12286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7" name="Line 65"/>
          <p:cNvSpPr/>
          <p:nvPr/>
        </p:nvSpPr>
        <p:spPr>
          <a:xfrm>
            <a:off x="5834160" y="3124080"/>
            <a:ext cx="24264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8" name="Line 66"/>
          <p:cNvSpPr/>
          <p:nvPr/>
        </p:nvSpPr>
        <p:spPr>
          <a:xfrm>
            <a:off x="5834160" y="3124080"/>
            <a:ext cx="24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899" name="Line 67"/>
          <p:cNvSpPr/>
          <p:nvPr/>
        </p:nvSpPr>
        <p:spPr>
          <a:xfrm flipV="1">
            <a:off x="5834160" y="3246480"/>
            <a:ext cx="24264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0" name="Rectangle 68"/>
          <p:cNvSpPr/>
          <p:nvPr/>
        </p:nvSpPr>
        <p:spPr>
          <a:xfrm>
            <a:off x="4165920" y="2976480"/>
            <a:ext cx="1632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design class as an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1" name="Rectangle 69"/>
          <p:cNvSpPr/>
          <p:nvPr/>
        </p:nvSpPr>
        <p:spPr>
          <a:xfrm>
            <a:off x="4187160" y="3200400"/>
            <a:ext cx="153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bstract data-type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2" name="Rectangle 70"/>
          <p:cNvSpPr/>
          <p:nvPr/>
        </p:nvSpPr>
        <p:spPr>
          <a:xfrm>
            <a:off x="4006800" y="3976560"/>
            <a:ext cx="183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3" name="Rectangle 71"/>
          <p:cNvSpPr/>
          <p:nvPr/>
        </p:nvSpPr>
        <p:spPr>
          <a:xfrm>
            <a:off x="4309920" y="395136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encapsulate all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4" name="Rectangle 72"/>
          <p:cNvSpPr/>
          <p:nvPr/>
        </p:nvSpPr>
        <p:spPr>
          <a:xfrm>
            <a:off x="4545360" y="4175280"/>
            <a:ext cx="79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ttributes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5" name="Rectangle 73"/>
          <p:cNvSpPr/>
          <p:nvPr/>
        </p:nvSpPr>
        <p:spPr>
          <a:xfrm>
            <a:off x="4006800" y="4951440"/>
            <a:ext cx="183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6" name="Rectangle 74"/>
          <p:cNvSpPr/>
          <p:nvPr/>
        </p:nvSpPr>
        <p:spPr>
          <a:xfrm>
            <a:off x="4335480" y="4925880"/>
            <a:ext cx="127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void complex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7" name="Rectangle 75"/>
          <p:cNvSpPr/>
          <p:nvPr/>
        </p:nvSpPr>
        <p:spPr>
          <a:xfrm>
            <a:off x="4524120" y="514980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interfaces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8" name="Rectangle 76"/>
          <p:cNvSpPr/>
          <p:nvPr/>
        </p:nvSpPr>
        <p:spPr>
          <a:xfrm>
            <a:off x="6076800" y="3002040"/>
            <a:ext cx="18385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09" name="Rectangle 77"/>
          <p:cNvSpPr/>
          <p:nvPr/>
        </p:nvSpPr>
        <p:spPr>
          <a:xfrm>
            <a:off x="6279480" y="2976480"/>
            <a:ext cx="154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number of private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0" name="Rectangle 78"/>
          <p:cNvSpPr/>
          <p:nvPr/>
        </p:nvSpPr>
        <p:spPr>
          <a:xfrm>
            <a:off x="6334560" y="3200400"/>
            <a:ext cx="137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ttributes ]2, 10[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1" name="Rectangle 79"/>
          <p:cNvSpPr/>
          <p:nvPr/>
        </p:nvSpPr>
        <p:spPr>
          <a:xfrm>
            <a:off x="6076800" y="3976560"/>
            <a:ext cx="18385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2" name="Rectangle 80"/>
          <p:cNvSpPr/>
          <p:nvPr/>
        </p:nvSpPr>
        <p:spPr>
          <a:xfrm>
            <a:off x="6314400" y="395136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number of public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3" name="Rectangle 81"/>
          <p:cNvSpPr/>
          <p:nvPr/>
        </p:nvSpPr>
        <p:spPr>
          <a:xfrm>
            <a:off x="6386760" y="4175280"/>
            <a:ext cx="127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ttributes ]0, 0[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4" name="Rectangle 82"/>
          <p:cNvSpPr/>
          <p:nvPr/>
        </p:nvSpPr>
        <p:spPr>
          <a:xfrm>
            <a:off x="6076800" y="4708440"/>
            <a:ext cx="1838520" cy="37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5" name="Rectangle 83"/>
          <p:cNvSpPr/>
          <p:nvPr/>
        </p:nvSpPr>
        <p:spPr>
          <a:xfrm>
            <a:off x="6314400" y="468324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number of public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6" name="Rectangle 84"/>
          <p:cNvSpPr/>
          <p:nvPr/>
        </p:nvSpPr>
        <p:spPr>
          <a:xfrm>
            <a:off x="6361560" y="49053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methods ]5, 30[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7" name="Line 85"/>
          <p:cNvSpPr/>
          <p:nvPr/>
        </p:nvSpPr>
        <p:spPr>
          <a:xfrm>
            <a:off x="2300400" y="4149720"/>
            <a:ext cx="24444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8" name="Line 86"/>
          <p:cNvSpPr/>
          <p:nvPr/>
        </p:nvSpPr>
        <p:spPr>
          <a:xfrm>
            <a:off x="2300400" y="414972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19" name="Line 87"/>
          <p:cNvSpPr/>
          <p:nvPr/>
        </p:nvSpPr>
        <p:spPr>
          <a:xfrm flipV="1">
            <a:off x="2300400" y="3489480"/>
            <a:ext cx="24444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0" name="Line 88"/>
          <p:cNvSpPr/>
          <p:nvPr/>
        </p:nvSpPr>
        <p:spPr>
          <a:xfrm>
            <a:off x="3762360" y="4170240"/>
            <a:ext cx="24444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1" name="Line 89"/>
          <p:cNvSpPr/>
          <p:nvPr/>
        </p:nvSpPr>
        <p:spPr>
          <a:xfrm>
            <a:off x="3762360" y="4170240"/>
            <a:ext cx="122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2" name="Line 90"/>
          <p:cNvSpPr/>
          <p:nvPr/>
        </p:nvSpPr>
        <p:spPr>
          <a:xfrm flipV="1">
            <a:off x="3762360" y="3366720"/>
            <a:ext cx="244440" cy="8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3" name="Line 91"/>
          <p:cNvSpPr/>
          <p:nvPr/>
        </p:nvSpPr>
        <p:spPr>
          <a:xfrm>
            <a:off x="3762360" y="4170240"/>
            <a:ext cx="2444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4" name="Line 92"/>
          <p:cNvSpPr/>
          <p:nvPr/>
        </p:nvSpPr>
        <p:spPr>
          <a:xfrm flipV="1">
            <a:off x="3762360" y="3733920"/>
            <a:ext cx="24444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5" name="Line 93"/>
          <p:cNvSpPr/>
          <p:nvPr/>
        </p:nvSpPr>
        <p:spPr>
          <a:xfrm>
            <a:off x="5834160" y="4098960"/>
            <a:ext cx="24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6" name="Line 94"/>
          <p:cNvSpPr/>
          <p:nvPr/>
        </p:nvSpPr>
        <p:spPr>
          <a:xfrm flipV="1">
            <a:off x="5834160" y="4890600"/>
            <a:ext cx="2426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7" name="Rectangle 95"/>
          <p:cNvSpPr/>
          <p:nvPr/>
        </p:nvSpPr>
        <p:spPr>
          <a:xfrm>
            <a:off x="6076800" y="5195880"/>
            <a:ext cx="1838520" cy="37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8" name="Rectangle 96"/>
          <p:cNvSpPr/>
          <p:nvPr/>
        </p:nvSpPr>
        <p:spPr>
          <a:xfrm>
            <a:off x="6224040" y="5170320"/>
            <a:ext cx="166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verage number of 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29" name="Rectangle 97"/>
          <p:cNvSpPr/>
          <p:nvPr/>
        </p:nvSpPr>
        <p:spPr>
          <a:xfrm>
            <a:off x="6330960" y="5392800"/>
            <a:ext cx="13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5027d"/>
                </a:solidFill>
                <a:latin typeface="Arial"/>
              </a:rPr>
              <a:t>arguments [0, 4[</a:t>
            </a:r>
            <a:endParaRPr b="0" lang="en-US" sz="15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0" name="Line 98"/>
          <p:cNvSpPr/>
          <p:nvPr/>
        </p:nvSpPr>
        <p:spPr>
          <a:xfrm>
            <a:off x="5834160" y="5154480"/>
            <a:ext cx="24264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Date Placeholder 2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2" name="Footer Placeholder 3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3" name="Slide Number Placeholder 4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273FCEB8-D582-4383-994F-B8F2A4482DCF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Size (and Inheritance) Metric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670200" y="3301920"/>
            <a:ext cx="7621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3670200" y="3301920"/>
            <a:ext cx="774720" cy="6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1442880" y="1670040"/>
            <a:ext cx="208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Inheritance Metric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258840" y="1949400"/>
            <a:ext cx="30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hierarchy nesting level (HNL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257400" y="222876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immediate children (NOC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0" name="Rectangle 9"/>
          <p:cNvSpPr/>
          <p:nvPr/>
        </p:nvSpPr>
        <p:spPr>
          <a:xfrm>
            <a:off x="258480" y="2508120"/>
            <a:ext cx="40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inherited methods, unmodified (NMI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1" name="Rectangle 10"/>
          <p:cNvSpPr/>
          <p:nvPr/>
        </p:nvSpPr>
        <p:spPr>
          <a:xfrm>
            <a:off x="258120" y="2787480"/>
            <a:ext cx="303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overridden methods (NMO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2" name="Rectangle 11"/>
          <p:cNvSpPr/>
          <p:nvPr/>
        </p:nvSpPr>
        <p:spPr>
          <a:xfrm>
            <a:off x="2908440" y="452124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3" name="Rectangle 12"/>
          <p:cNvSpPr/>
          <p:nvPr/>
        </p:nvSpPr>
        <p:spPr>
          <a:xfrm>
            <a:off x="2908440" y="4521240"/>
            <a:ext cx="427968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4" name="Rectangle 13"/>
          <p:cNvSpPr/>
          <p:nvPr/>
        </p:nvSpPr>
        <p:spPr>
          <a:xfrm>
            <a:off x="1079640" y="4978440"/>
            <a:ext cx="1231920" cy="6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5" name="Rectangle 14"/>
          <p:cNvSpPr/>
          <p:nvPr/>
        </p:nvSpPr>
        <p:spPr>
          <a:xfrm>
            <a:off x="4127400" y="3149640"/>
            <a:ext cx="1828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6" name="Rectangle 15"/>
          <p:cNvSpPr/>
          <p:nvPr/>
        </p:nvSpPr>
        <p:spPr>
          <a:xfrm>
            <a:off x="4127400" y="3149640"/>
            <a:ext cx="184176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7" name="Rectangle 16"/>
          <p:cNvSpPr/>
          <p:nvPr/>
        </p:nvSpPr>
        <p:spPr>
          <a:xfrm>
            <a:off x="1994040" y="482616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8" name="Rectangle 17"/>
          <p:cNvSpPr/>
          <p:nvPr/>
        </p:nvSpPr>
        <p:spPr>
          <a:xfrm>
            <a:off x="1994040" y="4826160"/>
            <a:ext cx="184140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49" name="Rectangle 18"/>
          <p:cNvSpPr/>
          <p:nvPr/>
        </p:nvSpPr>
        <p:spPr>
          <a:xfrm>
            <a:off x="6261120" y="4902120"/>
            <a:ext cx="1828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0" name="Rectangle 19"/>
          <p:cNvSpPr/>
          <p:nvPr/>
        </p:nvSpPr>
        <p:spPr>
          <a:xfrm>
            <a:off x="6705360" y="4870440"/>
            <a:ext cx="95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1" name="Rectangle 20"/>
          <p:cNvSpPr/>
          <p:nvPr/>
        </p:nvSpPr>
        <p:spPr>
          <a:xfrm>
            <a:off x="6261120" y="4826160"/>
            <a:ext cx="184140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2" name="Freeform 21"/>
          <p:cNvSpPr/>
          <p:nvPr/>
        </p:nvSpPr>
        <p:spPr>
          <a:xfrm>
            <a:off x="4889520" y="345456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96" y="0"/>
                </a:moveTo>
                <a:lnTo>
                  <a:pt x="0" y="96"/>
                </a:lnTo>
                <a:lnTo>
                  <a:pt x="96" y="192"/>
                </a:lnTo>
                <a:lnTo>
                  <a:pt x="192" y="96"/>
                </a:lnTo>
                <a:lnTo>
                  <a:pt x="9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3" name="Line 22"/>
          <p:cNvSpPr/>
          <p:nvPr/>
        </p:nvSpPr>
        <p:spPr>
          <a:xfrm>
            <a:off x="5041800" y="3759120"/>
            <a:ext cx="1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4" name="Rectangle 23"/>
          <p:cNvSpPr/>
          <p:nvPr/>
        </p:nvSpPr>
        <p:spPr>
          <a:xfrm>
            <a:off x="3220200" y="387972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inherit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5" name="Rectangle 24"/>
          <p:cNvSpPr/>
          <p:nvPr/>
        </p:nvSpPr>
        <p:spPr>
          <a:xfrm>
            <a:off x="5125680" y="4032360"/>
            <a:ext cx="106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belongsTo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6" name="Rectangle 25"/>
          <p:cNvSpPr/>
          <p:nvPr/>
        </p:nvSpPr>
        <p:spPr>
          <a:xfrm>
            <a:off x="4565520" y="4692600"/>
            <a:ext cx="71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7" name="Rectangle 26"/>
          <p:cNvSpPr/>
          <p:nvPr/>
        </p:nvSpPr>
        <p:spPr>
          <a:xfrm>
            <a:off x="934200" y="555624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invoke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8" name="Rectangle 27"/>
          <p:cNvSpPr/>
          <p:nvPr/>
        </p:nvSpPr>
        <p:spPr>
          <a:xfrm>
            <a:off x="6273720" y="1568520"/>
            <a:ext cx="19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Class Size Metric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59" name="Rectangle 28"/>
          <p:cNvSpPr/>
          <p:nvPr/>
        </p:nvSpPr>
        <p:spPr>
          <a:xfrm>
            <a:off x="5632560" y="1847880"/>
            <a:ext cx="195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methods (NOM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0" name="Rectangle 29"/>
          <p:cNvSpPr/>
          <p:nvPr/>
        </p:nvSpPr>
        <p:spPr>
          <a:xfrm>
            <a:off x="5633640" y="2127240"/>
            <a:ext cx="28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attributes, instance/class 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1" name="Rectangle 30"/>
          <p:cNvSpPr/>
          <p:nvPr/>
        </p:nvSpPr>
        <p:spPr>
          <a:xfrm>
            <a:off x="5632200" y="24066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(NIA, NCA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2" name="Rectangle 31"/>
          <p:cNvSpPr/>
          <p:nvPr/>
        </p:nvSpPr>
        <p:spPr>
          <a:xfrm>
            <a:off x="5631840" y="268596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3" name="Rectangle 32"/>
          <p:cNvSpPr/>
          <p:nvPr/>
        </p:nvSpPr>
        <p:spPr>
          <a:xfrm>
            <a:off x="5962320" y="2724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4" name="Rectangle 33"/>
          <p:cNvSpPr/>
          <p:nvPr/>
        </p:nvSpPr>
        <p:spPr>
          <a:xfrm>
            <a:off x="6102360" y="2685960"/>
            <a:ext cx="23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of method size (WMC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5" name="Rectangle 34"/>
          <p:cNvSpPr/>
          <p:nvPr/>
        </p:nvSpPr>
        <p:spPr>
          <a:xfrm>
            <a:off x="3966840" y="5353200"/>
            <a:ext cx="219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Method Size Metric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6" name="Rectangle 35"/>
          <p:cNvSpPr/>
          <p:nvPr/>
        </p:nvSpPr>
        <p:spPr>
          <a:xfrm>
            <a:off x="3238920" y="5632560"/>
            <a:ext cx="20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invocations (NOI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7" name="Rectangle 36"/>
          <p:cNvSpPr/>
          <p:nvPr/>
        </p:nvSpPr>
        <p:spPr>
          <a:xfrm>
            <a:off x="3237840" y="5911920"/>
            <a:ext cx="21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statements (NOS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8" name="Rectangle 37"/>
          <p:cNvSpPr/>
          <p:nvPr/>
        </p:nvSpPr>
        <p:spPr>
          <a:xfrm>
            <a:off x="3240000" y="6191280"/>
            <a:ext cx="22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lines of code (LOC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69" name="Rectangle 38"/>
          <p:cNvSpPr/>
          <p:nvPr/>
        </p:nvSpPr>
        <p:spPr>
          <a:xfrm>
            <a:off x="3238560" y="6470640"/>
            <a:ext cx="21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27d"/>
                </a:solidFill>
                <a:latin typeface="Arial"/>
              </a:rPr>
              <a:t>- # arguments (NOA)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0" name="Rectangle 39"/>
          <p:cNvSpPr/>
          <p:nvPr/>
        </p:nvSpPr>
        <p:spPr>
          <a:xfrm>
            <a:off x="4742280" y="3193920"/>
            <a:ext cx="6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1" name="Rectangle 40"/>
          <p:cNvSpPr/>
          <p:nvPr/>
        </p:nvSpPr>
        <p:spPr>
          <a:xfrm>
            <a:off x="2507400" y="487044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7d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BA0A088B-D556-422A-A2E6-5D4EE7EC6FE0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Coupling &amp; Cohesion Metric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The following definitions stem from [Chid91a], later republished as [Chid94a]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Coupling Between Objects (CBO)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CBO = number of other classes to which given class is coupled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Interpret as “number of other classes a class requires to compile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Lack of Cohesion in Methods (LCOM)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LCOM = number of disjoint sets (= not accessing same attribute) of local method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5B340ABB-C73C-4D5B-BE1A-F288960DC648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oupling &amp; Cohesion Metric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Beware!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Researchers disagree whether coupling/cohesion methods are valid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Classes that are observed to be cohesive may have a high LCOM valu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due to accessor method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Classes that are not much coupled may have high CBO valu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no distinction between data, method or inheritance coupling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1377CC7B-324F-4D19-A944-3374DAB71FB8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Quality Metrics (I)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017f"/>
                </a:solidFill>
                <a:latin typeface="Arial"/>
              </a:rPr>
              <a:t>Productivity (Process Metric)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unctionality / time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functionality in LOC or FP; time in hours, weeks, months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be careful to compare: the same unit does not always represent the same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Does not take into account the quality of the functionality!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8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6415BDE0-07BA-4F83-AEEA-65C333D61D6D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Quality Metrics (II)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Reliability (Product Metric)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a017f"/>
                </a:solidFill>
                <a:uFillTx/>
                <a:latin typeface="Arial"/>
              </a:rPr>
              <a:t>mean time to failure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mean of probability density function PDF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for software one must take into account the fact that repairs will influence the rest of the function </a:t>
            </a:r>
            <a:r>
              <a:rPr b="0" lang="en-US" sz="1600" spc="-1" strike="noStrike">
                <a:solidFill>
                  <a:srgbClr val="0a017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 quite complicated formulas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a017f"/>
                </a:solidFill>
                <a:uFillTx/>
                <a:latin typeface="Arial"/>
              </a:rPr>
              <a:t>average time between failures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= # failures / tim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time in execution time or calendar time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necessary to calibrate the probability density function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a017f"/>
                </a:solidFill>
                <a:uFillTx/>
                <a:latin typeface="Arial"/>
              </a:rPr>
              <a:t>mean time between failure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 = MTTF + mean time to repair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to know when your system will be available, take into account repair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9E6DD918-2089-4F2D-B005-4FDAB00B5B83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Quality Metrics (III)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017f"/>
                </a:solidFill>
                <a:latin typeface="Arial"/>
              </a:rPr>
              <a:t>Correctness (Product Metric)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a system is correct or not, so one cannot measure correctness”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a017f"/>
                </a:solidFill>
                <a:uFillTx/>
                <a:latin typeface="Arial"/>
              </a:rPr>
              <a:t>defect density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= # known defects / product size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product size in LOC or FP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# known defects is a time based count!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0101"/>
                </a:solidFill>
                <a:latin typeface="Arial"/>
              </a:rPr>
              <a:t>do not compare across projects</a:t>
            </a: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 unless your data collection is sound!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40E4EC49-EEAC-4DD6-A712-A99EFFB4E15B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1523880"/>
            <a:ext cx="7305840" cy="4953240"/>
          </a:xfrm>
          <a:prstGeom prst="rect">
            <a:avLst/>
          </a:prstGeom>
          <a:solidFill>
            <a:srgbClr val="e1eb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465440" cy="38671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17f"/>
                </a:solidFill>
                <a:latin typeface="Arial"/>
              </a:rPr>
              <a:t>What are metrics? Why do we need them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cost estim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Metrics for software quality evaluation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316D820B-780C-4604-9EF1-2464421270A8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Sample Quality Metrics (IV)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Maintainability (Product Metric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#time to repair certain categories of chang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mean time to repair” vs. “average time to repair”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similar to “mean time to failure” and “average time between failures”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beware of the unit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categories of changes” is subjectiv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time =?</a:t>
            </a:r>
            <a:br>
              <a:rPr sz="1800"/>
            </a:b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problem recognition time + administrative delay time + problem analysis time + change time + testing &amp; reviewing tim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0B7B4A1E-87D9-47F9-9D91-E4592BE7123A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What you should know!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is a measure? What is a metric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is GQM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are the three phases of algorithmic cost modelling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problems arise when using LOC as a software metric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 are the key ideas behind COCOMO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at’s the difference between “Mean time to failure” and “Average time between failures”? Why is the difference important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8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0752AF6-CAD5-4392-9200-F5A1FEA1FB2F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Can you answer the following questions?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During which phases in a software project would you use metrics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Is the Fog index a “good” metric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How would you measure your own software productivity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17f"/>
                </a:solidFill>
                <a:latin typeface="Arial"/>
              </a:rPr>
              <a:t>Why are coupling/cohesion metrics important? Why then are they so rarely used?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Date Placeholder 3"/>
          <p:cNvSpPr/>
          <p:nvPr/>
        </p:nvSpPr>
        <p:spPr>
          <a:xfrm>
            <a:off x="539640" y="6548400"/>
            <a:ext cx="3811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© Oscar Nierstrasz</a:t>
            </a:r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13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14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E7F8517D-2377-48C0-8CCF-CFEE2365DA23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39280" y="1654200"/>
            <a:ext cx="8061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95000"/>
              </a:lnSpc>
              <a:spcBef>
                <a:spcPts val="60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27d"/>
                </a:solidFill>
                <a:latin typeface="Arial"/>
              </a:rPr>
              <a:t>http://creativecommons.org/licenses/by-sa/2.5/</a:t>
            </a:r>
            <a:endParaRPr b="0" lang="en-US" sz="24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838080" y="2057400"/>
            <a:ext cx="7696440" cy="4449960"/>
          </a:xfrm>
          <a:prstGeom prst="rect">
            <a:avLst/>
          </a:prstGeom>
          <a:solidFill>
            <a:srgbClr val="ffffcc"/>
          </a:solidFill>
          <a:ln w="9360">
            <a:solidFill>
              <a:srgbClr val="05027d"/>
            </a:solidFill>
            <a:miter/>
          </a:ln>
          <a:effectLst>
            <a:outerShdw dist="17819" dir="2700000" blurRad="0" rotWithShape="0">
              <a:srgbClr val="0502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tribution-ShareAlike 2.5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You are free: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py, distribute, display, and perform the work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make derivative works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make commercial use of the work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der the following conditions: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lvl="1" marL="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tribution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You must attribute the work in the manner specified by the author or licensor.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lvl="1" marL="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hare Alike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f you alter, transform, or build upon this work, you may distribute the resulting work only under a license identical to this one.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lvl="1" marL="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any reuse or distribution, you must make clear to others the license terms of this work.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of these conditions can be waived if you get permission from the copyright holder.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Your fair use and other rights are in no way affected by the above.</a:t>
            </a:r>
            <a:endParaRPr b="0" lang="en-US" sz="1300" spc="-1" strike="noStrike">
              <a:solidFill>
                <a:srgbClr val="05027d"/>
              </a:solidFill>
              <a:latin typeface="Arial"/>
            </a:endParaRPr>
          </a:p>
        </p:txBody>
      </p:sp>
      <p:pic>
        <p:nvPicPr>
          <p:cNvPr id="1018" name="Picture 5" descr="logo_deed"/>
          <p:cNvPicPr/>
          <p:nvPr/>
        </p:nvPicPr>
        <p:blipFill>
          <a:blip r:embed="rId1"/>
          <a:stretch/>
        </p:blipFill>
        <p:spPr>
          <a:xfrm>
            <a:off x="3433680" y="2133720"/>
            <a:ext cx="2509920" cy="7077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6" descr="deed-1"/>
          <p:cNvPicPr/>
          <p:nvPr/>
        </p:nvPicPr>
        <p:blipFill>
          <a:blip r:embed="rId2"/>
          <a:stretch/>
        </p:blipFill>
        <p:spPr>
          <a:xfrm>
            <a:off x="950760" y="49896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7" descr="deed"/>
          <p:cNvPicPr/>
          <p:nvPr/>
        </p:nvPicPr>
        <p:blipFill>
          <a:blip r:embed="rId3"/>
          <a:stretch/>
        </p:blipFill>
        <p:spPr>
          <a:xfrm>
            <a:off x="950760" y="434340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1FB631F5-89A9-4BC3-AFB0-97F9C96BA73B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Why Metrics?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16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a017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a017f"/>
                </a:solidFill>
                <a:latin typeface="Arial"/>
              </a:rPr>
              <a:t>When you can measure what you are speaking about and express it in numbers, you know something about it; but when you cannot measure, when you cannot express it in numbers, your knowledge is of a meagre and unsatisfactory kind: it may be the beginning of knowledge, but you have scarcely, in your thoughts, advanced to the stage of science.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Lord Kelvin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42FA1643-7E13-432B-A011-F6839973844D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Why Measure Software?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539640" y="1944720"/>
          <a:ext cx="8061480" cy="3021120"/>
        </p:xfrm>
        <a:graphic>
          <a:graphicData uri="http://schemas.openxmlformats.org/drawingml/2006/table">
            <a:tbl>
              <a:tblPr/>
              <a:tblGrid>
                <a:gridCol w="3556080"/>
                <a:gridCol w="450540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stimate cost and effort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easure correlation between specifications and final product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1368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mprove productivity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easure value and cost of software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mprove software quality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easure usability, efficiency, maintainability ...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Improve reliability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easure mean time to failure, etc.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5760">
                      <a:solidFill>
                        <a:srgbClr val="00027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Evaluate methods and tools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27f"/>
                      </a:solidFill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17f"/>
                          </a:solidFill>
                          <a:latin typeface="Arial"/>
                        </a:rPr>
                        <a:t>measure productivity, quality, reliability ...</a:t>
                      </a:r>
                      <a:endParaRPr b="0" lang="en-US" sz="2000" spc="-1" strike="noStrike">
                        <a:solidFill>
                          <a:srgbClr val="0502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27f"/>
                      </a:solidFill>
                    </a:lnL>
                    <a:lnR>
                      <a:noFill/>
                    </a:lnR>
                    <a:lnT w="5760">
                      <a:solidFill>
                        <a:srgbClr val="00027f"/>
                      </a:solidFill>
                    </a:lnT>
                    <a:lnB w="13680">
                      <a:solidFill>
                        <a:srgbClr val="0002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Text Box 31"/>
          <p:cNvSpPr/>
          <p:nvPr/>
        </p:nvSpPr>
        <p:spPr>
          <a:xfrm>
            <a:off x="457200" y="5181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You cannot control what you cannot measure” — De Marco, 1982</a:t>
            </a:r>
            <a:endParaRPr b="0" lang="en-US" sz="2000" spc="-1" strike="noStrike">
              <a:solidFill>
                <a:srgbClr val="0502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What is not measurable, make measurable” — Galileo</a:t>
            </a:r>
            <a:endParaRPr b="0" lang="en-US" sz="20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66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43672E10-C959-4147-941A-29BC59D95790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What are Software Metrics?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017f"/>
                </a:solidFill>
                <a:latin typeface="Arial"/>
              </a:rPr>
              <a:t>Software metrics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Any type of measurement which relates to a software system, process or related documentation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Lines of code in a program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a017f"/>
                </a:solidFill>
                <a:uFillTx/>
                <a:latin typeface="Arial"/>
              </a:rPr>
              <a:t>Fog index</a:t>
            </a: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 (calculates readability of a piece of documentation)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0.4 </a:t>
            </a:r>
            <a:r>
              <a:rPr b="0" lang="en-US" sz="1600" spc="-1" strike="noStrike">
                <a:solidFill>
                  <a:srgbClr val="0a017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 (# words / # sentences) + (% words ≥ 3 syllables)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17f"/>
                </a:solidFill>
                <a:latin typeface="Arial"/>
              </a:rPr>
              <a:t>number of person-days required to implement a use-case</a:t>
            </a:r>
            <a:endParaRPr b="0" lang="en-US" sz="16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CC74285A-2768-4586-A5F1-F2CDB2580629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(Measures vs Metrics)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Mathematically, a </a:t>
            </a:r>
            <a:r>
              <a:rPr b="0" lang="en-US" sz="2000" spc="-1" strike="noStrike" u="sng">
                <a:solidFill>
                  <a:srgbClr val="0a017f"/>
                </a:solidFill>
                <a:uFillTx/>
                <a:latin typeface="Arial"/>
              </a:rPr>
              <a:t>metric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is a function m measuring the </a:t>
            </a: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distance between two objects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such that: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x, m(x,x) = 0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x, y, m(x,y) = m(y,x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17f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x, y, z, m(x,z) ≤ m(x,y) + m(y,z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124080" y="5029200"/>
            <a:ext cx="4648320" cy="1066680"/>
          </a:xfrm>
          <a:prstGeom prst="foldedCorner">
            <a:avLst>
              <a:gd name="adj" fmla="val 12500"/>
            </a:avLst>
          </a:prstGeom>
          <a:solidFill>
            <a:srgbClr val="f5f399"/>
          </a:solidFill>
          <a:ln w="9360">
            <a:solidFill>
              <a:srgbClr val="05027d"/>
            </a:solidFill>
            <a:miter/>
          </a:ln>
          <a:effectLst>
            <a:outerShdw dist="17819" dir="2700000" blurRad="0" rotWithShape="0">
              <a:srgbClr val="0502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So, technically “software metrics” is an abuse of terminology, and we should instead talk about “software measures”.</a:t>
            </a:r>
            <a:endParaRPr b="0" lang="en-US" sz="2000" spc="-1" strike="noStrike">
              <a:solidFill>
                <a:srgbClr val="050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4"/>
          <p:cNvSpPr/>
          <p:nvPr/>
        </p:nvSpPr>
        <p:spPr>
          <a:xfrm>
            <a:off x="108000" y="179280"/>
            <a:ext cx="5398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a7a7a7"/>
                </a:solidFill>
                <a:latin typeface="Arial"/>
              </a:rPr>
              <a:t>ESE — Software Metrics</a:t>
            </a:r>
            <a:endParaRPr b="0" lang="en-US" sz="10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7543800" y="6553080"/>
            <a:ext cx="1351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a7a7a7"/>
                </a:solidFill>
                <a:latin typeface="Arial"/>
              </a:rPr>
              <a:t>ESE 12.</a:t>
            </a:r>
            <a:fld id="{63978DA7-4DB2-4476-AEFB-EC95B4DCBAF1}" type="slidenum">
              <a:rPr b="0" lang="de-CH" sz="1200" spc="-1" strike="noStrike">
                <a:solidFill>
                  <a:srgbClr val="a7a7a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5027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280" y="647280"/>
            <a:ext cx="66214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17f"/>
                </a:solidFill>
                <a:latin typeface="Arial"/>
              </a:rPr>
              <a:t>Direct and Indirect Measures</a:t>
            </a:r>
            <a:endParaRPr b="1" lang="en-US" sz="2800" spc="-1" strike="noStrike">
              <a:solidFill>
                <a:srgbClr val="0a017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9280" y="16538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Direct Measur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Measured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directly in terms of the observed attribute (usually by counting)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Length of source-code, Duration of process, Number of defects discovered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017f"/>
                </a:solidFill>
                <a:latin typeface="Arial"/>
              </a:rPr>
              <a:t>Indirect Measur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5df"/>
              </a:buClr>
              <a:buSzPct val="85000"/>
              <a:buFont typeface="Helvetica C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0101"/>
                </a:solidFill>
                <a:latin typeface="Arial"/>
              </a:rPr>
              <a:t>Calculated</a:t>
            </a:r>
            <a:r>
              <a:rPr b="0" lang="en-US" sz="2000" spc="-1" strike="noStrike">
                <a:solidFill>
                  <a:srgbClr val="0a017f"/>
                </a:solidFill>
                <a:latin typeface="Arial"/>
              </a:rPr>
              <a:t> from other direct and indirect measures</a:t>
            </a:r>
            <a:endParaRPr b="0" lang="en-US" sz="20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Module Defect Density = Number of defects discovered / Length of source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a017f"/>
              </a:buClr>
              <a:buFont typeface="Helvetica CE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17f"/>
                </a:solidFill>
                <a:latin typeface="Arial"/>
              </a:rPr>
              <a:t>Temperature (usually derived from the length of a liquid column)</a:t>
            </a:r>
            <a:endParaRPr b="0" lang="en-US" sz="1800" spc="-1" strike="noStrike">
              <a:solidFill>
                <a:srgbClr val="0a0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2:11:05Z</dcterms:created>
  <dc:creator>Najam</dc:creator>
  <dc:description/>
  <dc:language>en-US</dc:language>
  <cp:lastModifiedBy>contact@xlsxtemp.com</cp:lastModifiedBy>
  <cp:lastPrinted>2005-04-07T14:31:46Z</cp:lastPrinted>
  <dcterms:modified xsi:type="dcterms:W3CDTF">2017-06-09T10:53:02Z</dcterms:modified>
  <cp:revision>149</cp:revision>
  <dc:subject/>
  <dc:title>PowerPoint Presentation</dc:title>
</cp:coreProperties>
</file>