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45E-DA88-4320-AD48-2574DA44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147920"/>
            <a:ext cx="847728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AA3-6705-429E-BA35-443DE049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479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5000" y="41479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860-16E2-43B0-9126-A5B5D647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7200" y="15811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3520" y="15811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1479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7200" y="41479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3520" y="41479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7A0-B20D-4EC0-8683-DB5CA94F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977B-E6FB-468B-89AF-429ACC46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0204-8A67-4B97-A353-E700173D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B4F5-EC23-4E1F-B7AF-5C768828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889B-ABD5-4963-919C-F019F51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F3C0-2E09-4D00-85CA-7E8CC540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46CC-0131-4D5C-BB80-B500E078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479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71F0-D5B2-4B82-888E-28CF6F65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5DF-D083-4767-A2E7-955B82B2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000" y="41479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1034-F02E-4930-9A63-8944D88F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47920"/>
            <a:ext cx="847728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60E4-95D2-4AD2-B58F-6E719FB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47920"/>
            <a:ext cx="847728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3F5-D8F3-432C-8AEF-5792C295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479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000" y="41479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FCDC-76E2-4D00-B198-EC6913B4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7200" y="15811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3520" y="15811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479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7200" y="41479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3520" y="4147920"/>
            <a:ext cx="272952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16E-4D26-43FD-95CB-4E3467AE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77A-F498-48CC-B713-8FF564B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3FB-CFA3-4735-965D-A30034DA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E3E-AB5E-4DC6-ABB3-9589DE24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4D3-CFEE-49A0-A943-BBAD1DC7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1479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602-6595-483D-ACDA-3990726D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5000" y="41479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CBE-FF60-41D0-B7D2-2AC6383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5000" y="1581120"/>
            <a:ext cx="413676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147920"/>
            <a:ext cx="8477280" cy="23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07C-335F-4EE0-8A58-268899FC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E811-1178-44BD-8942-A2A7614DCF95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6044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11200" y="647640"/>
            <a:ext cx="7732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A399-B4DB-4B6C-9C64-243E7D867FE2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99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6600" y="1752480"/>
            <a:ext cx="432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9736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3480" y="304920"/>
            <a:ext cx="51022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960" y="1676520"/>
            <a:ext cx="4648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view homework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3 -  11, 36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se Study:  “How We Slashed Response Tim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ecture/discus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pter 4: Statis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5080" y="1676520"/>
            <a:ext cx="3965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eek 8 assignm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blems chapter 4 – 2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7040" y="6390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ek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Use of quality metric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lity metric data may be used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t trends in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alternati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t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ever, organizations should consider the costs and benefits of collecting information for a particular quality metr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ing data will not necessarily result in higher performance lev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er quality companies often use fewer metrics than their competi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Acceptable rang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ractice, identifying effective metrics is often difficu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in reason: non-performance of a metric does not always lead to customer dissatisfac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car door example again, if door closing effort is the metric, will a customer be dissatisfied if the actual effort is 50 foot-pounds versus 55 foot-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rs typically identify ranges of acceptable performance for a metr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) For services, ranges often referred to as break poi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b) In manufacturing, these ranges are known as targets, tolerances, or specific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Break point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 points are levels where improved performance will likely change customer behav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waiting in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pose the average customer will only wait for 5 minu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longer than 5 minutes -- customer is dissatis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5 minutes -- customer is satis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 minute -- customer is extremely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a company try to reduce average wait time from 4 to 2 minutes.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argets, tolerances and specification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 (nominal) - desired value of a characterist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lerance specifies an allowable deviation from a target value where a characteristic is still accep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191120"/>
            <a:ext cx="7086600" cy="0"/>
          </a:xfrm>
          <a:prstGeom prst="line">
            <a:avLst/>
          </a:prstGeom>
          <a:ln w="954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257800"/>
            <a:ext cx="7086600" cy="0"/>
          </a:xfrm>
          <a:prstGeom prst="line">
            <a:avLst/>
          </a:prstGeom>
          <a:ln w="381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962520"/>
            <a:ext cx="0" cy="457200"/>
          </a:xfrm>
          <a:prstGeom prst="line">
            <a:avLst/>
          </a:prstGeom>
          <a:ln w="954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5181480"/>
            <a:ext cx="0" cy="304920"/>
          </a:xfrm>
          <a:prstGeom prst="line">
            <a:avLst/>
          </a:prstGeom>
          <a:ln w="954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76200" y="46332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954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105520"/>
            <a:ext cx="0" cy="304560"/>
          </a:xfrm>
          <a:prstGeom prst="line">
            <a:avLst/>
          </a:prstGeom>
          <a:ln w="954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4038480"/>
            <a:ext cx="0" cy="304920"/>
          </a:xfrm>
          <a:prstGeom prst="line">
            <a:avLst/>
          </a:prstGeom>
          <a:ln w="954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5105520"/>
            <a:ext cx="0" cy="304560"/>
          </a:xfrm>
          <a:prstGeom prst="line">
            <a:avLst/>
          </a:prstGeom>
          <a:ln w="954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05400" y="5455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48040" y="54554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4680" y="438876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(LS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8680" y="438876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(US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11200" y="647640"/>
            <a:ext cx="7732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Quality Metrics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86200" y="2362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pter F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 best manage what we can measure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Metric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metric is a verifiable measure stated in either quantitative or qualitative term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5 percent inventory accuracy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evaluated by our customers, we are providing above-average servic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Metric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metric is a verifiable meas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tures performance in terms of how something is being done relative to a standar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and encourages compariso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business strateg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stomer quality measur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stomers typically relate quality t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 based measures; “have” or “have not” - determined by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 measures - “range of values” - conformance to design or ideal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rue versus substitute performance measur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s - use “true” performance meas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ple: a true measure of a car door may be “easy to close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ue performance measures typically vary by each individual custom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fortunately, producers cannot measure performance as each individual customer do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rs - use “substitute” performance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se measures are quantifiable (measurable uni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stitute measure for a car door: door closing effort (foot-pound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example: light bul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ue performance measure -- brightens the ro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stitute performance measure – wattage or lum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Educating Consumers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, producers educate consumers on their substitute performance measu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substitute performance measures for the following customer desir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Gas Mile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ful C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effect of educating consumers on performance measur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at is a “metric”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ther term for a substitute performance measure is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tr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ric is a standard of measur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quality management, we use metrics to translate customer needs into producer performance meas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quality metr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ap and r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 capability (Cp or Cp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time through quality (FTTQ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dentifying effective metric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ive metrics satisfy the following condi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 is clearly defined in a measurable entity (quantifiab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apable system exists to measure the entity (e.g., a gag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ive metrics allow for actionable responses if the performance is unaccep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little value in a metric which identifies nonperformance if nothing can or will be done to remedy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Is net sales a good metric to measure the performance of a manufacturing depart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lity Metr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3T23:40:20Z</dcterms:created>
  <dc:creator>Najam</dc:creator>
  <dc:description/>
  <cp:keywords>quality TQM MEM650</cp:keywords>
  <dc:language>en-US</dc:language>
  <cp:lastModifiedBy>Donald E. Stout, Jr.</cp:lastModifiedBy>
  <cp:lastPrinted>1998-02-24T18:38:26Z</cp:lastPrinted>
  <dcterms:modified xsi:type="dcterms:W3CDTF">2005-10-17T22:46:50Z</dcterms:modified>
  <cp:revision>15</cp:revision>
  <dc:subject> Quality Tools</dc:subject>
  <dc:title>Quality Metrics</dc:title>
</cp:coreProperties>
</file>