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1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83EE-CD8D-4B86-8C3A-24AF98A6D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FB1E-EB8A-415D-8ABD-C13D7D99B2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1290-BD3A-4F29-9EBE-6ADB87327E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D1E3-BEE3-4072-BBE5-ABDCD55405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6C93-DB66-435A-BD09-0E771107A7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E276-808C-4DAF-85A4-B42ED2BB6E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BFDC-A34A-494A-A8E3-532EDCADBC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65A4-3AB8-43F2-B499-56248E9953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42DB-30F3-40F1-B621-97F10F44E7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984E-4680-4C5F-8282-770383AE07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91D8-DCD3-4614-953D-46EE1A7ECA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0BCD-1148-4171-943E-A43C997ED1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372D-2A46-4F13-B1DD-20EFE74C74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A6DA-247F-4092-A4D2-FE5FB1A24B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D051-778B-431B-8BBB-48CB0444F1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F648-6B0D-4533-A07B-2B07373E67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52F4-89C1-42C2-8E64-386AF72C02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2E0E-6FC3-48EB-B953-D49DE11637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08B3-F200-44F5-AC55-6C65ECD9D9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CA4D-4C55-4027-A906-0727464427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1EB6-DE26-44AA-8336-F4DE1CE848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2659-17E8-44F5-BF24-20F700B402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2EA4-379A-449B-A2AD-1EBD8C9D97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8C74-9C17-4A4C-A8C7-A199F2B563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3ABC-CF26-4B33-A689-BE2CCD4E6E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1F1E-1A26-4F83-BAC6-E42CA41E01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6EB2-565D-4F2C-9495-1ECBBB2B51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8781-504D-46C8-87F8-558FF32CC2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FB49-AA2D-41D3-848C-F405E4B936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7B97-E25F-4758-BC04-EBA98EE4D0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CEE4-F2C1-4DE7-AAA6-678E8796DD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2436-44C6-4EA0-BDD1-6A55AF3C16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7D50-45B3-49B3-825A-5E20E3EAA3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FCA0-71D4-40BC-8568-A3B6E9A257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82E9-7704-4983-8D64-4A61FCF888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5FCD-ADB5-4175-AB75-5D9F8EBF55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BFAB-6B7C-4CEB-A67F-D572B5147B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E943-4666-4767-ADCF-E4EE312010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E8BB-E65B-46AE-952C-03DF19AE06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566C-B37F-43EA-B544-68625F27B1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1CF6-E56B-43C2-8668-7F987A0670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0FA0-2D82-407F-9AF3-D90B3C2376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DA51-A855-48F2-BC6A-E6B0ADA7AE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FF65-7BA6-4BF5-8500-2353F9AB32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2FDE-E93F-475B-90FA-807D305A8D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0535-BCC0-439C-814A-FB1FAA5A43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0A9F-C361-4F94-8FC9-B0A8EB362F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BA99-6629-453E-88D4-C1C85B7DB8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67BA-CDC7-47A3-B7D8-F798477F3A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6904-9FD7-4A1A-ACF2-927BED6D67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2908-FE54-408E-BA9F-3E44FE4281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5E68-E5F6-44AE-BC9A-D497CA94C7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37E7-5F91-4C1D-A062-B5A7C3F9BB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7E83-57D0-4279-8223-7CDCE1ECE3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FDAD-1BFE-4B57-96E5-631DC9F70E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A0A5-17E1-472C-A08D-876A7D85B2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A028-E70E-4DFA-9289-7F2A5761A2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1019-CF5F-4318-99B6-BBA78CA629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CDD7-9BEE-4300-B50E-094384B079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A30C-5149-4A27-84C0-925FEFF43C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8907-6D5E-442D-AFF8-75E00BAD8A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3192-B957-4486-910A-C10B4F666A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CD93-8F43-48A1-9590-96E72E1595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E04B-3AD7-4951-898D-973ED8898B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2637-611B-46BD-AA98-3AA9C73537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F4F3-9018-4029-9C81-636703680E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D28B-5962-4823-98DA-54848A295C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9077-3F37-4056-91FF-543ACBC13C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6BC0-C612-4D54-A410-CA4FEAB19D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C718-82F0-4EDA-A361-12886B2DF4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81DD-1D12-43D7-94BD-FFD2002A82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BB4F-882C-4972-8307-C514D75002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B4FB-A728-4D4C-B6F0-9A441AAD42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4C97-9D60-490D-8755-D4168F2168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E39A-DC3B-43B3-B805-E7201C91EF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92B6-C0F6-4E23-98B0-E905CEC283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63BC-4DBE-4E76-9B74-A3781BEF65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4589-678B-43D9-BF09-A0BBC4E781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AF4-53F8-4946-A58F-D3DBD077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2166-6CA9-4210-A307-A9A065AD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9AB-C149-4DC6-8B38-02CEA6E4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EB0-5E0F-4909-9879-8916C28C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E3FC-A9C7-4D35-B451-0EDBDCDA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733B-43FD-4B11-BEEE-31D42C88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7F11-1F37-4ABD-B664-BA6BD3FF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8880-C40B-4546-9FF2-CC6DCC63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A670-EA94-4CD8-9A70-866A8591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C025-8061-4A96-9D33-6B4AC30E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E867-004B-4F44-9B58-6395B118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1CE-2C98-40C8-89F5-AF8D0086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46A8-9624-4B23-9356-4F37466C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275D-EB3F-4B1E-81AD-863B3A47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0BB3-AF9E-4B32-B916-D90C980E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3993-DF4E-473A-9D3C-F9A23A23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F5E5-BE3B-45BD-BC0F-FFE241DB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ADEAC-2604-4C22-996E-B9CEBB68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EA274-219E-456A-A1AA-E8EA5186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64F47-F65D-4A18-B3EB-6C35F90D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14259-85A2-4272-AA96-875A54D1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18140-4C71-4B0E-8FF4-0EE6973F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6679-D5C9-439E-9A91-4EB933A6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BB5B5-6EB3-4E6A-BAA4-A4BB6004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27186-1FC7-4EAB-A7A3-F7D14260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94C2E-923C-444A-ABCB-DE8F206C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BD199-7F56-4052-BBD8-6FC51CF7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E56F8-B394-4467-8BCB-67BF5A25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E95F5-2908-4968-B19F-53C32713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1154C-1F74-426F-856E-A34BF71C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F7937-E208-4FCA-AC43-AC2D0BBA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841B4-429C-4107-9247-59A37793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5E4E7-2BF2-4493-A764-01877E38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17F-5352-442D-8241-257A1C3C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1AE03-3ED1-4FC4-9B04-37E99981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D63F0-AA60-4A96-8B32-6D013C1E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17AAA-1E33-4EB3-84A0-4E676202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E9012-3BE0-41B3-8AD3-A237E5D2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693ED-6591-408A-90C4-AA284332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0BCA4-E934-43A2-BF30-1659F178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B41DE-3158-44E5-A746-7B168713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88BF1-C716-471A-84F6-66F35F31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D5058-3D3F-4A79-946E-0DB122C1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05775-C14F-47EF-910A-4C7049C4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783-C7EE-45D5-9657-704F3C70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2F0A5-ABD0-4142-9F64-21CFF8A3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1C097-2E6D-44D2-A414-FEEFB170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6A01E-6BDC-422E-8781-065CE310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048DD-454F-450B-9FF1-2752BF31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4416F-DA7D-405A-8363-2C151E92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6517C-7670-471D-803B-5E3BD82E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3FC18-205B-4250-BBF5-6FD0B7E7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DD56C-FB64-4BC9-94FF-8AE3B853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2B2EE-D5F8-4C32-921D-99098B12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6F386-6D1C-442E-A7B1-0741296B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79B-D95A-45D3-B465-2B8CDB6A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24966-2EC1-4958-86CB-01BCB90F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455BA-D4E9-48AA-AF55-4AD28021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330A7-5E5D-4E27-BB89-408549A4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66C32-2323-4165-9125-8835A799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83061-3046-4FD1-A210-3B9DD1CB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42358-4568-4AA2-8DCA-048A6DE4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3D30A-79F0-4082-8F81-FC0B8D36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4F68C-61FB-4CF3-BBAE-FDC25560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3E926-BC32-4D66-A75D-B6E4F881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376F4-4892-4211-B310-2E5417C2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BAC8-4E39-40A7-8DD9-8B91CABE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F07C6-9614-48D1-B9BA-86BFEF25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D468A-5790-4911-B090-96A6B478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DE31B-01DD-48E4-99AE-5E665753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B7AED-9563-475B-9426-E9FB110C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7B29C-0651-41C6-8ABB-5E60F65D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CED5A-26B5-4216-B46A-CCC90A90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3FC88-5BF2-4C82-BB6D-A909A8E9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069A9-8E93-40B9-A8B0-64E2D865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13EBD-AE61-4C95-8508-A46B342E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34B28-B899-4F5E-A118-20656D1D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A8D5-D6AA-4A7B-8050-9F2811DE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CBEB3-D7DC-4EF6-8F8C-8EFF855E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91866-0705-4D2E-80D5-1E525216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54CA3-D129-4DC6-907C-859CAFDB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9EBDB-6AF6-4E7D-8CDC-EC9E6954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4733D-4DEC-4164-8BC1-6C6CE21B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8CB8F-2FDC-46FD-97AE-11605277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25C2F-3C3E-46B1-9ADD-8909D6ED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AE098-E6CB-4F5B-8FCF-BDDBA18A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4E611-F734-4C96-8C38-92C3FE72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35FD6-F641-4399-B496-0E435B71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E82-A078-4A6A-B25C-C57E35EA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66C82-DE40-4197-B1A2-79BF9CB2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FF042-A096-45D2-927A-AED33ECB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F4A81-1712-45B1-99E2-2AE03C57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F4C2F-6942-4EA0-999B-10FD6DE5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F0895-76B5-427A-AFB6-A3BBB1DA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02F35-CC2F-481E-9228-ECF8E4C3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50E64-C63B-4191-AD50-DA488B3A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7FD6-C242-4D40-A187-DE7A30EE0AE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F74C-A46B-4867-9580-027A81B27A7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4A48-5822-403E-80F4-A423B2CE845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0797-01B8-4A22-AD86-7ADB8410761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600E-0D0E-4772-A8AD-6A126704FB5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3E0E-A188-4D01-A27A-8BD0E2449AF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807D-63F1-4055-99F5-E9049B3BF37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C087-C7E9-4805-9642-536DD3D655D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drdobbs.com/184414727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agan_inspectio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029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Rectangle 1030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CB01-03A7-44E3-9133-3FFE6372E1E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7" name="Rectangle 4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Project managemen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spect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onfiguration managemen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hange managemen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Process managemen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roject Management Concer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sp>
        <p:nvSpPr>
          <p:cNvPr id="465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CAF2-2AD0-42B3-A337-58E0484185D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7" name="Picture 2" descr="Design Software Project Management | Project Software Designing Enviornment"/>
          <p:cNvPicPr/>
          <p:nvPr/>
        </p:nvPicPr>
        <p:blipFill>
          <a:blip r:embed="rId2"/>
          <a:stretch/>
        </p:blipFill>
        <p:spPr>
          <a:xfrm>
            <a:off x="1143000" y="2209680"/>
            <a:ext cx="651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roject Management Tool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sp>
        <p:nvSpPr>
          <p:cNvPr id="470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C3F2-8DDD-4804-A584-F925C950E74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2" name="Picture 2" descr="http://i.d.com.com/i/dl/media/dlimage/11/32/58/113258_large.jpeg"/>
          <p:cNvPicPr/>
          <p:nvPr/>
        </p:nvPicPr>
        <p:blipFill>
          <a:blip r:embed="rId2"/>
          <a:stretch/>
        </p:blipFill>
        <p:spPr>
          <a:xfrm>
            <a:off x="1066680" y="18288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lann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one before project begi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Key task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ost and schedule estimat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taff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onitoring and risk mgmt plan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Quality assurance plans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tc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ill discuss planning in detail la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C929-0810-4FC1-A2FB-131A5F0121E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onitoring and contro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sts for the duration of the project and covers the development proc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onitors all key parameters like cost, schedule, risk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akes corrective actions when need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eeds information on the dev process – provided by metric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BCFA-23DF-4B75-B4A5-E91619FBBA6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mmunication Facilit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65760" indent="-304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Realistically no plan covers everything!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dditional decisions are made during develop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ocuments should be updated and communicated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ypical environ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58080" indent="-25416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ultiple tea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58080" indent="-25416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ultiple user group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58080" indent="-25416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ultiple disciplin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58080" indent="-25416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ultiple locatio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 many setting PM is center of communication hub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ill discuss in more detail late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E761-CF7A-4CBA-A990-C95B2FA1700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eeting Typ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oject Planning Meeting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view of progress against schedul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Update plan, identify pain points and dependenci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ublically call team leads to task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tent Meeting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gular meetings focused around content topic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.G. “Reporting”, “Backend API”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ake decision, Record them, Communicate the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Use of the “Rolling Email”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7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0AC9-2647-48E6-B633-C2BA17F5E62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eeting Typ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ssues Meeting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gularly schedule meeting (ie. open in everyone’s schedule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ssues gathered the day before and distribut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ssue initiator indicates required attendanc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QA Meeting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lann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iscussion with busine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iscussion with develop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gular Review of open ticke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D1D2-7283-4F86-8F81-622E1402144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eeting Modaliti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daliti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n pers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Video Conferenc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Voice Conferenc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hared Desktop + Voice Conferenc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os/Cons of each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D3C5-0982-4F31-A465-3DBD4F54690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ostmortem Analysi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ostmortem analysis is performed when the development process is ov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asic purpose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o analyze the performance of the process, and identify lessons learned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mprove predictability and repeatability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entral to a “Learning Organization” or cult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lso called termination analys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FDF1-E31D-4EA0-BEF1-01EB247DDE2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Relationship with Dev Proces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02" name="Picture 5" descr="Fig2-11"/>
          <p:cNvPicPr/>
          <p:nvPr/>
        </p:nvPicPr>
        <p:blipFill>
          <a:blip r:embed="rId1"/>
          <a:stretch/>
        </p:blipFill>
        <p:spPr>
          <a:xfrm>
            <a:off x="914400" y="1752480"/>
            <a:ext cx="7391520" cy="4267440"/>
          </a:xfrm>
          <a:prstGeom prst="rect">
            <a:avLst/>
          </a:prstGeom>
          <a:ln w="0">
            <a:noFill/>
          </a:ln>
        </p:spPr>
      </p:pic>
      <p:sp>
        <p:nvSpPr>
          <p:cNvPr id="503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6784-4921-479D-B5C5-4BC85C0923F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Other Process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evelopment Process is the central process around which others revolve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ethods for other processes often influenced by the dev proces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e have looked at various models for dev proc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 “real” process likely derived from a mod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7175-CB3C-4684-9271-846C143A1A0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029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Rectangle 1030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54BC-9ABA-4D28-9B0A-B1DBBBA563E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7" name="Rectangle 2" descr=""/>
          <p:cNvPicPr/>
          <p:nvPr/>
        </p:nvPicPr>
        <p:blipFill>
          <a:blip r:embed="rId1"/>
          <a:stretch/>
        </p:blipFill>
        <p:spPr>
          <a:xfrm>
            <a:off x="530280" y="4157640"/>
            <a:ext cx="8912160" cy="28764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Risk Management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rom “Keep Your Projects On Track”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http://www.drdobbs.com/184414727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Risk Managemen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ually perform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51040" indent="-457200">
              <a:spcBef>
                <a:spcPts val="649"/>
              </a:spcBef>
              <a:buClr>
                <a:srgbClr val="ea157a"/>
              </a:buClr>
              <a:buSzPct val="9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t the start of a project,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851040" indent="-457200">
              <a:spcBef>
                <a:spcPts val="649"/>
              </a:spcBef>
              <a:buClr>
                <a:srgbClr val="ea157a"/>
              </a:buClr>
              <a:buSzPct val="9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t the beginning of major project phases (such as requirements, design, coding and deployment), and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851040" indent="-457200">
              <a:spcBef>
                <a:spcPts val="649"/>
              </a:spcBef>
              <a:buClr>
                <a:srgbClr val="ea157a"/>
              </a:buClr>
              <a:buSzPct val="9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en there are significant changes (for example, feature changes, target platform changes and technology changes)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94EF-9B55-4C78-BF38-E3D674569A3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Risk Managemen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088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 steps to risk management are 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51040" indent="-457200">
              <a:spcBef>
                <a:spcPts val="649"/>
              </a:spcBef>
              <a:buClr>
                <a:srgbClr val="ea157a"/>
              </a:buClr>
              <a:buSzPct val="9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risk identification,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851040" indent="-457200">
              <a:spcBef>
                <a:spcPts val="649"/>
              </a:spcBef>
              <a:buClr>
                <a:srgbClr val="ea157a"/>
              </a:buClr>
              <a:buSzPct val="9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risk analysis,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851040" indent="-457200">
              <a:spcBef>
                <a:spcPts val="649"/>
              </a:spcBef>
              <a:buClr>
                <a:srgbClr val="ea157a"/>
              </a:buClr>
              <a:buSzPct val="9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risk management planning 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nd</a:t>
            </a: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851040" indent="-457200">
              <a:spcBef>
                <a:spcPts val="649"/>
              </a:spcBef>
              <a:buClr>
                <a:srgbClr val="ea157a"/>
              </a:buClr>
              <a:buSzPct val="9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risk review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B24F-DCD2-4B4F-A98B-CD116D42574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1) Risk Identific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brainstorming session, consider 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eak areas, such as unknown technology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spects that are critical to project success, such as the timely delivery of a vendor's database software, creation of translators or a user interface that meets the customer's need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oblems that have plagued past projects, such as loss of key staff, missed deadlines or error-prone softwa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97ED-F071-4500-A46A-34C169C03B6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1) Risk Identific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8080" indent="-478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llect up the stakeholder! Who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78080" indent="-478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old a brainstorming session, consider 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Weak areas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, such as unknown technology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Aspects that are critical to project success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, such as the timely delivery of a vendor's database software, creation of translators or a user interface that meets the customer's need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Problems that have plagued past projects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, such as loss of key staff, missed deadlines or error-prone softwa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78080" indent="-478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5623-62C1-4F00-8663-EB2FF984E0F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2) Risk Analysi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ake each risk item more specific. Risks like "Lack of management buy-in" and "People might leave" are too vague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83480" indent="-4834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plit the risk into smaller, specific risks, such a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8000" indent="-48312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"Manager Jane could decide the project isn't beneficial,"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828000" indent="-48312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"The database expert might leave," and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828000" indent="-48312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"The webmaster may be pulled off the project.“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83480" indent="-4834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t prioriti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3962-38AB-42D7-BC22-4CE71372395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2) Risk Analysi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EB4A-4DC7-4582-A12A-7447EA68206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457200" y="2044800"/>
          <a:ext cx="8458200" cy="4219560"/>
        </p:xfrm>
        <a:graphic>
          <a:graphicData uri="http://schemas.openxmlformats.org/drawingml/2006/table">
            <a:tbl>
              <a:tblPr/>
              <a:tblGrid>
                <a:gridCol w="3941640"/>
                <a:gridCol w="1395360"/>
                <a:gridCol w="1725840"/>
                <a:gridCol w="1395360"/>
              </a:tblGrid>
              <a:tr h="1142280"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isk Items (Potential Future Problems Derived from Brainstormin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Likelihood of Risk Item Occur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Impact to Project if Risk Item Does Occu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riority (Likelihood * Impac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New operating system may be unstabl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ommunication problems over system issu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We may not have the right require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quirements may change late in the cycl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atabase software may arrive lat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Key people might leav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Rectangle 1"/>
          <p:cNvSpPr/>
          <p:nvPr/>
        </p:nvSpPr>
        <p:spPr>
          <a:xfrm>
            <a:off x="3909960" y="-1839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Priority Scheme</a:t>
            </a: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3) Risk Management Plann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5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9D73-F0F3-45EA-B6D5-0FD32AE12B1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533520" y="2133720"/>
          <a:ext cx="8458200" cy="4087800"/>
        </p:xfrm>
        <a:graphic>
          <a:graphicData uri="http://schemas.openxmlformats.org/drawingml/2006/table">
            <a:tbl>
              <a:tblPr/>
              <a:tblGrid>
                <a:gridCol w="2170080"/>
                <a:gridCol w="1347840"/>
                <a:gridCol w="1571400"/>
                <a:gridCol w="1347840"/>
                <a:gridCol w="1197000"/>
                <a:gridCol w="824040"/>
              </a:tblGrid>
              <a:tr h="1028520">
                <a:tc>
                  <a:txBody>
                    <a:bodyPr lIns="18720" rIns="1872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isk Items (Potential Future Problems Derived from Brainstormin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18720" rIns="1872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Actions to Reduce Likeliho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18720" rIns="1872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Actions to Reduce Impact if Risk Does Occu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18720" rIns="1872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Who Should Work on Ac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18720" rIns="1872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When Should Actions Be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18720" rIns="1872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tatus of Ac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18720" rIns="1872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New operating system may not be stabl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18720" rIns="1872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est OS mor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18720" rIns="1872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Identify second O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18720" rIns="1872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Jo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18720" rIns="1872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3/3/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18720" rIns="1872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1534680">
                <a:tc>
                  <a:txBody>
                    <a:bodyPr lIns="18720" rIns="1872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ommunica-tion problems over system issu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18720" rIns="1872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velop system interface document for critical interfac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18720" rIns="1872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Add replan milestone to realign the team's schedule with other area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18720" rIns="1872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ath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18720" rIns="1872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5/6/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18720" rIns="1872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775440">
                <a:tc>
                  <a:txBody>
                    <a:bodyPr lIns="18720" rIns="1872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We may not have the right requirement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18720" rIns="1872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uild prototype of U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18720" rIns="1872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Limit Initial product distribu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18720" rIns="1872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Lo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18720" rIns="1872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4/6/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18720" rIns="1872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720" marR="1872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8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onsolas"/>
              </a:rPr>
              <a:t>4) Risk Review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view your risks periodically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eck how well mitigation is progressing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ange risk priorities, as requir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dentify new risk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run the complete risk process if the project has experienced significant change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corporate risk review into other regularly scheduled project review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2AC2-A070-4E92-B114-2B33F310664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Risk Managemen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ime Effective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90 to 120 minutes for projects that are 12 to 60 person-months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ontrol the length of the session by controlling the scope you choose,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ost sessions usually take less than two hour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5BB0-3F16-4C11-804A-303B8E5A9B9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Other Processes In the context of Dev Process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sp>
        <p:nvSpPr>
          <p:cNvPr id="435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5670-25AF-47CE-8D6D-9102706E218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7" name="Picture 2" descr="http://www.ibm.com/developerworks/rational/library/content/RationalEdge/may04/4721_figure1.gif"/>
          <p:cNvPicPr/>
          <p:nvPr/>
        </p:nvPicPr>
        <p:blipFill>
          <a:blip r:embed="rId2"/>
          <a:stretch/>
        </p:blipFill>
        <p:spPr>
          <a:xfrm>
            <a:off x="609480" y="1916280"/>
            <a:ext cx="73915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029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1030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BC74-A2DB-49FA-AF97-D9F7F8478E7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9" name="Rectangle 2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ommunication Facilitation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eeting Typ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oject Planning Meeting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view of progress against schedul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Update plan, identify pain points and dependenci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ublically call team leads to task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tent Meeting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gular meetings focused around content topic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.G. “Reporting”, “Backend API”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ake decision, Record them, Communicate the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Use of the “Rolling Email”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7F18-950A-4B6E-9A10-D318736EF6E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eeting Typ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ssues Meeting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gularly schedule meeting (ie. open in everyone’s schedule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ssues gathered the day before and distribut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ssue initiator indicates required attendanc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QA Meeting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lann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iscussion with busine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iscussion with develop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gular Review of open ticke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EA1A-E9FD-4230-806B-BD0FFA11F14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eeting Modaliti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daliti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n pers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Video Conferenc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Voice Conferenc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hared Desktop + Voice Conferenc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os/Cons of each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1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949C-423E-4515-A967-D68EE3DFE12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ace to Face Communic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 verbal message is affected by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e message itself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Paralingual attributes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f the message (ie. the pitch, tone, and inflections in the speaker's voice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Nonverbal communication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(ie. Posture, facial expression, shoulders, tugging on the ears, crossed arms, hand signal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o be an effective communicator, you must ask questions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o you understand me?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Questions help the project team, ask for clarification, and achieve an exact transfer of knowledg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2294-A18C-441C-8AA2-8240D8DEBAC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7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riting Emai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1) Understand </a:t>
            </a: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why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 you’re writ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ave explicit answers for two question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y am I writing this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exactly do I want the result of this message to be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98D7-54B7-4A3F-A42B-1A5A97B227F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riting Emai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2) Get what you ne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ally just three basic types of business email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oviding information - “Larry Tate will be in the ofﬁce Monday at 10.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questing information - “Where did you put the ‘Larry Tate’ ﬁle?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questing action - “Will you call Larry Tate’s admin to conﬁrm our meeting on Monday?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recipient must immediately know which type of email it i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3F67-30D5-4895-A69E-3DDACAA8D15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riting Emai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3) Make One Point per Emai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f you need to communicate a number of different things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onsider writing a separate email on each subject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, especially if they related to different topics or have different timescal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nsider presenting each point in a separate, numbered paragraph, especially if relate to the same project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aking each point stand out, significantly increasing the likelihood that each point will be addresse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F338-0874-41E1-96DA-FD787F077C2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riting Emai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3) Write a great </a:t>
            </a: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Subject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 lin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elp your recipient to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mmediately understand why you’ve sent them an emai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quickly determine what kind of response or action it requir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void “Hi,” “One more thing…,” or “FYI,”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est is a short summary of the most important point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Lunch resched to Friday @ 1p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minder: Monday is "St. Bono’s Day"–no class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Q: Resend Larry Tate zip ﬁle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ELP: I’ve lost the source code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anks for the new liver–works great!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0610-4682-40F5-A30E-36926B7974D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riting Emai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3) Brevity is the soul of…</a:t>
            </a: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getting a respons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e Long Crafted Email: 1%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rbel"/>
              </a:rPr>
              <a:t>Explores nuanc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rbel"/>
              </a:rPr>
              <a:t>Handling political hot potato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e Short Directed Email: 99%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rbel"/>
              </a:rPr>
              <a:t>Make it ﬁt on one screen with </a:t>
            </a:r>
            <a:r>
              <a:rPr b="1" i="1" lang="en-US" sz="2200" spc="-1" strike="noStrike">
                <a:solidFill>
                  <a:srgbClr val="ffffff"/>
                </a:solidFill>
                <a:latin typeface="Corbel"/>
              </a:rPr>
              <a:t>no scrolling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rbel"/>
              </a:rPr>
              <a:t>Better still in the “review space”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rbel"/>
              </a:rPr>
              <a:t>A concise email is much more likely to get ac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But be presise…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5505-BA4E-4AB1-9BE2-C9D87C300D4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Other Process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oject management proc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spection proc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figuration management proc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ange management proc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ocess management proc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ill briefly look at these now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6206-071C-4DE4-9B9B-CF69FB51E42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Corbel"/>
              </a:rPr>
              <a:t>Bad Exampl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419360" y="68544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Corbel"/>
              </a:rPr>
              <a:t>Good Exampl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6840" y="1295280"/>
            <a:ext cx="2971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Subject: Proposa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Lynn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Did you get my proposal last week? I haven't heard back and wanted to make sure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Can you please call me so we can discuss?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Thanks!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rbel"/>
              </a:rPr>
              <a:t>Peter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733560" y="1295280"/>
            <a:ext cx="5257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orbel"/>
              </a:rPr>
              <a:t>Subject: Checking On Reliable Landscapes Proposa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orbel"/>
              </a:rPr>
              <a:t>Lynn,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orbel"/>
              </a:rPr>
              <a:t>I just wanted to check that you have received the landscaping proposal I emailed to you last week. I haven't heard back and wanted to make sure it went through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orbel"/>
              </a:rPr>
              <a:t>Can you please call me by Thursday so we can discuss? This is when our discount offer expires, and I want to make sure you don't miss it!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orbel"/>
              </a:rPr>
              <a:t>The quickest way to contact me is by cell phone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orbel"/>
              </a:rPr>
              <a:t>Thanks!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orbel"/>
              </a:rPr>
              <a:t>Peter Schuell, Owner</a:t>
            </a:r>
            <a:br>
              <a:rPr sz="1700"/>
            </a:br>
            <a:r>
              <a:rPr b="0" i="1" lang="en-US" sz="1700" spc="-1" strike="noStrike">
                <a:solidFill>
                  <a:srgbClr val="ffffff"/>
                </a:solidFill>
                <a:latin typeface="Corbel"/>
              </a:rPr>
              <a:t>Reliable Landscaping, Inc.</a:t>
            </a:r>
            <a:br>
              <a:rPr sz="1700"/>
            </a:br>
            <a:r>
              <a:rPr b="0" i="1" lang="en-US" sz="1700" spc="-1" strike="noStrike">
                <a:solidFill>
                  <a:srgbClr val="ffffff"/>
                </a:solidFill>
                <a:latin typeface="Corbel"/>
              </a:rPr>
              <a:t>555.135.4598 (office)</a:t>
            </a:r>
            <a:br>
              <a:rPr sz="1700"/>
            </a:br>
            <a:r>
              <a:rPr b="0" i="1" lang="en-US" sz="1700" spc="-1" strike="noStrike">
                <a:solidFill>
                  <a:srgbClr val="ffffff"/>
                </a:solidFill>
                <a:latin typeface="Corbel"/>
              </a:rPr>
              <a:t>555.135.2929 (cell)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64AC-FF7F-45F8-9908-C2FDC0FCC8D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1029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Rectangle 1030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63E4-AB5F-439A-B7F2-60E18F96702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5" name="Rectangle 2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ackgroun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ain goal of inspection process is to detect defects in work produc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rst proposed by Fagan in 70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arlier used for code, now used for all types of work produc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s recognized as an industry best practi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ata suggests that it improves both Q&amp;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9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04EF-00D4-4B84-9434-BD359888B1B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304812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Times New Roman"/>
                <a:hlinkClick r:id="rId1"/>
              </a:rPr>
              <a:t>http://en.wikipedia.org/wiki/Fagan_insp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ackgroun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A defect is an instance in which a requirement is not satisfied.”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[Fagan, 1986]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efects injected in sw at any stag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ence must remove them at every stag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spections can be done on any document including design docs and pla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s a good method for early phases like requirements and desig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lso useful for plans (PM plans, CM plans, testing plans,…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70C9-34F0-4BF0-863D-4EEEF7A33F5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me Characteristic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orbel"/>
              </a:rPr>
              <a:t>Conducted by group of technical people for technical people (i.e. review done by peer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orbel"/>
              </a:rPr>
              <a:t>Is a structured process with defined roles for the participa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orbel"/>
              </a:rPr>
              <a:t>The focus is on identifying problems, not resolving the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orbel"/>
              </a:rPr>
              <a:t>Review data is recorded and used for monitoring the effectiven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7811-41C2-4300-85C1-9E35A832DF8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teps in Typical Review Proces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611" name="Object 3"/>
          <p:cNvGraphicFramePr/>
          <p:nvPr/>
        </p:nvGraphicFramePr>
        <p:xfrm>
          <a:off x="762120" y="2666880"/>
          <a:ext cx="768960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66880"/>
                    <a:ext cx="768960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20E6-44CE-4810-9ABE-F0951D9BFF5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lann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lect the group review team – three to five people group is be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dentify the moderator – has the main responsibility for the inspec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epare package for distribution – work product for review plus supporting doc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ckage should be complete for review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7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F5A7-16D0-42C6-BCCF-E20CF05573A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Overview and Self-Review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 brief meeting – deliver package, explain  purpose of the review, intro,…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ll team members then individually review the work produc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ists the issues/problems they find in the self-preparation lo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hecklists, guidelines are us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deally, should be done in one sitting and issues recorded in a lo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1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2B4D-D21A-40B4-827D-3DD26470701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elf-Review Lo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oject nam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ork product name and ID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viewer Nam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ffort spent (hours)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Defect li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2873-DC06-4FFA-8A75-0C844C4ECC7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1295280" y="4343400"/>
          <a:ext cx="7010640" cy="1905120"/>
        </p:xfrm>
        <a:graphic>
          <a:graphicData uri="http://schemas.openxmlformats.org/drawingml/2006/table">
            <a:tbl>
              <a:tblPr/>
              <a:tblGrid>
                <a:gridCol w="609840"/>
                <a:gridCol w="1295280"/>
                <a:gridCol w="3352680"/>
                <a:gridCol w="175284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ritic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Group Review Meet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urpose – define the final defect li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ntry criteri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ach member has done a proper self-review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ogs are review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roup review meet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 reviewer goes over the product line by lin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t any line, all issues are rais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iscussion follows to identify if a defec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ecision recorded (by the scribe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69AB-6D6C-486C-B1AA-8586F99AFA7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1029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1030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97B0-EC50-467B-9DB7-EFEF61DD696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Rectangle 4" descr=""/>
          <p:cNvPicPr/>
          <p:nvPr/>
        </p:nvPicPr>
        <p:blipFill>
          <a:blip r:embed="rId1"/>
          <a:stretch/>
        </p:blipFill>
        <p:spPr>
          <a:xfrm>
            <a:off x="622440" y="4200480"/>
            <a:ext cx="8070840" cy="23036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Group Review Meeting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t the end of the meet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cribe presents the list of defects/issu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few defects, the work product is accepted; else it might be asked for another review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roup does not propose solution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ough some suggestions may be recorde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 summary of the inspections is prepared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seful for evaluating effectivene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B14C-84AE-4EC3-A9CD-F5740E6F100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Group Review Meeting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derator is in-charge of the meeting and plays a central ro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nsures that focus is on defect detection and solutions are not discussed/propos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rbel"/>
              </a:rPr>
              <a:t>Work product is reviewed, not the author of the work produc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micable/orderly execution of the meet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Uses summary report to analyze the overall effectiveness of the review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57A8-D434-49B2-9196-5559BB63753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ummary Report Examp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838080" y="1981080"/>
          <a:ext cx="7772400" cy="42087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208760">
                <a:tc>
                  <a:txBody>
                    <a:bodyPr lIns="86760" rIns="86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ork Product 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ze of work produ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view t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ort (person hour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par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oup mee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6760" marR="86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XX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ject p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 pa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1, P2, P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(tota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5CD7-B110-49C3-A21E-BFED16AF8B4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ummary Contd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1182600" y="2017800"/>
          <a:ext cx="7772400" cy="41720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55800">
                <a:tc>
                  <a:txBody>
                    <a:bodyPr lIns="86760" rIns="86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e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 of critical defe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 of major defe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 of minor defe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view stat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co for next ph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m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6760" marR="86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cep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ice p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F67E-F3B9-4556-9FCC-49ECA4FEBFC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Rework and Follow Up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efects in the defects list are fixed later by the auth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nce fixed, author gets it OKed by the moderator, or goes for another review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nce all defects/issues are satisfactorily addressed, review is completed and collected data is submitt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607A-0188-4B22-8453-400E6A40608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Roles and Responsibiliti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ain ro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oderator – overall responsibilit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uthor –Listen, inform, avoid defensivenes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viewer(s) – to identify defec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ader – not there in some processes, reads line by line to keep focu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cribe – records the issues rais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F450-34AE-41FC-9007-8847C6F0DED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Guidelines for Work Product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457200" y="1886040"/>
          <a:ext cx="8381880" cy="4214880"/>
        </p:xfrm>
        <a:graphic>
          <a:graphicData uri="http://schemas.openxmlformats.org/drawingml/2006/table">
            <a:tbl>
              <a:tblPr/>
              <a:tblGrid>
                <a:gridCol w="1828800"/>
                <a:gridCol w="472428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ork Produ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spection foc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ticipa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q Sp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et customer nee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e implement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missions, inconsistencies, ambigu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ustom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ign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ster, D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aly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L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ign implements req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ign is implement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mmissions, quality of desig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q auth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ign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velop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8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0275-F2D5-4CB5-81C2-7AF1FC76C31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Guidelines for Work Product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1182600" y="2017800"/>
          <a:ext cx="7772400" cy="4316400"/>
        </p:xfrm>
        <a:graphic>
          <a:graphicData uri="http://schemas.openxmlformats.org/drawingml/2006/table">
            <a:tbl>
              <a:tblPr/>
              <a:tblGrid>
                <a:gridCol w="1303560"/>
                <a:gridCol w="4706640"/>
                <a:gridCol w="1762200"/>
              </a:tblGrid>
              <a:tr h="1503720">
                <a:tc>
                  <a:txBody>
                    <a:bodyPr lIns="86760" rIns="86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6760" marR="86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de implements desig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de is complete and corre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ects in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her quality iss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ign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velop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86760" rIns="86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st ca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6760" marR="86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t of test cases test all SRS condi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st cases are execut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e perf and load tests the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q auth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j mg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86760" rIns="86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j Mgmt Pl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6760" marR="86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n is complete and specifies all components of the pl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s implement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missions and ambigu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j mg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other Proj mg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F908-58AD-46CB-BD3F-82EE8688102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ummar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urpose of reviews: to detect defec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ructured reviews are very effective - can detect most of the injected defec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r effective review, process has to be properly defined and follow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ata must be collected and analyz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6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52EA-8BF5-4B06-A1AA-B5D0B7AFE6A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29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tangle 1030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D0D5-240D-441D-A8D0-69082C8439A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0" name="Rectangle 2" descr=""/>
          <p:cNvPicPr/>
          <p:nvPr/>
        </p:nvPicPr>
        <p:blipFill>
          <a:blip r:embed="rId1"/>
          <a:stretch/>
        </p:blipFill>
        <p:spPr>
          <a:xfrm>
            <a:off x="573120" y="4170240"/>
            <a:ext cx="8120160" cy="26085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he Typical PMs Ro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verall responsibility for the successful planning, execution, monitoring, control and closure of a projec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mary point of contact with project sponso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Key task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lan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ee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ommunicat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oject Management == Leadershi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6220-CA14-44C2-B690-30DB25880AC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ackgroun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software project produces many items - programs, documents, data, manuals, 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ll of these can be changed easily – need to keep track state of it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oftware Configuration Management (SCM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ystematically control the chang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cus on changes during normal evolution (req changes will be handled separately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M requires discipline as well as too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4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9CD4-C753-4D3D-BACF-540C52596BE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ackgroun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CM often independent of dev proc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ev process looks at macro picture, but not on changes to individual items/fil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s items are produced during dev they are brought under SC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CM controls only the products of the development proc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8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1541-95DA-483A-AF9C-5C6E82999BC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SCM Process and Dev proces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81" name="Picture 5" descr="Fig2-14"/>
          <p:cNvPicPr/>
          <p:nvPr/>
        </p:nvPicPr>
        <p:blipFill>
          <a:blip r:embed="rId1"/>
          <a:stretch/>
        </p:blipFill>
        <p:spPr>
          <a:xfrm>
            <a:off x="1293840" y="1935000"/>
            <a:ext cx="7013520" cy="4270680"/>
          </a:xfrm>
          <a:prstGeom prst="rect">
            <a:avLst/>
          </a:prstGeom>
          <a:ln w="0">
            <a:noFill/>
          </a:ln>
        </p:spPr>
      </p:pic>
      <p:sp>
        <p:nvSpPr>
          <p:cNvPr id="682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A574-A9C4-4F1C-9A43-BD8F8A77B21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Need for C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M needed to deliver product to the cli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files should comprise the product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versions of these files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ow to combine these to make the product?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ust for this, versioning is needed, and state of different items has to be tracked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re are other functions of CM als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6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D4A9-29B7-46A3-A0B7-7DD28B49AB6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unctionality Neede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apture current state of progra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apture latest version of a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ndo a change and revert back to a specified vers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event unauthorized chang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ather all sources, documents, and other information for the current syste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0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0B6F-DA13-4901-8771-F7848AC2542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M Mechanis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figuration identification and baselin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ersion contr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ccess contr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se are the main mechanisms, there are others lik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2240" indent="-28296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aming conventions,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2240" indent="-28296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irectory structure,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CED1-6850-44F7-8B79-43680042691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figuration Ite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w consists of many items/artifac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CM some identified items are placed under CM contr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anges to these are then track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eriodically, system is built using these items and baselines are establish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aseline – logical state of the system and all its items; is a reference poi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AD43-EEC2-48C8-8BB7-3F5608739AF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Version and access contro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Key issues in C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one primarily on source code through source code control systems, which also provide access contro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llows older versions to be preserved and hence can undo chang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VS – Original open source system (1986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ubversion – Open source CVS replacement (1999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icrosoft Visual SourceSafe (VSS) – targeted for smaller dev projec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BM Rational ClearCase – Industrial strength solu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E8D8-5C54-4A4F-B4B8-25885E074FB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Version and Access Control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en programmer developing code – is in private are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en code is made available to others, it goes in an access-controlled librar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r making changes to an item in library, it has to be checked ou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anges made by checking-in the item – versioning is automatically don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nal system is built from the librar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6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684B-46A6-483C-9D7A-DA9BA369BD2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Version/Access Contro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enerally both version and access control done through CM too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ols limit access to specified people - formal check in, check out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utomatic versioning done when a changed file is checked-i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eck-in, check-out control may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be restricted to a few people in a projec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quire successful compile/build cycl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0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0F27-D647-4CF9-BBF1-177F816E849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10 Qualities of a P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Inspires a Shared Vis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Good Communicato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Integrit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Enthusias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Empath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Competenc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Ability to Delegate Task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Cool Under Pressur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Team-Building Skill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Problem Solving Skill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4384-BEA0-4197-ACDD-46F0141A17D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Picture 2" descr="Hand writing management qualities"/>
          <p:cNvPicPr/>
          <p:nvPr/>
        </p:nvPicPr>
        <p:blipFill>
          <a:blip r:embed="rId1"/>
          <a:stretch/>
        </p:blipFill>
        <p:spPr>
          <a:xfrm>
            <a:off x="5791320" y="1371600"/>
            <a:ext cx="3200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M Proces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efines the activities for controlling chang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ain phas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M Plann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xecuting the CM proces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M audi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F312-EF93-4779-8A43-7CB286C4FD6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M Plann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7621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dentify items to be placed under C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efine library structure for C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efine change control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efine access control, baselining, reconciliation,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efine release procedur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658F-BFD9-4D50-83DF-1A68B327CF1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M Audi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uring project execution CM procedures have to be followed (e.g. moving items between directories, naming, following change procedures, …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ocess audit has to be don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M audit can also check if items are where they should b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73F5-1A51-45E0-819D-8D46E249B2F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ummary – C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M is about managing the different items in the product, and changes in the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eveloping a CM plan at the start is the key to successful to C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M procedures have to be followed; audits have to be perform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quires discipline and too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6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F336-F1F9-4B35-A3A7-F6F61FC24BF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1029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1030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72E5-A5FA-407A-B0CA-D7F2C26E60C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0" name="Rectangle 4" descr=""/>
          <p:cNvPicPr/>
          <p:nvPr/>
        </p:nvPicPr>
        <p:blipFill>
          <a:blip r:embed="rId1"/>
          <a:stretch/>
        </p:blipFill>
        <p:spPr>
          <a:xfrm>
            <a:off x="573120" y="4170240"/>
            <a:ext cx="8424720" cy="260856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ackgroun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quirements change at any time during the develop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anges impact the work products and the various configuration item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ncontrolled changes can have a huge adverse impact on project in cost/sched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anges have to be allowed, but in a controlled mann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4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E6D7-40E6-42DD-BA12-A0B053F5E6A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 Change Mgmt Proces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g the change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erform impact analysis on the work products and item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stimate impact on effort and schedule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view impact with stakeholder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work the work products/it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8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A8A6-353A-484D-B3D0-614DA6C767C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hang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ange often triggered by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change reque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ange req log keeps a record of reques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mpact analysis for a change request involves identifying the changes needed to diff items, and the nature of chang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impact of changes on the project is reviewed to decide whether to go ahea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umulative changes also often tracked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2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9FF2-5517-461C-BFED-846D6BD2C92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does a PM do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evelopment process divides development into phases and activiti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 execute it efficiently, must allocate resources, manage them, monitor progress, take corrective actions, 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se are all part of the PM proc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ence, PM process is an essential part of executing a projec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B5FF-8C96-4230-A082-1EE9D4CFD46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M Process Phas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re are three broad phas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Before: Plann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ur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onitoring and contro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mmunication facilit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fter: Postmortem analysi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lanning is a key activity that produces a plan, which forms the basis of monitor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Other Proces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2A4D-AAEB-4209-A8FA-1E66CD326DE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09:46:24Z</dcterms:created>
  <dc:creator>Najam</dc:creator>
  <dc:description/>
  <dc:language>en-US</dc:language>
  <cp:lastModifiedBy>Kirstie</cp:lastModifiedBy>
  <dcterms:modified xsi:type="dcterms:W3CDTF">2011-05-05T18:38:55Z</dcterms:modified>
  <cp:revision>45</cp:revision>
  <dc:subject/>
  <dc:title>Project Management - Monitoring and Control</dc:title>
</cp:coreProperties>
</file>