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388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 type="sldNum" idx="6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ABE5C62-2F28-41F4-BF52-EBE7324FEF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7F2AB06-1804-4F00-8E5A-83A22E9B15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345E94C-C65A-416B-85FB-48842C1AE3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CF25440-FF5A-49B0-A8F7-4996527370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CB9085F-0FD4-433A-BBFB-4FCD43DD03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CB44EFC-197F-4BF1-8674-7EACDC569D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4983F47-AE54-4F21-A8E5-6958F8C544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385128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52E9-A927-49A2-8AD7-B0DBABC3D483}" type="datetime">
              <a:rPr b="0" lang="en-GB" sz="1200" spc="-1" strike="noStrike">
                <a:solidFill>
                  <a:srgbClr val="000000"/>
                </a:solidFill>
                <a:latin typeface="Tahoma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715A-01F9-4E2A-AE21-B0CF876138A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7B8697A-8634-49C3-9F59-11D2EBF2E0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CF63C7B-20F5-4741-9853-809B6CBB1C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F7E3-B22F-4A6E-B79B-10EC8449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43120" y="618840"/>
            <a:ext cx="72612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25400" y="1974960"/>
            <a:ext cx="721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625400" y="4124520"/>
            <a:ext cx="721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DCDF-6483-4D2B-8A2B-DEEF36A4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43120" y="618840"/>
            <a:ext cx="72612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25400" y="1974960"/>
            <a:ext cx="35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1880" y="1974960"/>
            <a:ext cx="35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625400" y="4124520"/>
            <a:ext cx="35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21880" y="4124520"/>
            <a:ext cx="35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5322-1D48-4C57-96AF-FF83821B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43120" y="618840"/>
            <a:ext cx="72612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25400" y="1974960"/>
            <a:ext cx="232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064400" y="1974960"/>
            <a:ext cx="232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503040" y="1974960"/>
            <a:ext cx="232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625400" y="4124520"/>
            <a:ext cx="232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4064400" y="4124520"/>
            <a:ext cx="232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503040" y="4124520"/>
            <a:ext cx="232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D0CA-57F0-4B88-B334-A18E6082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43120" y="618840"/>
            <a:ext cx="72612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625400" y="1974960"/>
            <a:ext cx="7213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CFAA-7236-43B2-97EE-B4D0B895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3120" y="618840"/>
            <a:ext cx="72612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25400" y="1974960"/>
            <a:ext cx="721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CE9A-B2E4-421D-A101-44E9C074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43120" y="618840"/>
            <a:ext cx="72612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25400" y="1974960"/>
            <a:ext cx="352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21880" y="1974960"/>
            <a:ext cx="352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C570-8616-4887-B94C-11E43925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3120" y="618840"/>
            <a:ext cx="72612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0732-A0BA-4CAA-AF0B-B7EA6DE2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743120" y="618840"/>
            <a:ext cx="7261200" cy="27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DFBB-9029-42D9-804A-827C2699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43120" y="618840"/>
            <a:ext cx="72612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5400" y="1974960"/>
            <a:ext cx="35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21880" y="1974960"/>
            <a:ext cx="352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25400" y="4124520"/>
            <a:ext cx="35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04E6-6774-466F-828D-22F764A0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3120" y="618840"/>
            <a:ext cx="72612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25400" y="1974960"/>
            <a:ext cx="352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21880" y="1974960"/>
            <a:ext cx="35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21880" y="4124520"/>
            <a:ext cx="35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2BA7-48A6-4CB9-851C-EF6CA4B2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43120" y="618840"/>
            <a:ext cx="72612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25400" y="1974960"/>
            <a:ext cx="35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21880" y="1974960"/>
            <a:ext cx="35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625400" y="4124520"/>
            <a:ext cx="721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FEFC-1A2E-4C96-862C-B37B695B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9"/>
          <p:cNvSpPr/>
          <p:nvPr/>
        </p:nvSpPr>
        <p:spPr>
          <a:xfrm>
            <a:off x="-1008000" y="0"/>
            <a:ext cx="288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8B25-EF7D-4CDF-8B98-3B1C3AF9E781}" type="slidenum">
              <a:rPr b="1" lang="en-GB" sz="4400" spc="-1" strike="noStrike">
                <a:solidFill>
                  <a:srgbClr val="d00045"/>
                </a:solidFill>
                <a:latin typeface="Arial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43120" y="618840"/>
            <a:ext cx="72612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25400" y="1974960"/>
            <a:ext cx="721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73040">
              <a:spcBef>
                <a:spcPts val="700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08200" indent="-190440">
              <a:spcBef>
                <a:spcPts val="700"/>
              </a:spcBef>
              <a:buClr>
                <a:srgbClr val="cd1f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63196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0510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0510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0510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4"/>
          <p:cNvSpPr/>
          <p:nvPr/>
        </p:nvSpPr>
        <p:spPr>
          <a:xfrm>
            <a:off x="1741320" y="324000"/>
            <a:ext cx="0" cy="126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17"/>
          <p:cNvSpPr/>
          <p:nvPr/>
        </p:nvSpPr>
        <p:spPr>
          <a:xfrm>
            <a:off x="-14400" y="2819520"/>
            <a:ext cx="1446480" cy="4038480"/>
          </a:xfrm>
          <a:custGeom>
            <a:avLst/>
            <a:gdLst/>
            <a:ahLst/>
            <a:rect l="l" t="t" r="r" b="b"/>
            <a:pathLst>
              <a:path w="911" h="2544">
                <a:moveTo>
                  <a:pt x="0" y="0"/>
                </a:moveTo>
                <a:lnTo>
                  <a:pt x="911" y="1376"/>
                </a:lnTo>
                <a:lnTo>
                  <a:pt x="911" y="2521"/>
                </a:lnTo>
                <a:lnTo>
                  <a:pt x="1" y="254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8"/>
          <p:cNvSpPr/>
          <p:nvPr/>
        </p:nvSpPr>
        <p:spPr>
          <a:xfrm>
            <a:off x="1353960" y="4789440"/>
            <a:ext cx="20988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9"/>
          <p:cNvSpPr/>
          <p:nvPr/>
        </p:nvSpPr>
        <p:spPr>
          <a:xfrm>
            <a:off x="1357200" y="4876920"/>
            <a:ext cx="76320" cy="19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20"/>
          <p:cNvSpPr/>
          <p:nvPr/>
        </p:nvSpPr>
        <p:spPr>
          <a:xfrm>
            <a:off x="-76320" y="1676520"/>
            <a:ext cx="1704960" cy="3733560"/>
          </a:xfrm>
          <a:custGeom>
            <a:avLst/>
            <a:gdLst/>
            <a:ahLst/>
            <a:rect l="l" t="t" r="r" b="b"/>
            <a:pathLst>
              <a:path w="1074" h="2352">
                <a:moveTo>
                  <a:pt x="39" y="0"/>
                </a:moveTo>
                <a:cubicBezTo>
                  <a:pt x="39" y="0"/>
                  <a:pt x="0" y="777"/>
                  <a:pt x="23" y="968"/>
                </a:cubicBezTo>
                <a:lnTo>
                  <a:pt x="179" y="1147"/>
                </a:lnTo>
                <a:cubicBezTo>
                  <a:pt x="237" y="1212"/>
                  <a:pt x="310" y="1281"/>
                  <a:pt x="374" y="1357"/>
                </a:cubicBezTo>
                <a:cubicBezTo>
                  <a:pt x="438" y="1433"/>
                  <a:pt x="495" y="1523"/>
                  <a:pt x="561" y="1606"/>
                </a:cubicBezTo>
                <a:cubicBezTo>
                  <a:pt x="627" y="1689"/>
                  <a:pt x="690" y="1731"/>
                  <a:pt x="771" y="1855"/>
                </a:cubicBezTo>
                <a:cubicBezTo>
                  <a:pt x="942" y="2086"/>
                  <a:pt x="978" y="2223"/>
                  <a:pt x="1047" y="2352"/>
                </a:cubicBezTo>
                <a:lnTo>
                  <a:pt x="1074" y="2190"/>
                </a:lnTo>
                <a:lnTo>
                  <a:pt x="1059" y="2042"/>
                </a:lnTo>
                <a:lnTo>
                  <a:pt x="942" y="1723"/>
                </a:lnTo>
                <a:cubicBezTo>
                  <a:pt x="850" y="1541"/>
                  <a:pt x="657" y="1239"/>
                  <a:pt x="506" y="952"/>
                </a:cubicBezTo>
                <a:cubicBezTo>
                  <a:pt x="355" y="665"/>
                  <a:pt x="136" y="198"/>
                  <a:pt x="39" y="0"/>
                </a:cubicBez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21"/>
          <p:cNvSpPr/>
          <p:nvPr/>
        </p:nvSpPr>
        <p:spPr>
          <a:xfrm>
            <a:off x="-14400" y="5257800"/>
            <a:ext cx="1371600" cy="914400"/>
          </a:xfrm>
          <a:custGeom>
            <a:avLst/>
            <a:gdLst/>
            <a:ahLst/>
            <a:rect l="l" t="t" r="r" b="b"/>
            <a:pathLst>
              <a:path w="864" h="576">
                <a:moveTo>
                  <a:pt x="0" y="0"/>
                </a:moveTo>
                <a:lnTo>
                  <a:pt x="708" y="432"/>
                </a:lnTo>
                <a:lnTo>
                  <a:pt x="864" y="576"/>
                </a:lnTo>
              </a:path>
            </a:pathLst>
          </a:cu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22"/>
          <p:cNvSpPr/>
          <p:nvPr/>
        </p:nvSpPr>
        <p:spPr>
          <a:xfrm flipV="1">
            <a:off x="595440" y="3657240"/>
            <a:ext cx="0" cy="3048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23"/>
          <p:cNvSpPr/>
          <p:nvPr/>
        </p:nvSpPr>
        <p:spPr>
          <a:xfrm flipV="1">
            <a:off x="1052640" y="4266720"/>
            <a:ext cx="0" cy="2590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24"/>
          <p:cNvSpPr/>
          <p:nvPr/>
        </p:nvSpPr>
        <p:spPr>
          <a:xfrm flipV="1">
            <a:off x="1357200" y="46483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25"/>
          <p:cNvSpPr/>
          <p:nvPr/>
        </p:nvSpPr>
        <p:spPr>
          <a:xfrm>
            <a:off x="-58680" y="6629400"/>
            <a:ext cx="1644480" cy="230040"/>
          </a:xfrm>
          <a:custGeom>
            <a:avLst/>
            <a:gdLst/>
            <a:ahLst/>
            <a:rect l="l" t="t" r="r" b="b"/>
            <a:pathLst>
              <a:path w="1036" h="145">
                <a:moveTo>
                  <a:pt x="28" y="0"/>
                </a:moveTo>
                <a:lnTo>
                  <a:pt x="417" y="27"/>
                </a:lnTo>
                <a:lnTo>
                  <a:pt x="830" y="66"/>
                </a:lnTo>
                <a:lnTo>
                  <a:pt x="1001" y="90"/>
                </a:lnTo>
                <a:lnTo>
                  <a:pt x="1036" y="144"/>
                </a:lnTo>
                <a:lnTo>
                  <a:pt x="0" y="145"/>
                </a:lnTo>
                <a:lnTo>
                  <a:pt x="28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26"/>
          <p:cNvSpPr/>
          <p:nvPr/>
        </p:nvSpPr>
        <p:spPr>
          <a:xfrm flipV="1">
            <a:off x="1433520" y="48765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dt" idx="1"/>
          </p:nvPr>
        </p:nvSpPr>
        <p:spPr>
          <a:xfrm>
            <a:off x="18601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BEDB-5837-4B00-A8C9-7CDAE62E63A0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 Conrad                                           University of Bedfordsh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sldNum" idx="3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7773-75B8-4464-B737-A37AD1943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vr-it.com/" TargetMode="External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18604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3173-660D-4BEF-841A-EB5FBA15548B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F997-AE68-42AB-983D-4BCDE4FEC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779480" y="2099880"/>
            <a:ext cx="7150320" cy="19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Project Initi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 rot="3046800">
            <a:off x="-586440" y="3595320"/>
            <a:ext cx="29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18604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41E9-EAAA-4DB1-82D5-877F69EF243C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614A-8164-47E3-A9FA-108B8FF15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3120" y="618840"/>
            <a:ext cx="72612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Organizational Process Asse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81040" y="1447560"/>
            <a:ext cx="73152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81960" indent="-3819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presents the organization’s processes and procedures and the organization’s learning and knowledge (“Lessons learned”), e.g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4720" indent="-46800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Organizational standard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4720" indent="-46800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tandardized guidelines, templates, work instructions, evaluation crite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4720" indent="-46800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Project closure guidelines or requirements (e.g. audi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4720" indent="-46800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Financial control proced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4720" indent="-46800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Information about previous projects (and why they fail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4720" indent="-46800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Historical information (e.g. identified risk even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4720" indent="-46800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 rot="3046800">
            <a:off x="-586440" y="3595320"/>
            <a:ext cx="29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ject Ch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43120" y="618840"/>
            <a:ext cx="72612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Stakeholder Analysi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25400" y="1974960"/>
            <a:ext cx="7213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takeholder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re individuals, work groups and organizations that ar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ctively involved in the projec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, or whos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terests can b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ositively or negatively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ffect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s the result of project execution or project comple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akeholder analysis serves two purpos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730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o determine the information needs of the various stakehold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730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o devise a communication strategy that will best serve the projec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e Kathy Schwalbe’s book for an examp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2760" y="618840"/>
            <a:ext cx="624996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Example of a “Stakeholder Analysis” that went utterly wrong.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25400" y="1974960"/>
            <a:ext cx="6692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-3859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6600"/>
                </a:solidFill>
                <a:latin typeface="Arial"/>
              </a:rPr>
              <a:t>Scottish election fiasco, 2007, some quot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7304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 per cent of ballot papers - 146,000 in total - were rejected because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voters were confused by the new syst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7304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…]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liticia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pent so long squabbling over the Holyrood voting system that the 2007 election was doomed to chao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7304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voter was treated as an afterthough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virtually all the other stakeholder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7304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ters were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overlooked as the most important stakehold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 every stage of the electio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43120" y="618840"/>
            <a:ext cx="72612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ypical Roles and Responsibilities</a:t>
            </a:r>
            <a:br>
              <a:rPr sz="2800"/>
            </a:b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of Stakeholder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84200" y="1349280"/>
            <a:ext cx="74548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ject Spons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7304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one with the mon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nior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7304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.g. priorities between projects, project char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7304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oes Planning and Exec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unctional Manager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7304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wns” resources (IT, marketing, etc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ject Mana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7304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individual responsible for the pro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ther Stakehol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7304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ustomer, external experts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3"/>
          <p:cNvSpPr/>
          <p:nvPr/>
        </p:nvSpPr>
        <p:spPr>
          <a:xfrm>
            <a:off x="18604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525E-959C-4467-B880-4D6E172A9C84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2542-C001-477C-89B2-FFE058C29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43120" y="618840"/>
            <a:ext cx="72612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17680" y="1600200"/>
            <a:ext cx="7213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-38592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fference between Project Charter and Project Management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wo processes for Project Init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73040">
              <a:spcBef>
                <a:spcPts val="601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ject Cha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73040">
              <a:spcBef>
                <a:spcPts val="601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akeholder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 rot="3530400">
            <a:off x="-692640" y="3463560"/>
            <a:ext cx="29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9"/>
          <p:cNvSpPr/>
          <p:nvPr/>
        </p:nvSpPr>
        <p:spPr>
          <a:xfrm>
            <a:off x="3467160" y="1913040"/>
            <a:ext cx="1244520" cy="794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defini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3120" y="618840"/>
            <a:ext cx="72612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roject Management Processes</a:t>
            </a:r>
            <a:br>
              <a:rPr sz="2800"/>
            </a:b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(Initiation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933480" y="1887480"/>
            <a:ext cx="150804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"/>
          <p:cNvSpPr/>
          <p:nvPr/>
        </p:nvSpPr>
        <p:spPr>
          <a:xfrm>
            <a:off x="2511360" y="2198520"/>
            <a:ext cx="855720" cy="22320"/>
          </a:xfrm>
          <a:prstGeom prst="line">
            <a:avLst/>
          </a:prstGeom>
          <a:ln w="507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1500120" y="3824280"/>
            <a:ext cx="1666800" cy="794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estimates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>
            <a:off x="4906800" y="2163600"/>
            <a:ext cx="855720" cy="22320"/>
          </a:xfrm>
          <a:prstGeom prst="line">
            <a:avLst/>
          </a:prstGeom>
          <a:ln w="507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954760" y="1946160"/>
            <a:ext cx="98856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"/>
          <p:cNvSpPr/>
          <p:nvPr/>
        </p:nvSpPr>
        <p:spPr>
          <a:xfrm flipH="1">
            <a:off x="2822040" y="2579760"/>
            <a:ext cx="3356280" cy="1063440"/>
          </a:xfrm>
          <a:prstGeom prst="line">
            <a:avLst/>
          </a:prstGeom>
          <a:ln w="507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3282120" y="3822840"/>
            <a:ext cx="2388960" cy="794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ctivity diagrams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5843880" y="3813120"/>
            <a:ext cx="3128040" cy="794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RACI matrix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2"/>
          <p:cNvSpPr/>
          <p:nvPr/>
        </p:nvSpPr>
        <p:spPr>
          <a:xfrm flipH="1">
            <a:off x="4257360" y="2612880"/>
            <a:ext cx="1942920" cy="1133640"/>
          </a:xfrm>
          <a:prstGeom prst="line">
            <a:avLst/>
          </a:prstGeom>
          <a:ln w="507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3"/>
          <p:cNvSpPr/>
          <p:nvPr/>
        </p:nvSpPr>
        <p:spPr>
          <a:xfrm>
            <a:off x="6272280" y="2612880"/>
            <a:ext cx="649080" cy="1098720"/>
          </a:xfrm>
          <a:prstGeom prst="line">
            <a:avLst/>
          </a:prstGeom>
          <a:ln w="507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15"/>
          <p:cNvSpPr/>
          <p:nvPr/>
        </p:nvSpPr>
        <p:spPr>
          <a:xfrm>
            <a:off x="138240" y="1389240"/>
            <a:ext cx="3508200" cy="1909440"/>
          </a:xfrm>
          <a:custGeom>
            <a:avLst/>
            <a:gdLst/>
            <a:ahLst/>
            <a:rect l="l" t="t" r="r" b="b"/>
            <a:pathLst>
              <a:path w="2210" h="1203">
                <a:moveTo>
                  <a:pt x="0" y="1203"/>
                </a:moveTo>
                <a:cubicBezTo>
                  <a:pt x="259" y="1150"/>
                  <a:pt x="1186" y="1082"/>
                  <a:pt x="1554" y="882"/>
                </a:cubicBezTo>
                <a:cubicBezTo>
                  <a:pt x="1919" y="701"/>
                  <a:pt x="2073" y="184"/>
                  <a:pt x="2210" y="0"/>
                </a:cubicBezTo>
              </a:path>
            </a:pathLst>
          </a:cu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-78120" y="2320920"/>
            <a:ext cx="270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Project Ch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4800960" y="136224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Project Management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 rot="20884200">
            <a:off x="1903680" y="282708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ahoma"/>
              </a:rPr>
              <a:t>Project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ahoma"/>
              </a:rPr>
              <a:t>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18604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48EB-DFFC-4855-A482-35B319734148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9A30-4467-4444-BEC3-93521A2CF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43120" y="618840"/>
            <a:ext cx="72612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roject Charter and Project Management Plan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erminology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15960" y="1306440"/>
            <a:ext cx="72136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rminology comes from the PMBOK® but similar documents exist in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roject. Other terms used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73040">
              <a:spcBef>
                <a:spcPts val="601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ject Charter: Project Initiation Document, Project Mandate, Project Brief, Letter of Agreement, Statement of 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73040">
              <a:spcBef>
                <a:spcPts val="601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ject Management Plan: Strategy Plan, Project Execution Plan, Project Pl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 rot="3046800">
            <a:off x="-586440" y="3595320"/>
            <a:ext cx="29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18604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0141-F2E9-4DE7-BFAD-6D3B47E12580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B9F5-9230-4FB8-BA6D-3DEE51C6F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43120" y="618840"/>
            <a:ext cx="72612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roject Charter and Project Management Plan</a:t>
            </a:r>
            <a:br>
              <a:rPr sz="2400"/>
            </a:b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The Main Concep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42960" y="1793880"/>
            <a:ext cx="7213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-38592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ject Charter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73040">
              <a:spcBef>
                <a:spcPts val="601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es from “outside” the project and defines the projec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73040">
              <a:spcBef>
                <a:spcPts val="601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changed during the projec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ject Management Plan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73040">
              <a:spcBef>
                <a:spcPts val="601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wned by the project tea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73040">
              <a:spcBef>
                <a:spcPts val="601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stantly updated during the course of the projec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 rot="3046800">
            <a:off x="-586440" y="3595320"/>
            <a:ext cx="29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18604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57DF-C0D3-41CC-934B-F4FECA990B34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6E79-3010-486A-8943-9BA0AC33E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04960" y="360360"/>
            <a:ext cx="72612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wo Processes in Project Initat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440" y="1998720"/>
            <a:ext cx="6340320" cy="241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85920" indent="-3859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Develop Project Cha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takeholder Analysi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 rot="3046800">
            <a:off x="-586440" y="3595320"/>
            <a:ext cx="29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4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6B1E-AC5B-4435-A974-6037CD1FCB2A}" type="datetime">
              <a:rPr b="0" lang="en-GB" sz="1400" spc="-1" strike="noStrike">
                <a:solidFill>
                  <a:srgbClr val="000000"/>
                </a:solidFill>
                <a:latin typeface="Tahoma"/>
              </a:rPr>
              <a:t>29/07/26</a:t>
            </a:fld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327224FB-7CD9-4BB5-A487-364416CEB656}" type="datetime12">
              <a:rPr b="0" lang="en-GB" sz="1400" spc="-1" strike="noStrike">
                <a:solidFill>
                  <a:srgbClr val="000000"/>
                </a:solidFill>
                <a:latin typeface="Tahoma"/>
              </a:rPr>
              <a:t>04:52 PM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6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67D3-2D24-48BA-AA7E-70DA18A890FC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7193880" y="1873080"/>
            <a:ext cx="193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xample from </a:t>
            </a:r>
            <a:r>
              <a:rPr b="0" lang="en-GB" sz="1000" spc="-1" strike="noStrike" u="sng">
                <a:solidFill>
                  <a:srgbClr val="663300"/>
                </a:solidFill>
                <a:uFillTx/>
                <a:latin typeface="Arial"/>
                <a:hlinkClick r:id="rId1"/>
              </a:rPr>
              <a:t>www.cvr-it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9040" y="323640"/>
            <a:ext cx="3165480" cy="65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 Project Charter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(Definition)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94960" y="1936800"/>
            <a:ext cx="6147000" cy="29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-3859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project charter is a document that formally recognizes the existence of a project. It describes the product to be delivered and addresses the business need of the projec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charter should be SMAR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7304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7304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asur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7304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hiev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7304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alist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7304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ime-specif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2"/>
          <p:cNvGraphicFramePr/>
          <p:nvPr/>
        </p:nvGraphicFramePr>
        <p:xfrm>
          <a:off x="7399440" y="325440"/>
          <a:ext cx="1501560" cy="1717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9440" y="325440"/>
                    <a:ext cx="150156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Rectangle 5"/>
          <p:cNvSpPr/>
          <p:nvPr/>
        </p:nvSpPr>
        <p:spPr>
          <a:xfrm>
            <a:off x="3995640" y="3573360"/>
            <a:ext cx="5148360" cy="3284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5920" indent="-385920"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96600"/>
                </a:solidFill>
                <a:latin typeface="Arial"/>
              </a:rPr>
              <a:t>Typical contents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73040">
              <a:spcBef>
                <a:spcPts val="451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ject Title, Start &amp; Finish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73040">
              <a:spcBef>
                <a:spcPts val="451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dge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73040">
              <a:spcBef>
                <a:spcPts val="451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ject Manager (contact addr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73040">
              <a:spcBef>
                <a:spcPts val="451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ject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73040">
              <a:spcBef>
                <a:spcPts val="451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73040">
              <a:spcBef>
                <a:spcPts val="451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oles and Responsibilities (Sign of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73040">
              <a:spcBef>
                <a:spcPts val="451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ments (from stakehold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0"/>
          <p:cNvGraphicFramePr/>
          <p:nvPr/>
        </p:nvGraphicFramePr>
        <p:xfrm>
          <a:off x="5530680" y="36360"/>
          <a:ext cx="812880" cy="1339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4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30680" y="36360"/>
                    <a:ext cx="81288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2"/>
          <p:cNvSpPr/>
          <p:nvPr/>
        </p:nvSpPr>
        <p:spPr>
          <a:xfrm>
            <a:off x="5219640" y="1484280"/>
            <a:ext cx="160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xample: Prince2 P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4"/>
          <p:cNvSpPr/>
          <p:nvPr/>
        </p:nvSpPr>
        <p:spPr>
          <a:xfrm>
            <a:off x="18604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D3C9-EE03-43D7-A150-FB00879BD64B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6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73E9-256D-47C0-B69F-4CA5C787F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82600" y="441360"/>
            <a:ext cx="678492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puts to the PMBOK® Process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“Develop Project  Charter”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4840" y="2003040"/>
            <a:ext cx="6919920" cy="24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ject statement of work, Business Case and/or Contra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terprise environmental fac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ganizational process ass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999800" y="4079880"/>
            <a:ext cx="6805800" cy="1951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85920" indent="-3859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e0c46"/>
                </a:solidFill>
                <a:latin typeface="Arial"/>
              </a:rPr>
              <a:t>Reasons for project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73040">
              <a:spcBef>
                <a:spcPts val="601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usiness ne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73040">
              <a:spcBef>
                <a:spcPts val="601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Product scope de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73040">
              <a:spcBef>
                <a:spcPts val="601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trategic pl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 rot="3046800">
            <a:off x="-586440" y="3595320"/>
            <a:ext cx="29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ject Ch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3120" y="618840"/>
            <a:ext cx="72612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Example (Your Assignment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193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ou make media artefacts and integrated into Web 2.0 contex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7304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(Contract and/or Project statement of wor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ou meet in the lab space at the Univers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7304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(Enterprise environmental factor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ou use PRINCE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7304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(Organizational Process Asset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 rot="3046800">
            <a:off x="-586440" y="3595320"/>
            <a:ext cx="29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ject Ch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18604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3B05-4A3E-4BC1-B407-43B26BA4554F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72B6-5BD7-481C-9E13-34EF21D4A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3120" y="618840"/>
            <a:ext cx="72612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Examples of Enterprise Environmental Factor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25400" y="1728720"/>
            <a:ext cx="721332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-38592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rganizational or company culture and stru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frastructure, for example, existing facilities and capital equip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isting human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ersonnel administration (e.g. hiring and firing guidelines, employee performance review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rketplace cond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 rot="3046800">
            <a:off x="-586440" y="3595320"/>
            <a:ext cx="29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ject Ch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1T16:50:40Z</dcterms:created>
  <dc:creator>Marc Conrad</dc:creator>
  <dc:description/>
  <dc:language>en-US</dc:language>
  <cp:lastModifiedBy>contact@xlsxtemp.com</cp:lastModifiedBy>
  <dcterms:modified xsi:type="dcterms:W3CDTF">2017-06-30T10:58:15Z</dcterms:modified>
  <cp:revision>411</cp:revision>
  <dc:subject/>
  <dc:title>Project Initiation</dc:title>
</cp:coreProperties>
</file>