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5FB4-9AAA-453C-8517-9654452A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ECC1-B17C-489F-BCA3-FFBC67675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5A91-3434-44BD-A99D-908D7CAE0A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ACD3-3432-4B15-9C6B-B84A299F9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7533-7B2B-4E98-88A5-204CBFBFE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2FD-000E-4271-B8EC-E63CAE2E5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678-A0EF-4BE8-8450-E8737804F4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E41-61FF-47D9-B6D2-BAA52BB9F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C72-F46F-4136-975E-301A20EEEB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D26C-F6F8-4384-B181-169002835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15C-F5C7-4C8C-B6B0-2A0520591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D0A-6FDD-4140-959E-140838425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19C-89A2-49CA-9C1D-B2E593640C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D83-4B6D-446B-A44A-CE072B1E8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81EF-18CF-4D33-A81E-2A9C7A562F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679E-05BB-4AAC-83F5-9D05FB5B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B54D-9C3C-4C35-8EBD-0F388CB8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F9AB-7675-4FE7-A4AC-C661D9C3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3490-EBCC-480A-A601-9E5917C1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95B-9A2B-4E53-A636-72B5FAA5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8B49-C8A4-4413-82B1-A2CB9065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8BC-A553-4729-9B68-4F8C7BF6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457B-A0F3-4FA2-AD79-6CDEBC8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E20F-BD85-4A01-8B9C-2DDACE1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22E-A910-45C9-9EFA-B9EA3268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1CD5-0444-4C8F-9A60-B0D7942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F901-BCE9-455D-8501-980E3FE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C7BD-05B2-47FE-853B-B275F4D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126-BDB5-4E1C-94A2-3D6E6077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0F66-056A-41C8-B58F-49833F50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1B4D-1BDA-41DD-AEED-818D4B71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5B22-4AFD-407B-9EF7-A8ABF024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0919-83BB-41D1-BF10-52AAB9E0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4C5D-F13B-4BE1-B74A-87F59B5B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3D0F-06A1-439C-BFE9-C26EDA41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31E3-1008-42D8-8D11-F75481E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6205-E1A8-4478-9524-4376C4F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84BA-752B-4120-A4B8-9990CD8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B0DA-1439-42E3-B746-6C79814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0E7D-034F-4A61-913B-061202CE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D8B-85F1-4674-92B0-87717E996B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184464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Arial"/>
              </a:rPr>
              <a:t>Project Procurement Management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gotiating Tactic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ks – Argue a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Insults – Attack other sides negoti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Guy/Bad Gu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 – The offer stands until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Authority – I need to check with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Man – She is out today, I will have to get back tomo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and 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– Tabling issues important to the other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 De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drawal – Feigning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t Accompli – Done Deal, this is how we have to do it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4400" y="63244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se are all tactics, but not necessarily good tactic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minister Proc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828800" y="2819520"/>
            <a:ext cx="1295280" cy="53316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3352680" y="1676520"/>
            <a:ext cx="2667240" cy="3276360"/>
          </a:xfrm>
          <a:prstGeom prst="wedgeRectCallout">
            <a:avLst>
              <a:gd name="adj1" fmla="val 42379"/>
              <a:gd name="adj2" fmla="val 6642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0" y="1600200"/>
            <a:ext cx="167652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Docu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roved Change Reque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 Performanc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352680" y="1676520"/>
            <a:ext cx="26672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act change control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performance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pections and aud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 repor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aims administ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s management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1905120" y="2590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6172200" y="2590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3581280" y="1295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ols &amp;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7315200" y="2133720"/>
            <a:ext cx="182880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Docu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Process Assets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 Reque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ment Plan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18"/>
          <p:cNvSpPr/>
          <p:nvPr/>
        </p:nvSpPr>
        <p:spPr>
          <a:xfrm>
            <a:off x="6172200" y="2819520"/>
            <a:ext cx="1143000" cy="533160"/>
          </a:xfrm>
          <a:custGeom>
            <a:avLst/>
            <a:gdLst>
              <a:gd name="textAreaLeft" fmla="*/ 161640 w 1143000"/>
              <a:gd name="textAreaRight" fmla="*/ 981360 w 11430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480" y="5400"/>
                </a:lnTo>
                <a:lnTo>
                  <a:pt x="15480" y="0"/>
                </a:lnTo>
                <a:lnTo>
                  <a:pt x="21600" y="10800"/>
                </a:lnTo>
                <a:lnTo>
                  <a:pt x="15480" y="21600"/>
                </a:lnTo>
                <a:lnTo>
                  <a:pt x="15480" y="16200"/>
                </a:lnTo>
                <a:lnTo>
                  <a:pt x="0" y="16200"/>
                </a:lnTo>
                <a:lnTo>
                  <a:pt x="30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Group 49"/>
          <p:cNvGrpSpPr/>
          <p:nvPr/>
        </p:nvGrpSpPr>
        <p:grpSpPr>
          <a:xfrm>
            <a:off x="1295280" y="5562720"/>
            <a:ext cx="7010640" cy="1084320"/>
            <a:chOff x="1295280" y="5562720"/>
            <a:chExt cx="7010640" cy="1084320"/>
          </a:xfrm>
        </p:grpSpPr>
        <p:sp>
          <p:nvSpPr>
            <p:cNvPr id="611" name="Rectangle 5"/>
            <p:cNvSpPr/>
            <p:nvPr/>
          </p:nvSpPr>
          <p:spPr>
            <a:xfrm>
              <a:off x="1374840" y="5575320"/>
              <a:ext cx="141588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28"/>
            <p:cNvSpPr/>
            <p:nvPr/>
          </p:nvSpPr>
          <p:spPr>
            <a:xfrm>
              <a:off x="2887560" y="58276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56"/>
            <p:cNvSpPr/>
            <p:nvPr/>
          </p:nvSpPr>
          <p:spPr>
            <a:xfrm>
              <a:off x="3370320" y="5562720"/>
              <a:ext cx="13561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58"/>
            <p:cNvSpPr/>
            <p:nvPr/>
          </p:nvSpPr>
          <p:spPr>
            <a:xfrm>
              <a:off x="3290040" y="5791320"/>
              <a:ext cx="149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duct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59"/>
            <p:cNvSpPr/>
            <p:nvPr/>
          </p:nvSpPr>
          <p:spPr>
            <a:xfrm>
              <a:off x="5285160" y="5562720"/>
              <a:ext cx="12679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61"/>
            <p:cNvSpPr/>
            <p:nvPr/>
          </p:nvSpPr>
          <p:spPr>
            <a:xfrm>
              <a:off x="5285160" y="5715000"/>
              <a:ext cx="13442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36"/>
            <p:cNvSpPr/>
            <p:nvPr/>
          </p:nvSpPr>
          <p:spPr>
            <a:xfrm>
              <a:off x="1295280" y="5791320"/>
              <a:ext cx="147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ectangle 94"/>
            <p:cNvSpPr/>
            <p:nvPr/>
          </p:nvSpPr>
          <p:spPr>
            <a:xfrm>
              <a:off x="7040880" y="5638680"/>
              <a:ext cx="126504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101"/>
            <p:cNvSpPr/>
            <p:nvPr/>
          </p:nvSpPr>
          <p:spPr>
            <a:xfrm>
              <a:off x="7010640" y="57913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ose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AutoShape 102"/>
            <p:cNvSpPr/>
            <p:nvPr/>
          </p:nvSpPr>
          <p:spPr>
            <a:xfrm>
              <a:off x="4806360" y="58672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103"/>
            <p:cNvSpPr/>
            <p:nvPr/>
          </p:nvSpPr>
          <p:spPr>
            <a:xfrm>
              <a:off x="6629400" y="5867280"/>
              <a:ext cx="30456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ract Clos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AutoShape 3"/>
          <p:cNvSpPr/>
          <p:nvPr/>
        </p:nvSpPr>
        <p:spPr>
          <a:xfrm>
            <a:off x="2057400" y="160020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2057400" y="220968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3352680" y="1676520"/>
            <a:ext cx="2667240" cy="2438280"/>
          </a:xfrm>
          <a:prstGeom prst="wedgeRectCallout">
            <a:avLst>
              <a:gd name="adj1" fmla="val 113810"/>
              <a:gd name="adj2" fmla="val 10957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0" y="22860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Docu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3352680" y="1676520"/>
            <a:ext cx="2667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aud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otiated Settl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s management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2209680" y="1263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6019920" y="1295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3581280" y="1295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ols &amp;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4"/>
          <p:cNvSpPr/>
          <p:nvPr/>
        </p:nvSpPr>
        <p:spPr>
          <a:xfrm>
            <a:off x="6019920" y="160020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7315200" y="1600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osed Procur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AutoShape 16"/>
          <p:cNvSpPr/>
          <p:nvPr/>
        </p:nvSpPr>
        <p:spPr>
          <a:xfrm>
            <a:off x="6019920" y="220968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7315200" y="2286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Process Assets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9"/>
          <p:cNvGrpSpPr/>
          <p:nvPr/>
        </p:nvGrpSpPr>
        <p:grpSpPr>
          <a:xfrm>
            <a:off x="1371600" y="5562720"/>
            <a:ext cx="7010280" cy="1084320"/>
            <a:chOff x="1371600" y="5562720"/>
            <a:chExt cx="7010280" cy="1084320"/>
          </a:xfrm>
        </p:grpSpPr>
        <p:sp>
          <p:nvSpPr>
            <p:cNvPr id="637" name="Rectangle 5"/>
            <p:cNvSpPr/>
            <p:nvPr/>
          </p:nvSpPr>
          <p:spPr>
            <a:xfrm>
              <a:off x="1451160" y="5575320"/>
              <a:ext cx="141588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AutoShape 28"/>
            <p:cNvSpPr/>
            <p:nvPr/>
          </p:nvSpPr>
          <p:spPr>
            <a:xfrm>
              <a:off x="2963880" y="58276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56"/>
            <p:cNvSpPr/>
            <p:nvPr/>
          </p:nvSpPr>
          <p:spPr>
            <a:xfrm>
              <a:off x="3446640" y="5562720"/>
              <a:ext cx="13561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Text Box 58"/>
            <p:cNvSpPr/>
            <p:nvPr/>
          </p:nvSpPr>
          <p:spPr>
            <a:xfrm>
              <a:off x="3366360" y="5791320"/>
              <a:ext cx="149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duct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59"/>
            <p:cNvSpPr/>
            <p:nvPr/>
          </p:nvSpPr>
          <p:spPr>
            <a:xfrm>
              <a:off x="5361480" y="5562720"/>
              <a:ext cx="12679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Text Box 61"/>
            <p:cNvSpPr/>
            <p:nvPr/>
          </p:nvSpPr>
          <p:spPr>
            <a:xfrm>
              <a:off x="5361480" y="5715000"/>
              <a:ext cx="134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Text Box 36"/>
            <p:cNvSpPr/>
            <p:nvPr/>
          </p:nvSpPr>
          <p:spPr>
            <a:xfrm>
              <a:off x="1371600" y="5791320"/>
              <a:ext cx="147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94"/>
            <p:cNvSpPr/>
            <p:nvPr/>
          </p:nvSpPr>
          <p:spPr>
            <a:xfrm>
              <a:off x="7116840" y="5638680"/>
              <a:ext cx="126504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Text Box 101"/>
            <p:cNvSpPr/>
            <p:nvPr/>
          </p:nvSpPr>
          <p:spPr>
            <a:xfrm>
              <a:off x="7086600" y="57913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ose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102"/>
            <p:cNvSpPr/>
            <p:nvPr/>
          </p:nvSpPr>
          <p:spPr>
            <a:xfrm>
              <a:off x="4882680" y="58672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AutoShape 103"/>
            <p:cNvSpPr/>
            <p:nvPr/>
          </p:nvSpPr>
          <p:spPr>
            <a:xfrm>
              <a:off x="6705720" y="5867280"/>
              <a:ext cx="30456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urement Ter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bitration – Third party dispute res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each/Default – When a contract provision is not m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ce Majeure – Riots, wars, weather, or other “Acts of Go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emnification – Who is li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quidated Damages – Estimated damages for specific types of defaults as defined in the contr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erial Breach – A violation of the contract of sufficient magnitude that the contract cannot be compl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urement Terms Continu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nage – Monies withheld to ensure performance at the end of th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ination – Stopping the work before it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ver – Statements in the contract that indicate that rights cannot be ignored or modified without written agreement between the two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of the essence – Seller is placed on notice that delivery agreements are strictly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for Hire – At the end of the contract the work product generated will be owned by the bu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ject Quality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es to purchase or acquire the products, services, or results needed from outside the project team to perform the work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y Procurement Managemen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ll projects will need to acquire some resources from outs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nderstanding the different ways to contract could result in unnecessary risk for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1143000" y="54100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te for Test Takers: PMI Procurement questions are from the BUYERS perspective unless noted other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Do We Manage Procuremen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Proc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Proc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Proc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 Proc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23"/>
          <p:cNvGrpSpPr/>
          <p:nvPr/>
        </p:nvGrpSpPr>
        <p:grpSpPr>
          <a:xfrm>
            <a:off x="1143000" y="5334120"/>
            <a:ext cx="7010280" cy="1084320"/>
            <a:chOff x="1143000" y="5334120"/>
            <a:chExt cx="7010280" cy="1084320"/>
          </a:xfrm>
        </p:grpSpPr>
        <p:sp>
          <p:nvSpPr>
            <p:cNvPr id="530" name="Rectangle 5"/>
            <p:cNvSpPr/>
            <p:nvPr/>
          </p:nvSpPr>
          <p:spPr>
            <a:xfrm>
              <a:off x="1222560" y="5346720"/>
              <a:ext cx="141588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28"/>
            <p:cNvSpPr/>
            <p:nvPr/>
          </p:nvSpPr>
          <p:spPr>
            <a:xfrm>
              <a:off x="2735280" y="55990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56"/>
            <p:cNvSpPr/>
            <p:nvPr/>
          </p:nvSpPr>
          <p:spPr>
            <a:xfrm>
              <a:off x="3218040" y="5334120"/>
              <a:ext cx="13561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58"/>
            <p:cNvSpPr/>
            <p:nvPr/>
          </p:nvSpPr>
          <p:spPr>
            <a:xfrm>
              <a:off x="3137760" y="5562720"/>
              <a:ext cx="149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duct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5132880" y="5334120"/>
              <a:ext cx="12679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61"/>
            <p:cNvSpPr/>
            <p:nvPr/>
          </p:nvSpPr>
          <p:spPr>
            <a:xfrm>
              <a:off x="5132880" y="5486400"/>
              <a:ext cx="134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36"/>
            <p:cNvSpPr/>
            <p:nvPr/>
          </p:nvSpPr>
          <p:spPr>
            <a:xfrm>
              <a:off x="1143000" y="5562720"/>
              <a:ext cx="147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Rectangle 94"/>
            <p:cNvSpPr/>
            <p:nvPr/>
          </p:nvSpPr>
          <p:spPr>
            <a:xfrm>
              <a:off x="6888240" y="5410080"/>
              <a:ext cx="126504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01"/>
            <p:cNvSpPr/>
            <p:nvPr/>
          </p:nvSpPr>
          <p:spPr>
            <a:xfrm>
              <a:off x="6858000" y="55627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ose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102"/>
            <p:cNvSpPr/>
            <p:nvPr/>
          </p:nvSpPr>
          <p:spPr>
            <a:xfrm>
              <a:off x="4654080" y="56386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103"/>
            <p:cNvSpPr/>
            <p:nvPr/>
          </p:nvSpPr>
          <p:spPr>
            <a:xfrm>
              <a:off x="6477120" y="5638680"/>
              <a:ext cx="30456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 Proc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AutoShape 28"/>
          <p:cNvSpPr/>
          <p:nvPr/>
        </p:nvSpPr>
        <p:spPr>
          <a:xfrm>
            <a:off x="2057400" y="266688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3352680" y="1676520"/>
            <a:ext cx="2667240" cy="2895480"/>
          </a:xfrm>
          <a:prstGeom prst="wedgeRectCallout">
            <a:avLst>
              <a:gd name="adj1" fmla="val -99046"/>
              <a:gd name="adj2" fmla="val 826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0" y="1143000"/>
            <a:ext cx="236232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ope Base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 Docu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ing Agre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sk Regi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sk-Related Contract Deci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ity Resource Requir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ity Cost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st Performance Base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terprise Environmental Fac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Process As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6"/>
          <p:cNvSpPr/>
          <p:nvPr/>
        </p:nvSpPr>
        <p:spPr>
          <a:xfrm>
            <a:off x="3352680" y="1676520"/>
            <a:ext cx="2667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ke or Buy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ert Judg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act Typ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37"/>
          <p:cNvSpPr/>
          <p:nvPr/>
        </p:nvSpPr>
        <p:spPr>
          <a:xfrm>
            <a:off x="2209680" y="2362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38"/>
          <p:cNvSpPr/>
          <p:nvPr/>
        </p:nvSpPr>
        <p:spPr>
          <a:xfrm>
            <a:off x="6172200" y="251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9"/>
          <p:cNvSpPr/>
          <p:nvPr/>
        </p:nvSpPr>
        <p:spPr>
          <a:xfrm>
            <a:off x="3581280" y="1295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ols &amp;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06"/>
          <p:cNvSpPr/>
          <p:nvPr/>
        </p:nvSpPr>
        <p:spPr>
          <a:xfrm>
            <a:off x="7315200" y="1523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Manag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08"/>
          <p:cNvSpPr/>
          <p:nvPr/>
        </p:nvSpPr>
        <p:spPr>
          <a:xfrm>
            <a:off x="7315200" y="2286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Statements of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109"/>
          <p:cNvSpPr/>
          <p:nvPr/>
        </p:nvSpPr>
        <p:spPr>
          <a:xfrm>
            <a:off x="6019920" y="289548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10"/>
          <p:cNvSpPr/>
          <p:nvPr/>
        </p:nvSpPr>
        <p:spPr>
          <a:xfrm>
            <a:off x="7315200" y="3505320"/>
            <a:ext cx="1828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Docu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Selection Crite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 Reque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2"/>
          <p:cNvSpPr/>
          <p:nvPr/>
        </p:nvSpPr>
        <p:spPr>
          <a:xfrm>
            <a:off x="7315200" y="28954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ke or Buy Deci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47"/>
          <p:cNvGrpSpPr/>
          <p:nvPr/>
        </p:nvGrpSpPr>
        <p:grpSpPr>
          <a:xfrm>
            <a:off x="1371600" y="5562720"/>
            <a:ext cx="7010280" cy="1084320"/>
            <a:chOff x="1371600" y="5562720"/>
            <a:chExt cx="7010280" cy="1084320"/>
          </a:xfrm>
        </p:grpSpPr>
        <p:sp>
          <p:nvSpPr>
            <p:cNvPr id="555" name="Rectangle 5"/>
            <p:cNvSpPr/>
            <p:nvPr/>
          </p:nvSpPr>
          <p:spPr>
            <a:xfrm>
              <a:off x="1451160" y="5575320"/>
              <a:ext cx="141588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28"/>
            <p:cNvSpPr/>
            <p:nvPr/>
          </p:nvSpPr>
          <p:spPr>
            <a:xfrm>
              <a:off x="2963880" y="58276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56"/>
            <p:cNvSpPr/>
            <p:nvPr/>
          </p:nvSpPr>
          <p:spPr>
            <a:xfrm>
              <a:off x="3446640" y="5562720"/>
              <a:ext cx="13561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58"/>
            <p:cNvSpPr/>
            <p:nvPr/>
          </p:nvSpPr>
          <p:spPr>
            <a:xfrm>
              <a:off x="3366360" y="5791320"/>
              <a:ext cx="149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duct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59"/>
            <p:cNvSpPr/>
            <p:nvPr/>
          </p:nvSpPr>
          <p:spPr>
            <a:xfrm>
              <a:off x="5361480" y="5562720"/>
              <a:ext cx="12679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61"/>
            <p:cNvSpPr/>
            <p:nvPr/>
          </p:nvSpPr>
          <p:spPr>
            <a:xfrm>
              <a:off x="5361480" y="5715000"/>
              <a:ext cx="134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36"/>
            <p:cNvSpPr/>
            <p:nvPr/>
          </p:nvSpPr>
          <p:spPr>
            <a:xfrm>
              <a:off x="1371600" y="5791320"/>
              <a:ext cx="147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Rectangle 94"/>
            <p:cNvSpPr/>
            <p:nvPr/>
          </p:nvSpPr>
          <p:spPr>
            <a:xfrm>
              <a:off x="7116840" y="5638680"/>
              <a:ext cx="126504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101"/>
            <p:cNvSpPr/>
            <p:nvPr/>
          </p:nvSpPr>
          <p:spPr>
            <a:xfrm>
              <a:off x="7086600" y="57913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ose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02"/>
            <p:cNvSpPr/>
            <p:nvPr/>
          </p:nvSpPr>
          <p:spPr>
            <a:xfrm>
              <a:off x="4882680" y="58672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03"/>
            <p:cNvSpPr/>
            <p:nvPr/>
          </p:nvSpPr>
          <p:spPr>
            <a:xfrm>
              <a:off x="6705720" y="5867280"/>
              <a:ext cx="30456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ract Typ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Price (Lump Sum)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Reimbursable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Plus Fee (CP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Plus Percentage of Cost (CP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Plus Fixed Fee (CP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Plus Incentive Fee (CPI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and Material (T&amp;M)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ich type of contract is the highest risk for the Buyer? Sell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duct Proc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2057400" y="228600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352680" y="1676520"/>
            <a:ext cx="2667240" cy="2590560"/>
          </a:xfrm>
          <a:prstGeom prst="wedgeRectCallout">
            <a:avLst>
              <a:gd name="adj1" fmla="val -20000"/>
              <a:gd name="adj2" fmla="val 9724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0" y="2133720"/>
            <a:ext cx="213372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Docu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Selection Crite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lified Sellers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 Propos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Docu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ke-or-Buy Deci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aming Agree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Process As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352680" y="1676520"/>
            <a:ext cx="2667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dder Con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posal Evaluation Techniq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ependent Esti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ert Judg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net 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Negoti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133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6019920" y="1752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3581280" y="1295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ols &amp;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7"/>
          <p:cNvSpPr/>
          <p:nvPr/>
        </p:nvSpPr>
        <p:spPr>
          <a:xfrm>
            <a:off x="7315200" y="2057400"/>
            <a:ext cx="182880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ed Se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urement Contract Aw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ource Calend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 Reque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ment Plan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Document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18"/>
          <p:cNvSpPr/>
          <p:nvPr/>
        </p:nvSpPr>
        <p:spPr>
          <a:xfrm>
            <a:off x="6019920" y="2743200"/>
            <a:ext cx="1295280" cy="53352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Group 41"/>
          <p:cNvGrpSpPr/>
          <p:nvPr/>
        </p:nvGrpSpPr>
        <p:grpSpPr>
          <a:xfrm>
            <a:off x="1371600" y="5562720"/>
            <a:ext cx="7010280" cy="1084320"/>
            <a:chOff x="1371600" y="5562720"/>
            <a:chExt cx="7010280" cy="1084320"/>
          </a:xfrm>
        </p:grpSpPr>
        <p:sp>
          <p:nvSpPr>
            <p:cNvPr id="581" name="Rectangle 5"/>
            <p:cNvSpPr/>
            <p:nvPr/>
          </p:nvSpPr>
          <p:spPr>
            <a:xfrm>
              <a:off x="1451160" y="5575320"/>
              <a:ext cx="141588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utoShape 28"/>
            <p:cNvSpPr/>
            <p:nvPr/>
          </p:nvSpPr>
          <p:spPr>
            <a:xfrm>
              <a:off x="2963880" y="58276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56"/>
            <p:cNvSpPr/>
            <p:nvPr/>
          </p:nvSpPr>
          <p:spPr>
            <a:xfrm>
              <a:off x="3446640" y="5562720"/>
              <a:ext cx="13561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58"/>
            <p:cNvSpPr/>
            <p:nvPr/>
          </p:nvSpPr>
          <p:spPr>
            <a:xfrm>
              <a:off x="3366360" y="5791320"/>
              <a:ext cx="149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duct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59"/>
            <p:cNvSpPr/>
            <p:nvPr/>
          </p:nvSpPr>
          <p:spPr>
            <a:xfrm>
              <a:off x="5361480" y="5562720"/>
              <a:ext cx="126792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61"/>
            <p:cNvSpPr/>
            <p:nvPr/>
          </p:nvSpPr>
          <p:spPr>
            <a:xfrm>
              <a:off x="5361480" y="5715000"/>
              <a:ext cx="134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36"/>
            <p:cNvSpPr/>
            <p:nvPr/>
          </p:nvSpPr>
          <p:spPr>
            <a:xfrm>
              <a:off x="1371600" y="5791320"/>
              <a:ext cx="147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lan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94"/>
            <p:cNvSpPr/>
            <p:nvPr/>
          </p:nvSpPr>
          <p:spPr>
            <a:xfrm>
              <a:off x="7116840" y="5638680"/>
              <a:ext cx="1265040" cy="100836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Text Box 101"/>
            <p:cNvSpPr/>
            <p:nvPr/>
          </p:nvSpPr>
          <p:spPr>
            <a:xfrm>
              <a:off x="7086600" y="57913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ose Procure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102"/>
            <p:cNvSpPr/>
            <p:nvPr/>
          </p:nvSpPr>
          <p:spPr>
            <a:xfrm>
              <a:off x="4882680" y="5867280"/>
              <a:ext cx="39492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AutoShape 103"/>
            <p:cNvSpPr/>
            <p:nvPr/>
          </p:nvSpPr>
          <p:spPr>
            <a:xfrm>
              <a:off x="6705720" y="5867280"/>
              <a:ext cx="304560" cy="573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Scopes of 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 project wants, how accomplished and project needs defined by s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or Det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what end product should be as well as minimum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exactly what is required and how to accomplis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urement Docu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or Proposal (RF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s for the price and how/who will do th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itation for Bid (IF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imple price to do th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or Quotation (RF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per unit qu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1:51:27Z</dcterms:created>
  <dc:creator>Mike McCurdy</dc:creator>
  <dc:description/>
  <cp:keywords/>
  <dc:language>en-US</dc:language>
  <cp:lastModifiedBy>contact@xlsxtemp.com</cp:lastModifiedBy>
  <dcterms:modified xsi:type="dcterms:W3CDTF">2017-06-30T11:11:39Z</dcterms:modified>
  <cp:revision>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41033</vt:lpwstr>
  </property>
</Properties>
</file>