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A49-100E-413A-AED6-2B4304A1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AE8-773A-4606-954E-A5B8C64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9E5-68F2-4915-83DA-549C0191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B5C-D31A-4CE2-AA01-8BCF2336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560-2649-4BC7-818F-5361E8E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EEE-D289-47DF-A898-1FCBABE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A53-B051-442C-82ED-C842F43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14C-E1E6-44B6-84DC-BAAFF311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3A6-C631-4237-8CF1-74C422F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9D3-768D-46DD-ACEE-BEE4782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7D0-86AB-4295-8522-A3242E7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831-65F3-4DB5-B3CD-F9CEEE2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146A-99CC-4D77-A81F-8A94EDAD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sk Management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3200400"/>
            <a:ext cx="6324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projection (esti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mitigation, monitoring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4DC-4AA7-4754-AC42-848920243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identification is a systematic attempt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pecify threa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dentifying known and predictable risks, the project manager takes a first step towar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oi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m when possible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rol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m when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e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s that are a potential threat to every softwar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duct-spe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s that can be identified only by those a with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lear understa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is specific to the software that is to be bu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requires examination of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 p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tement of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What special characteristics of this product may threaten our project plan?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D64-0ECD-4E8B-B121-2A6A6C1E9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Item Check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as one way to identify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es on known and predictable risks in specific subcategories 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organized in several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haracteristics relevant to each risk subcateg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estionna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leads to an estimate on the impact of each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aining a set of risk component and drivers and their probability of occur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5066-0D2D-4F55-806E-748B2CE6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nown and Predictable Risk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overall size of the software to be bu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 imp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constraints imposed by management or the market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 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sophistication of the customer and the developer's ability to communicate with the customer in a timely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the degree to which the software process has been defined and is fo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 environ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availability and quality of the tools to be used to build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y to be bui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complexity of the system to be built and the "newness" of the technology in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ff size and experi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isks associated with overall technical and project experience of the software engineers who will do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DEEB-9E70-4057-AEDD-1A75A6D77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naire on Project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top software and customer managers formally committed to support the proj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end-users enthusiastically committed to the project and the system/product to be bui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quirements fully understood by the software engineering team and its custom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stomers been involved fully in the definition of require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end-users have realistic expec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project scope st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387080" y="1066680"/>
            <a:ext cx="587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Questions are ordered by their relative importance to project success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510360" y="632448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on next slide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045F-31DF-4335-B53C-86270F02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naire on Project Risk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software engineering team have the right mix of skil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project requirements st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project team have experience with the technology to be implemen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number of people on the project team adequate to do the jo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all customer/user constituencies agree on the importance of the project and on the requirements for the system/product to be bui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700-011E-49D4-A26C-D40A31BA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Components and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manager identifie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sk driv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ffect the following risk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formance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the degree of uncertainty that the product will meet its requirements and be fit for its intende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the degree of uncertainty that the project budget will be main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the degree of uncertainty that the resultant software will be easy to correct, adapt, and enh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the degree of uncertainty that the project schedule will be maintained and that the product will be delivered 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act of each risk driver on the risk component is divided into on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ur impac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ligible, marginal, critical, and catastro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drivers can be assessed as impossible, improbable, probable, and fr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Projection (Estim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3BC5-666A-4C7C-B1A1-195C00C3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projection (or estimation) attempts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risk in two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the risk is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problems associated with the risk, should it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planner, managers, and technical staff perform four risk projection steps 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nt of these steps is to consider risks in a manner that leads to 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prioritizing risks, the software team can allocate limited resources where they will have the most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F51-1FEC-4AF8-B003-67751E39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Projection/Estimation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a scale that reflect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ived likelih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risk (e.g., 1-low, 10-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nea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risk on the project an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verall accu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risk projection so that there will be no misundersta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F756-1FED-4214-A8BC-883724EA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 of a Risk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isk table provides a project manager with a simple technique for risk pro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onsists of five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Summary – short description of th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Category – one of seven risk categories (slide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– estimation of risk occurrence based on group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– (1) catastrophic (2) critical (3) marginal (4)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MM – Pointer to a paragraph in the Risk Mitigation, Monitoring, and Management Pla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4711680"/>
          <a:ext cx="8229600" cy="146376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95280"/>
                <a:gridCol w="1447920"/>
                <a:gridCol w="1218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k Summary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k Category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 (1-4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MM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76"/>
          <p:cNvSpPr/>
          <p:nvPr/>
        </p:nvSpPr>
        <p:spPr>
          <a:xfrm>
            <a:off x="3502440" y="638640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on next slide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513-5090-4F6C-81C2-CA5DE46E5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ing a Risk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 risks in the first column (by way of the help of the risk item checkli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category of each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ti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each risk occu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s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each risk based on an averaging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ur risk compon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an overall impact value  (See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rows by probability and impact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en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horizontal cutoff line in the table that indicates the risks that will be given further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599-4F61-444F-B4AD-487CC4E5A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ing Risk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ctors affec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re likely if a risk does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s n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is indicat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are likely if the risk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s sc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is combin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ve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risk (how serious was it) with its overa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how much was affect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s tim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his consider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ow 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impact will be f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ver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sk expos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mula is RE = P x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occurrence for a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he project should the risk actually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80% probability that 18 of 60 software components will have to be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 Total cost of developing 18 components is $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= .80 x $25,000 = $2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Mitigation, Monitoring, an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075-0422-496A-A82D-9A05C5D2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ffective strategy for dealing with risk must consid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s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these are not mutually exclu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mitigation (i.e., avoid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management and contingency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sk mi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void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rimary strategy and is achieved through a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Risk of high staff turnove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738960" y="62485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on next slide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FC7-BC41-4AE8-8733-1546FA7D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2438280"/>
            <a:ext cx="7315200" cy="3657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th current staff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termine cau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urnover (e.g., poor working conditions, low pay, competitive job mark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tig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ose causes that are under our control before the project st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the project commenc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u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nover will occur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vel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chniques to ensure continuity when people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gan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ject teams so that information about each development activit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dely disper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f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cumentation standards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bl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chanisms to ensure that documents are developed in a timely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er reviews of all work (so that more than one person is "up to spe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backup staff member for every critical technolog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1295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y for Reducing Staff Turnover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889-66FC-4A72-AA27-0A0072995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sk monito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project manag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n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ctors that may provide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whether a risk is becoming more or less like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sk manag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ontingency plan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s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mitigation efforts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at the risk has become a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MM steps incu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jec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projects may have identified  30 – 40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 lim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software project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s can occur after the software has been delivered to the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738960" y="601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on next slide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C6B-5BE1-455B-8CEE-DB04AA3C0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safety and hazar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ftware quality assur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tivities that focus o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ss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potential hazards that may affect software negatively and cause an entire system to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azards can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ntified ear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software process, software design features can be specified that will eith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imin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tential haz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754-B25D-46A1-8779-8BD6BD1A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MMM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MMM plan may be a part of the software development plan  (Paragraph 5.19.1) or may be a separat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RMMM has been documented and the project has begun, the risk mitigation, and monitoring steps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tig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proble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void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pro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c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monitoring h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s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ether predicted risks do, in fac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risk aversion steps defined for the risk are being proper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l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formation that can be us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u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isk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dings from risk monitoring may allow the project manager to ascertain what risks caused which problems throughout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F46-027E-47A7-8A05-75D451D2B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 Principles of Ris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 global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 software risks within the context of a system and the business problem that is is intended to 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ke a forward-looking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nk about risks that may arise in the future; establish contingency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open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all stakeholders and users to point out risks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 ris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 the consideration of risk into the softwar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hasize a continuous process of risk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identified risks as more becomes known and add new risks as better insight is achie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a shared product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hared vision by all stakeholders facilitates better risk identification and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teamwork when managing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l the skills and experience of all stakeholders when conducting risk managemen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E3EF-820B-40DF-92E4-CA50209C1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much is riding on a software project, common sense dictates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t, most project managers do it informally and superficially, if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the time spent in risk management result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ss uphea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ring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reater 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rack and control a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fi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comes with planning for problems before they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management can absorb a significant amount of the project planning effort…but the effort is worth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714160" y="6445080"/>
            <a:ext cx="3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B815-CB92-4432-A152-20D0B2F8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isk is a potential problem – it might happen and it might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finition of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concerns future happe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involves change in mind, opinion, actions, plac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sk involves choice and the uncertainty that choice en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characteristics of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 – the risk may or  may not happen, that is, there are no 100% risks (those, instead, are called constra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s – the risk becomes a reality and unwanted consequences or losses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2C02-D916-4CEA-9775-17955232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Categorization – Approach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threate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y become real, it is likely tha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 sched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slip and that costs will incr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threate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qu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meli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software to be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y become rea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become difficult or im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threaten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software to be bu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y become real,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eopard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project or the pro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67560" y="601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ore on next slide)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B64-82EC-4AA2-B0B5-2337D2B1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Categorization – Approach #1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-categories of Business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ke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building an excellent product or system that no one really w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egic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building a product that no longer fits into the overall business strategy for th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es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building a product that the sales force doesn't understand how to s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losing the support of senior management due to a change in focus or a change in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dge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losing budgetary or personnel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C25F-6841-4192-8EB1-1C7E23BA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Categorization – Approach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risks that can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cove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fter careful evaluation of the project plan, the business and technical environment in which the project is being developed, and other reliable information sources (e.g., unrealistic delivery 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able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risks that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trapol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past project experience (e.g., past turno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redictable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risks that can and do occur, but are extrem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fficult to identif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4CE-953E-4CBA-8A8D-3E4D57930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ve vs. Proactive Risk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sk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Don't worry, I'll think of something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jority of software teams and managers rely on this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hing is done about risks until something goes w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eam then flies into action in an attempt to correct the problem rapidly (fire figh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sis management is the choice of managemen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sk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s for risk management are followed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objective i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void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o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ingency p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lace to handle unavoidable risks in a controlled and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17C1-6508-4599-9A48-744AE7C1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for Ris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sible risks; recognize what can go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risk to estima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it will occur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.e., damage) that it will do if it does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risks by probability and impa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may be negligible, marginal, critical, and catastro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vel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contingency plan to manage those risks hav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8:50:43Z</dcterms:created>
  <dc:creator> Jay Tevis</dc:creator>
  <dc:description/>
  <dc:language>en-US</dc:language>
  <cp:lastModifiedBy>contact@xlsxtemp.com</cp:lastModifiedBy>
  <dcterms:modified xsi:type="dcterms:W3CDTF">2017-06-30T11:22:07Z</dcterms:modified>
  <cp:revision>608</cp:revision>
  <dc:subject/>
  <dc:title>PowerPoint Presentation</dc:title>
</cp:coreProperties>
</file>