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  <p:sldId id="292" r:id="rId52"/>
    <p:sldId id="293" r:id="rId53"/>
    <p:sldId id="294" r:id="rId54"/>
    <p:sldId id="295" r:id="rId55"/>
    <p:sldId id="296" r:id="rId56"/>
    <p:sldId id="297" r:id="rId57"/>
    <p:sldId id="298" r:id="rId58"/>
    <p:sldId id="299" r:id="rId59"/>
    <p:sldId id="300" r:id="rId60"/>
    <p:sldId id="301" r:id="rId61"/>
    <p:sldId id="302" r:id="rId62"/>
    <p:sldId id="303" r:id="rId63"/>
    <p:sldId id="304" r:id="rId64"/>
    <p:sldId id="305" r:id="rId65"/>
    <p:sldId id="306" r:id="rId66"/>
    <p:sldId id="307" r:id="rId67"/>
    <p:sldId id="308" r:id="rId68"/>
    <p:sldId id="309" r:id="rId69"/>
    <p:sldId id="310" r:id="rId70"/>
    <p:sldId id="311" r:id="rId71"/>
    <p:sldId id="312" r:id="rId72"/>
    <p:sldId id="313" r:id="rId73"/>
    <p:sldId id="314" r:id="rId74"/>
    <p:sldId id="315" r:id="rId75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slide" Target="slides/slide37.xml"/><Relationship Id="rId53" Type="http://schemas.openxmlformats.org/officeDocument/2006/relationships/slide" Target="slides/slide38.xml"/><Relationship Id="rId54" Type="http://schemas.openxmlformats.org/officeDocument/2006/relationships/slide" Target="slides/slide39.xml"/><Relationship Id="rId55" Type="http://schemas.openxmlformats.org/officeDocument/2006/relationships/slide" Target="slides/slide40.xml"/><Relationship Id="rId56" Type="http://schemas.openxmlformats.org/officeDocument/2006/relationships/slide" Target="slides/slide41.xml"/><Relationship Id="rId57" Type="http://schemas.openxmlformats.org/officeDocument/2006/relationships/slide" Target="slides/slide42.xml"/><Relationship Id="rId58" Type="http://schemas.openxmlformats.org/officeDocument/2006/relationships/slide" Target="slides/slide43.xml"/><Relationship Id="rId59" Type="http://schemas.openxmlformats.org/officeDocument/2006/relationships/slide" Target="slides/slide44.xml"/><Relationship Id="rId60" Type="http://schemas.openxmlformats.org/officeDocument/2006/relationships/slide" Target="slides/slide45.xml"/><Relationship Id="rId61" Type="http://schemas.openxmlformats.org/officeDocument/2006/relationships/slide" Target="slides/slide46.xml"/><Relationship Id="rId62" Type="http://schemas.openxmlformats.org/officeDocument/2006/relationships/slide" Target="slides/slide47.xml"/><Relationship Id="rId63" Type="http://schemas.openxmlformats.org/officeDocument/2006/relationships/slide" Target="slides/slide48.xml"/><Relationship Id="rId64" Type="http://schemas.openxmlformats.org/officeDocument/2006/relationships/slide" Target="slides/slide49.xml"/><Relationship Id="rId65" Type="http://schemas.openxmlformats.org/officeDocument/2006/relationships/slide" Target="slides/slide50.xml"/><Relationship Id="rId66" Type="http://schemas.openxmlformats.org/officeDocument/2006/relationships/slide" Target="slides/slide51.xml"/><Relationship Id="rId67" Type="http://schemas.openxmlformats.org/officeDocument/2006/relationships/slide" Target="slides/slide52.xml"/><Relationship Id="rId68" Type="http://schemas.openxmlformats.org/officeDocument/2006/relationships/slide" Target="slides/slide53.xml"/><Relationship Id="rId69" Type="http://schemas.openxmlformats.org/officeDocument/2006/relationships/slide" Target="slides/slide54.xml"/><Relationship Id="rId70" Type="http://schemas.openxmlformats.org/officeDocument/2006/relationships/slide" Target="slides/slide55.xml"/><Relationship Id="rId71" Type="http://schemas.openxmlformats.org/officeDocument/2006/relationships/slide" Target="slides/slide56.xml"/><Relationship Id="rId72" Type="http://schemas.openxmlformats.org/officeDocument/2006/relationships/slide" Target="slides/slide57.xml"/><Relationship Id="rId73" Type="http://schemas.openxmlformats.org/officeDocument/2006/relationships/slide" Target="slides/slide58.xml"/><Relationship Id="rId74" Type="http://schemas.openxmlformats.org/officeDocument/2006/relationships/slide" Target="slides/slide59.xml"/><Relationship Id="rId75" Type="http://schemas.openxmlformats.org/officeDocument/2006/relationships/slide" Target="slides/slide60.xml"/><Relationship Id="rId7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 type="ftr" idx="2"/>
          </p:nvPr>
        </p:nvSpPr>
        <p:spPr>
          <a:xfrm>
            <a:off x="-36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6"/>
          <p:cNvSpPr>
            <a:spLocks noGrp="1"/>
          </p:cNvSpPr>
          <p:nvPr>
            <p:ph type="sldNum" idx="3"/>
          </p:nvPr>
        </p:nvSpPr>
        <p:spPr>
          <a:xfrm>
            <a:off x="388584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59B64-A43B-4184-900F-3034354771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901F5-068A-4FCF-BB27-C34E3884619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DC594-E388-4E44-86D7-EDF39C9FD88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37DBD-CC92-48BD-BB1E-A452C2D7A13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9C661-72E8-4C6F-A336-D3142E72BB4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496CF-3C6E-4363-A5B4-25A3DB20E6C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E6A94-8FF9-4FF2-B2CC-EEBF28DEFCB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82233-C0D4-4DF8-98A5-766906308EF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E711F-D05A-4B29-82E4-18297560780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A0D88-5F98-4978-8BB5-875B312DE0E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DA755-A311-40B3-8CC2-A0256DDD7F2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F1F09-A092-4D3F-85F3-7DADFE70A83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91CC9-9952-430B-8381-202E2147F73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06809-3405-4AA8-9D36-F10A9871BC0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192D6-2DDC-4805-BEF7-AD2C60F6553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4CFFE-66C3-49E1-B2F8-43000157504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062B8-8C96-4A08-82A6-B837ACA6115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DBAF2-AD21-494C-BBFD-74EF9A59DF9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059DB-E6DC-40C1-841E-F72BB8E77C4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1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ECB4A-64D0-4CF6-9FDE-8A206E0EA5B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ject Team L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D445F-61C4-468B-A900-31332A2B5EC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BF293-3915-4787-9F0B-9C3A5C709FF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ociate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7D704-CE04-4751-9B0F-A7F84F73B98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1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D64AC-D5F9-4F98-9610-3E799B4B6B7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0FEDD-9BC4-4DE6-9037-B6378291E2B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FCCAE-81C3-4ABC-9D0D-8F2BF52B62B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1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7090F-5863-4F5A-B77D-28BCA32C91F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1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4A094-3AB5-4D2B-B1E3-1B7713247B9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19FD2-8A1F-4ADD-8697-2A8F68B7FD6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1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D61E3-75FA-4416-B518-C744C319B05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E24D7-33FA-4E41-9DB6-2139A711DF5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1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873FF-D0BE-4D7D-8C59-A678B6D840B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1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FFF4E-FCB6-4074-976A-52215D24CF0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78823-A461-4F59-A978-912B5926E91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27287-B1FA-497D-A623-21AA71FE3DB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6356E-D177-4844-876E-97C393714E6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40D10-34E3-42F4-9C67-A08111AC0DD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1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AD876-AC20-43EC-B192-EA604EE9F7F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1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FA9EF-F750-475A-A379-C39BE860C9C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1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C5105-D65C-4F50-BE1F-9A859C51758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1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4665B-FDD8-4C05-BD33-D7A9C3B0AC5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7A538-2C96-499C-A23A-4F468994545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1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ACA4E-12AE-4959-B4A5-09699567137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1FBE0-9A71-499D-BBB4-912898F4B99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1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F619C-D58E-4B79-B0E6-C094F35913D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32EA3-6B59-4037-B506-B0DCC2DBF79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7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14E56-AF15-4DDD-B164-6ABC2D1E796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2494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85800" y="4249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68480" y="4249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85800" y="42494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685800" y="42494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85800" y="4249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68480" y="4249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685800" y="42494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313800" y="42494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941440" y="42494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49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249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85800" y="4249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68480" y="4249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85800" y="42494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685800" y="42494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85800" y="4249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68480" y="4249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2494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2494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2494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685800" y="42494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313800" y="42494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5941440" y="42494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85800" y="4249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668480" y="4249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85800" y="42494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685800" y="42494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85800" y="4249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668480" y="4249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685800" y="42494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313800" y="42494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5941440" y="42494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85800" y="4249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668480" y="4249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85800" y="42494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685800" y="42494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85800" y="4249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668480" y="4249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685800" y="42494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313800" y="42494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5941440" y="42494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249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668480" y="4249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85800" y="42494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685800" y="42494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85800" y="4249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668480" y="4249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685800" y="42494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/>
          </p:nvPr>
        </p:nvSpPr>
        <p:spPr>
          <a:xfrm>
            <a:off x="3313800" y="42494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7"/>
          <p:cNvSpPr>
            <a:spLocks noGrp="1"/>
          </p:cNvSpPr>
          <p:nvPr>
            <p:ph/>
          </p:nvPr>
        </p:nvSpPr>
        <p:spPr>
          <a:xfrm>
            <a:off x="5941440" y="42494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5800" y="4249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68480" y="4249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2494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85800" y="42494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249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68480" y="4249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85800" y="42494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13800" y="42494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41440" y="42494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249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68480" y="4249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85800" y="42494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85800" y="42494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249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68480" y="4249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685800" y="42494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313800" y="42494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5941440" y="42494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249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68480" y="4249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2494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85800" y="42494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85800" y="4249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68480" y="4249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685800" y="42494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313800" y="42494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5941440" y="42494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85800" y="4249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68480" y="4249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85800" y="42494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685800" y="42494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85800" y="4249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68480" y="4249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685800" y="42494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313800" y="42494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5941440" y="42494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85800" y="4249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668480" y="4249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85800" y="42494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249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85800" y="42494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85800" y="4249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668480" y="4249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685800" y="42494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313800" y="42494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5941440" y="42494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85800" y="4249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249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668480" y="4249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85800" y="42494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685800" y="42494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85800" y="4249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668480" y="4249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685800" y="42494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313800" y="42494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5941440" y="42494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2494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85800" y="4249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668480" y="4249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85800" y="42494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685800" y="42494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85800" y="4249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668480" y="4249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685800" y="42494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313800" y="42494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5941440" y="42494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192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192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192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0000"/>
              </a:buClr>
              <a:buSzPct val="20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20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0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0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8"/>
          <p:cNvSpPr/>
          <p:nvPr/>
        </p:nvSpPr>
        <p:spPr>
          <a:xfrm>
            <a:off x="762120" y="1752480"/>
            <a:ext cx="777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Line 8"/>
          <p:cNvSpPr/>
          <p:nvPr/>
        </p:nvSpPr>
        <p:spPr>
          <a:xfrm>
            <a:off x="762120" y="1752480"/>
            <a:ext cx="777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192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192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192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0000"/>
              </a:buClr>
              <a:buSzPct val="20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20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0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0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Line 8"/>
          <p:cNvSpPr/>
          <p:nvPr/>
        </p:nvSpPr>
        <p:spPr>
          <a:xfrm>
            <a:off x="762120" y="1752480"/>
            <a:ext cx="777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192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192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192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0000"/>
              </a:buClr>
              <a:buSzPct val="20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20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0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0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Line 8"/>
          <p:cNvSpPr/>
          <p:nvPr/>
        </p:nvSpPr>
        <p:spPr>
          <a:xfrm>
            <a:off x="762120" y="1752480"/>
            <a:ext cx="777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192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192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192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0000"/>
              </a:buClr>
              <a:buSzPct val="20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20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0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0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Line 8"/>
          <p:cNvSpPr/>
          <p:nvPr/>
        </p:nvSpPr>
        <p:spPr>
          <a:xfrm>
            <a:off x="762120" y="1752480"/>
            <a:ext cx="777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192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192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192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0000"/>
              </a:buClr>
              <a:buSzPct val="20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20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0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0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Line 8"/>
          <p:cNvSpPr/>
          <p:nvPr/>
        </p:nvSpPr>
        <p:spPr>
          <a:xfrm>
            <a:off x="762120" y="1752480"/>
            <a:ext cx="777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192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192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192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0000"/>
              </a:buClr>
              <a:buSzPct val="20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20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0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0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Line 8"/>
          <p:cNvSpPr/>
          <p:nvPr/>
        </p:nvSpPr>
        <p:spPr>
          <a:xfrm>
            <a:off x="762120" y="1752480"/>
            <a:ext cx="777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192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192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192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0000"/>
              </a:buClr>
              <a:buSzPct val="20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20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0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0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Line 8"/>
          <p:cNvSpPr/>
          <p:nvPr/>
        </p:nvSpPr>
        <p:spPr>
          <a:xfrm>
            <a:off x="762120" y="1752480"/>
            <a:ext cx="777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192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192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192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0000"/>
              </a:buClr>
              <a:buSzPct val="20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20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0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0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Line 8"/>
          <p:cNvSpPr/>
          <p:nvPr/>
        </p:nvSpPr>
        <p:spPr>
          <a:xfrm>
            <a:off x="762120" y="1752480"/>
            <a:ext cx="777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192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192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192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0000"/>
              </a:buClr>
              <a:buSzPct val="20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20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0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0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Line 8"/>
          <p:cNvSpPr/>
          <p:nvPr/>
        </p:nvSpPr>
        <p:spPr>
          <a:xfrm>
            <a:off x="762120" y="1752480"/>
            <a:ext cx="777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192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192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192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0000"/>
              </a:buClr>
              <a:buSzPct val="20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20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0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0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Line 8"/>
          <p:cNvSpPr/>
          <p:nvPr/>
        </p:nvSpPr>
        <p:spPr>
          <a:xfrm>
            <a:off x="762120" y="1752480"/>
            <a:ext cx="777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192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192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192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0000"/>
              </a:buClr>
              <a:buSzPct val="20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20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0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0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Line 8"/>
          <p:cNvSpPr/>
          <p:nvPr/>
        </p:nvSpPr>
        <p:spPr>
          <a:xfrm>
            <a:off x="762120" y="1752480"/>
            <a:ext cx="777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192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192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192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0000"/>
              </a:buClr>
              <a:buSzPct val="20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20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0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0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Line 8"/>
          <p:cNvSpPr/>
          <p:nvPr/>
        </p:nvSpPr>
        <p:spPr>
          <a:xfrm>
            <a:off x="762120" y="1752480"/>
            <a:ext cx="777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192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192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192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0000"/>
              </a:buClr>
              <a:buSzPct val="20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20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0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0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4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4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838080" y="22856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ject Management Basics</a:t>
            </a:r>
            <a:br>
              <a:rPr sz="4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ject Management Workshop for NCSU Libraries Fell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project managemen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project managemen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et of skills and methods of planning, organizing, and managing a project from inception to its successful compl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 project manag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 project manag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responsible for leading and coordinating the project effort from inception to its successful completio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 project manag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responsible for leading and coordinating the project effort from inception to its successful completion; the perso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sponsible for making things hap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Schedu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are schedules important to projects?  What value do they ad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poses of a Sched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192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s a commitment about when things will be d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poses of a Sched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192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s a commitment about when things will be d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192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courage everyone on the project to see their efforts as part of a wh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poses of a Sched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192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s a commitment about when things will be d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192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courage everyone on the project to see their efforts as part of a wh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192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s a tool for breaking work into manageable chu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Schedu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Ro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Exerc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poses of a Sched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192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s a commitment about when things will be d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192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courage everyone on the project to see their efforts as part of a wh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192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s a tool for breaking work into manageable chu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192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s a tool for measuring prog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arts of Any Sched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ng what needs to be done (requiremen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iding how it will be done (desig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arts of Any Sched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ng what needs to be done (requiremen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iding how it will be done (desig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ting it d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arts of Any Sched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ng what needs to be done (requiremen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iding how it will be done (desig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ting it d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 and Eval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ify that it was done 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8" name="Picture 5" descr="&#13;schedule.tiff                                                  0015D192_x000c_Macintosh HD                   C4DF8719:"/>
          <p:cNvPicPr/>
          <p:nvPr/>
        </p:nvPicPr>
        <p:blipFill>
          <a:blip r:embed="rId1"/>
          <a:stretch/>
        </p:blipFill>
        <p:spPr>
          <a:xfrm>
            <a:off x="685800" y="1209600"/>
            <a:ext cx="7772400" cy="451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you ever worked on a project that did not have well defined scheduling phases like th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might you allocate more of the project schedule for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nning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ase activit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might you allocate more of the project schedule for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plementatio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it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might you allocate more of the project schedule for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sting and evaluatio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it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Ro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Ro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192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though every project is different, there are commonly occurring roles that exist in most pro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192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imes roles are formally assigned; often they are 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192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imes individuals occupy more than one role in th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Manag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son who is responsible for the execution of project; defines the low-level requirements of the project and owns the project sched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8" name="Picture 9" descr="_x0007_pm.tiff                                                        0015D192_x000c_Macintosh HD                   C4DF8719:"/>
          <p:cNvPicPr/>
          <p:nvPr/>
        </p:nvPicPr>
        <p:blipFill>
          <a:blip r:embed="rId1"/>
          <a:stretch/>
        </p:blipFill>
        <p:spPr>
          <a:xfrm>
            <a:off x="1817640" y="609480"/>
            <a:ext cx="550872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Picture 3" descr="_x0013_ideal-web-page.tiff                                            0015D192_x000c_Macintosh HD                   C4DF8719:"/>
          <p:cNvPicPr/>
          <p:nvPr/>
        </p:nvPicPr>
        <p:blipFill>
          <a:blip r:embed="rId1"/>
          <a:stretch/>
        </p:blipFill>
        <p:spPr>
          <a:xfrm>
            <a:off x="685800" y="2647800"/>
            <a:ext cx="7772400" cy="1636920"/>
          </a:xfrm>
          <a:prstGeom prst="rect">
            <a:avLst/>
          </a:prstGeom>
          <a:ln w="0">
            <a:noFill/>
          </a:ln>
        </p:spPr>
      </p:pic>
      <p:sp>
        <p:nvSpPr>
          <p:cNvPr id="570" name="Rectangle 4"/>
          <p:cNvSpPr/>
          <p:nvPr/>
        </p:nvSpPr>
        <p:spPr>
          <a:xfrm>
            <a:off x="4262400" y="5532480"/>
            <a:ext cx="43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Don’t Make Me Think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y Steven Kru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siness Own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xecutive customer of the project who initiates and sponsors the project, communicates the motivation of the project, and defines the project requirements on a high-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Picture 5" descr="_x0012_businessowner.tiff                                             0015D192_x000c_Macintosh HD                   C4DF8719:"/>
          <p:cNvPicPr/>
          <p:nvPr/>
        </p:nvPicPr>
        <p:blipFill>
          <a:blip r:embed="rId1"/>
          <a:stretch/>
        </p:blipFill>
        <p:spPr>
          <a:xfrm>
            <a:off x="1944720" y="609480"/>
            <a:ext cx="525312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o’s 1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Law of Project Mgm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s without a clearly designate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usiness Owne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ject Manage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destined to fail or fou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L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erson who is responsible for acquiring and managing the content for the project; content may include metadata, images, binary data, or instructional cont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8" name="Picture 3" descr="_x0010_contentlead.tiff                                               0015D192_x000c_Macintosh HD                   C4DF8719:"/>
          <p:cNvPicPr/>
          <p:nvPr/>
        </p:nvPicPr>
        <p:blipFill>
          <a:blip r:embed="rId1"/>
          <a:stretch/>
        </p:blipFill>
        <p:spPr>
          <a:xfrm>
            <a:off x="1830240" y="609480"/>
            <a:ext cx="548172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chnical L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erson who owns the technical authority on the project; defines how the project is built, including what technologies are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Picture 5" descr="&#13;techlead.tiff                                                  0015D192_x000c_Macintosh HD                   C4DF8719:"/>
          <p:cNvPicPr/>
          <p:nvPr/>
        </p:nvPicPr>
        <p:blipFill>
          <a:blip r:embed="rId1"/>
          <a:stretch/>
        </p:blipFill>
        <p:spPr>
          <a:xfrm>
            <a:off x="2482920" y="609480"/>
            <a:ext cx="417816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Project Team Me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vidual contributors to the project such as marketing specialists, developers, content creators, user interface specialists; these roles vary from project to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4" name="Picture 5" descr="&#10;other.tiff                                                     0015D192_x000c_Macintosh HD                   C4DF8719:"/>
          <p:cNvPicPr/>
          <p:nvPr/>
        </p:nvPicPr>
        <p:blipFill>
          <a:blip r:embed="rId1"/>
          <a:stretch/>
        </p:blipFill>
        <p:spPr>
          <a:xfrm>
            <a:off x="2025720" y="609480"/>
            <a:ext cx="509112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Picture 11" descr="_x000c_generic.tiff                                                   0015D192_x000c_Macintosh HD                   C4DF8719:"/>
          <p:cNvPicPr/>
          <p:nvPr/>
        </p:nvPicPr>
        <p:blipFill>
          <a:blip r:embed="rId1"/>
          <a:stretch/>
        </p:blipFill>
        <p:spPr>
          <a:xfrm>
            <a:off x="2043000" y="609480"/>
            <a:ext cx="505800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les at Project Initi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very important to have a shared understanding about what these roles mean at the start of the project; lack of clarity o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 does wha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lead to project fail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eak (10 minut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192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al project mee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192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ormal face-to-face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192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management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192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192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ference c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192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red documen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192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ck of communication between project team members is a common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192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ck of communication between project team members is a common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192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o much communication can be a problem as 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 projec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192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ck of communication between project team members is a common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192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o much communication can be a problem as 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192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management can help facilitate the right amount of communication at the right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can too much project communication be a proble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l Project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192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TA instructional media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192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C Architects &amp; Builders Digital Col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Picture 6" descr="_x0017_instructionalmedia.tiff                                        0015D192_x000c_Macintosh HD                   C4DF8719:"/>
          <p:cNvPicPr/>
          <p:nvPr/>
        </p:nvPicPr>
        <p:blipFill>
          <a:blip r:embed="rId1"/>
          <a:stretch/>
        </p:blipFill>
        <p:spPr>
          <a:xfrm>
            <a:off x="2506680" y="609480"/>
            <a:ext cx="413064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4" name="Picture 4" descr="_x0011_ncarchitects.tiff                                              0015D192_x000c_Macintosh HD                   C4DF8719:"/>
          <p:cNvPicPr/>
          <p:nvPr/>
        </p:nvPicPr>
        <p:blipFill>
          <a:blip r:embed="rId1"/>
          <a:stretch/>
        </p:blipFill>
        <p:spPr>
          <a:xfrm>
            <a:off x="1820880" y="609480"/>
            <a:ext cx="550224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oup Exerci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7" name="Picture 2" descr="_x000c_generic.tiff                                                   0015D192_x000c_Macintosh HD                   C4DF8719:"/>
          <p:cNvPicPr/>
          <p:nvPr/>
        </p:nvPicPr>
        <p:blipFill>
          <a:blip r:embed="rId1"/>
          <a:stretch/>
        </p:blipFill>
        <p:spPr>
          <a:xfrm>
            <a:off x="2043000" y="609480"/>
            <a:ext cx="505800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8" name="Picture 4" descr="_x000c_model-a.tiff                                                   0015D192_x000c_Macintosh HD                   C4DF8719:"/>
          <p:cNvPicPr/>
          <p:nvPr/>
        </p:nvPicPr>
        <p:blipFill>
          <a:blip r:embed="rId1"/>
          <a:stretch/>
        </p:blipFill>
        <p:spPr>
          <a:xfrm>
            <a:off x="1878120" y="609480"/>
            <a:ext cx="538776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9" name="Picture 3" descr="_x000c_model-b.tiff                                                   0015D192_x000c_Macintosh HD                   C4DF8719:"/>
          <p:cNvPicPr/>
          <p:nvPr/>
        </p:nvPicPr>
        <p:blipFill>
          <a:blip r:embed="rId1"/>
          <a:stretch/>
        </p:blipFill>
        <p:spPr>
          <a:xfrm>
            <a:off x="2025720" y="609480"/>
            <a:ext cx="509112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0" name="Picture 3" descr="_x000c_model-c.tiff                                                   0015D192_x000c_Macintosh HD                   C4DF8719:"/>
          <p:cNvPicPr/>
          <p:nvPr/>
        </p:nvPicPr>
        <p:blipFill>
          <a:blip r:embed="rId1"/>
          <a:stretch/>
        </p:blipFill>
        <p:spPr>
          <a:xfrm>
            <a:off x="1792440" y="609480"/>
            <a:ext cx="555912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 projec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unique undertaking composed of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rrelated activitie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has a well defined beginning and end, often involving staff from cross-functional groups, that operates under specific constraints of resources, schedules, and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192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strengths, if any, do you see this model providing over the base mode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192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project management challenges would you anticipate in this mode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 projec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unique undertaking composed of interrelated activitie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ich has a well defined beginning and e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often involving staff from cross-functional groups, that operates under specific constraints of resources, schedules, and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 projec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unique undertaking composed of interrelated activities which has a well defined beginning and end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ften involving staff from cross-functional group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that operates under specific constraints of resources, schedules, and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 projec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unique undertaking composed of interrelated activities which has a well defined beginning and end, often involving staff from cross-functional group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at operates under specific constraints of resources, schedules, and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9:01:19Z</dcterms:created>
  <dc:creator>Tito Sierra, Markus Wust, and Kim Duckett</dc:creator>
  <dc:description/>
  <cp:keywords>project management</cp:keywords>
  <dc:language>en-US</dc:language>
  <cp:lastModifiedBy>contact@xlsxtemp.com</cp:lastModifiedBy>
  <cp:lastPrinted>2007-03-11T15:35:33Z</cp:lastPrinted>
  <dcterms:modified xsi:type="dcterms:W3CDTF">2017-06-30T10:50:50Z</dcterms:modified>
  <cp:revision>559</cp:revision>
  <dc:subject/>
  <dc:title>Project Management Basics</dc:title>
</cp:coreProperties>
</file>