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75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754440" y="0"/>
            <a:ext cx="29275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846000" y="7635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00000" y="4733640"/>
            <a:ext cx="488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0" y="9391680"/>
            <a:ext cx="292752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754440" y="9391680"/>
            <a:ext cx="292752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0473-80D7-467F-94E4-AC1350B17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754440" y="9391680"/>
            <a:ext cx="29275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C731-957A-4187-BF55-7837D1EB1624}" type="slidenum">
              <a:rPr b="0" lang="en-US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46000" y="7635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0000" y="4733640"/>
            <a:ext cx="488016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BAB-5DE2-4ABD-BE44-EEF3C35F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681-51A7-4494-B134-257C46B8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6AF-435D-42B0-90AD-58F12BB5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1EB-E04A-457C-92CD-2995D20A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E055-6423-43DD-8712-63812F78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C0E0-DF1B-451D-A51C-1A17B5FD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9391-A47D-4148-8C2D-7F1AACC2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2D33-6CD0-4597-8ED3-5C734D47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6798-6BEC-4D2A-B597-290F257D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2EB4-FCE6-42F9-BC33-FFE98CBA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2BFD-8043-48DB-800F-7AFAEB00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B3B-F79B-49AC-8D69-443E7D9A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729E-1238-4808-A1CF-4F47E896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87E8-E268-4CFB-B2BE-50BD694E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BF4D-DC7D-46D1-83E1-B2306197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1FC4-2D4A-4523-802C-649B04D3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E4CB-80B4-4270-8DDB-86C7F9C1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CA8-41F8-47DD-9646-6F21FF5C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9B8-50A1-46C9-9628-41D0F323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18F-B7C2-48C3-B07A-3760593A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4ED-D1C4-44C8-8092-3D95FD33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A10-218D-4E60-A088-1EE19656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8A5-1FB3-4A94-AE8F-ADCF3AF9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9F6-28AC-42B9-B3B5-8015734D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1D1F-11EB-4317-80C8-8113A30E10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6412-0F6D-4425-A0EA-AE2BE909C969}" type="slidenum"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7620120" cy="1274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ahoma"/>
              </a:rPr>
              <a:t>Project Management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Why is Project Management Important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Enables us to map out a course of action or work pla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Helps us to think  systematically and thoroughl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Unique Task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pecific Objectiv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Variety of Resourc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ime boun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Advan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610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n built Monitoring/ Sequencin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Easy and Early identification of Bottleneck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Activity based costin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dentification and Addition of missing and new activit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Preempting unnecessary activity/expenditu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Timely Comple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Assigning task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Reportin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Road to Better Project Managemen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Find a Project plan that fits your style of project management need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t may be as simple as creating templates, forms and spreadsheets to track task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Formation of a Project Management committe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Listing out all the tasks and sub-tasks to accomplish a go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Jot down the time period and person responsible against each task/sub-task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dentify a Project Manag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dentify Task Manag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equence the activities in relation to time perio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Present to the PMC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Finalize by reaching an agreement and start work…..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Road to Better Project Managemen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5105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mplem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Regular Monitor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Resource Suppor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Critical issues discussed and solu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eeting with the team on completion of each major mileston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rack the progress against the pla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ystem to add/delete tasks in the PM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52640" y="152280"/>
            <a:ext cx="93726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nsequences of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not using PM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545472"/>
              </a:buClr>
              <a:buSzPct val="7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DELAY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545472"/>
              </a:buClr>
              <a:buSzPct val="7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COST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545472"/>
              </a:buClr>
              <a:buSzPct val="7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WASTE OF RESOURCES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545472"/>
              </a:buClr>
              <a:buSzPct val="7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QUALITY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545472"/>
              </a:buClr>
              <a:buSzPct val="7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DISSATISFACTION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545472"/>
              </a:buClr>
              <a:buSzPct val="7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REPUTATION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ject Management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3" name="Object 4" descr=""/>
          <p:cNvPicPr/>
          <p:nvPr/>
        </p:nvPicPr>
        <p:blipFill>
          <a:blip r:embed="rId1"/>
          <a:stretch/>
        </p:blipFill>
        <p:spPr>
          <a:xfrm>
            <a:off x="3224160" y="1752480"/>
            <a:ext cx="2033640" cy="2895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2133720" y="48769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Work Smart Not Hard !!!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685800" y="83808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Arial"/>
              </a:rPr>
              <a:t>What is Project Management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143000" y="1752480"/>
            <a:ext cx="7391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Project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: A group of milestones or phases, activities or tasks that support an effort to accomplish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anagement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: is the process of Planning, Organizing, Controlling and Measur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ject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 collection of linked activities, carried out in an organised manner,with a clearly defined START POINT and END POINT to achieve some specific results desired to satisfy the needs of the organisation at the current tim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ject Management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 dynamic process that utilises the appropriate resources of the organisation in a controlled and structured manner, to achieve some clearly defined objectives identified as need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t is always conducted within a defined set of constrai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What does Project Management Entail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Planning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the most critical and gets the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east amount of our tim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Beginning with the End in mind-Stephen Cove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Organizing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rderly fashion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Contingent/Prerequisite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Controlling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critical if we are to use our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imited resources wisel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easuring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determine if we accomplished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goal or met the target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Measuring…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re we efficient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re we productive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re we doing a good job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hat is the outcome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Is it what we wanted to be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If you can’t plan it, You can’t do i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If you can’t measure it, you can’t manage i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52640" y="-228600"/>
            <a:ext cx="9677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66"/>
                </a:solidFill>
                <a:latin typeface="Tahoma"/>
              </a:rPr>
              <a:t>Who uses Project Management?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545472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early Everyone to some degre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eople plan their Days, their Weeks, their Vacations and their Budgets and keep a simple project management form known as ‘’To Do’’ lis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545472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y 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Process or Mean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used to 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rack task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or efforts towards accomplishing a goal could be considered Project Managem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Why is Project Management used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t is necessary to Track or Measure the progress we have achieved towards a Goal we wish to accomplish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e use Project Management to 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id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 in 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aximizing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Optimizing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ur resources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accomplish our goa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How much time does Project Management tak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Not much. Probably more time is wasted as a consequence of lack of Project Management tool than is spent to Plan adequately, Organize, Control effectively and Measure appropriatel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How long: As long as there are things to d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06:15:01Z</dcterms:created>
  <dc:creator>DEMO</dc:creator>
  <dc:description/>
  <dc:language>en-US</dc:language>
  <cp:lastModifiedBy>contact@xlsxtemp.com</cp:lastModifiedBy>
  <cp:lastPrinted>2001-06-02T03:03:06Z</cp:lastPrinted>
  <dcterms:modified xsi:type="dcterms:W3CDTF">2017-06-30T10:47:24Z</dcterms:modified>
  <cp:revision>17</cp:revision>
  <dc:subject/>
  <dc:title>PROJECT MANAGEMENT</dc:title>
</cp:coreProperties>
</file>