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 Project Management - C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4 - Risk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A5E1-D8E9-4C16-A82F-89EBD144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ce Project Management - CP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ule 4 - Risk Managemen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FA28-2EAA-4691-8ED5-6C3418312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F3C-F5A0-40B6-A2FE-A6CCAFDD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619-A817-4770-BB07-C8B9D19B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C48-ADF7-4E10-A66E-5542DD1C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BE8-5704-4EAD-94E5-5FEE077F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9F1F-DA3F-472E-8F52-A1FAAE30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A0E7-523A-475E-9551-FA59870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329D-4D95-4267-9CE5-1D95A80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829A-AB27-4777-BF2D-C2743BE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634C-A7F4-4D3F-AC15-0B73E63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911A-3160-4E45-8A46-C579E46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D821-945B-4BB3-866E-21E4E27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349-755E-49F8-B9AB-0BD646CA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8E2-60C1-41D8-AA9A-370ACD9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1B98-3A88-42FF-BAB8-3CD0AC4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ACBE-567D-442D-8236-EC5368D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0997-7DD4-4973-BB01-B887443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CDCA-DFFA-473A-BA7E-2FE4EB98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C63-4C12-4B20-904D-FF1303C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F61-7188-4AA9-81D7-99C7AA4B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665-1C00-4602-B641-0268C30B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A49-11A3-4E01-A4D2-2279F25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DB2-3084-4D3F-9EAB-F9809B6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C17-97A9-4B95-B370-F16B8EBD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A35-2712-4723-84A9-19F5DBC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847-0664-4370-B43D-8518D3A2B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B53-F1CC-4F50-B116-DF026A10F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066680" y="16002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Risk Management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Tolera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666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Taker / Risk Seek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1371600" y="283356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1371600" y="5195880"/>
            <a:ext cx="3124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990720" y="29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267080" y="51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105520" y="28954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lerance increases as more money is at stak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ers a more uncertain outcome and be willing to pay a penalty to take a risk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11"/>
          <p:cNvSpPr/>
          <p:nvPr/>
        </p:nvSpPr>
        <p:spPr>
          <a:xfrm>
            <a:off x="1371600" y="3048120"/>
            <a:ext cx="2971800" cy="2133360"/>
          </a:xfrm>
          <a:custGeom>
            <a:avLst/>
            <a:gdLst/>
            <a:ahLst/>
            <a:rect l="l" t="t" r="r" b="b"/>
            <a:pathLst>
              <a:path w="1872" h="1344">
                <a:moveTo>
                  <a:pt x="0" y="1344"/>
                </a:moveTo>
                <a:cubicBezTo>
                  <a:pt x="248" y="1324"/>
                  <a:pt x="496" y="1304"/>
                  <a:pt x="720" y="1248"/>
                </a:cubicBezTo>
                <a:cubicBezTo>
                  <a:pt x="944" y="1192"/>
                  <a:pt x="1184" y="1104"/>
                  <a:pt x="1344" y="1008"/>
                </a:cubicBezTo>
                <a:cubicBezTo>
                  <a:pt x="1504" y="912"/>
                  <a:pt x="1592" y="840"/>
                  <a:pt x="1680" y="672"/>
                </a:cubicBezTo>
                <a:cubicBezTo>
                  <a:pt x="1768" y="504"/>
                  <a:pt x="1824" y="128"/>
                  <a:pt x="187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SDOT Risk Poli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066680" y="1676520"/>
            <a:ext cx="79250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Executive Order 1032.00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ject Management On-Line Gu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sk Regis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219320" y="5410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ww.wsdot.wa.gov/Projects/ProjectMgmt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SDOT Risk Poli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676520"/>
            <a:ext cx="792504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ost Risk Estimating &amp; Management (CREM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EVP – Cost Estimate Validation Proces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RA – Cost Risk Assess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219320" y="5410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ww.wsdot.wa.gov/Projects/ProjectMgmt/RiskAssessment/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Planning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066680" y="1676520"/>
            <a:ext cx="79250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anagement Plan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objectives of Risk Management Planning are to increase the probability and impact of positive events (opportunities) and decrease the probability and impact of adverse events (threats) to project objectiv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1600200" y="5334120"/>
            <a:ext cx="3124080" cy="1373760"/>
          </a:xfrm>
          <a:prstGeom prst="rect">
            <a:avLst/>
          </a:prstGeom>
          <a:solidFill>
            <a:srgbClr val="00cc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gnoring risk doesn’t make the risk go away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MCj00911230000[1]"/>
          <p:cNvPicPr/>
          <p:nvPr/>
        </p:nvPicPr>
        <p:blipFill>
          <a:blip r:embed="rId1"/>
          <a:stretch/>
        </p:blipFill>
        <p:spPr>
          <a:xfrm>
            <a:off x="6637320" y="4754520"/>
            <a:ext cx="1744560" cy="20271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066680" y="1676520"/>
            <a:ext cx="79250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anagement Plan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tects project invest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active management – early warn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hieve project objectiv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Planning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Planning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66680" y="1676520"/>
            <a:ext cx="79250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anagement Planning Step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 – Review Organization Risk Polic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 – Risk Ident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 – Qualitative Risk Analy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Planning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066680" y="1676520"/>
            <a:ext cx="79250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anagement Planning Step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4 – Quantitative Risk Analy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5 – Develop Risk Response Strate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6 – Risk Monitoring &amp; Contro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066680" y="1676520"/>
            <a:ext cx="792504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view Organization Risk Polic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es this project require assistance from the CREM offic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direction and tools are given in the Project Management On-Line Guid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is the Risk Profile of the Agency and Project Team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066680" y="1676520"/>
            <a:ext cx="79250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Ident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rainstorm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lphi Techniqu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view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66680" y="1676520"/>
            <a:ext cx="792504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Ident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oot Cause Ident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WOT Analy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ssumption Analy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agramming Techniqu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Defin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066680" y="1676520"/>
            <a:ext cx="79250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anage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actice of dealing with project risk.  It includes planning for risk, assessing risk, developing risk response strategies, and monitoring risk throughout the project life cycl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066680" y="1676520"/>
            <a:ext cx="79250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Outcome:  Risk Regist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atus (active, dormant, retired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D#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ate identified &amp; Project Phas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066680" y="1676520"/>
            <a:ext cx="79250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Outcome:  Risk Regist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al Assign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sk Event (SMART Technique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sk Trigg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xercise – Risk Identific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219320" y="1523880"/>
            <a:ext cx="7848360" cy="482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sk Identification Exerc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team identify risk events for either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ibbean vac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custom hom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 a group, select a project and identify potential risk events.  Brainstorm potential risks events, use the SMART method to define the risks and root cause identification for the risk trigger.  Record on Risk Registe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1676520"/>
            <a:ext cx="792504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Risk Analys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ioritizing risks for subsequent further analysis or action by assessing and combining their probability of occurrence and impac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066680" y="1676520"/>
            <a:ext cx="79250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mpact/Probability Matri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common method/tool to determine whether a risk is considered low, moderate, or high by combining the two dimensions of a risk:  its probability of occurrence, and its impact on objectives if it occur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066680" y="1676520"/>
            <a:ext cx="792504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mpact/Probability Matri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orrect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:  confusing or combining Impact &amp; Probabilit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t is very unlikely, therefore the impact is low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rrect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:  Keep Impact &amp; Probability independ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bability is low, but if it happens, the project will fail.  Therefore the impact is high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590920" y="5943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 rot="16200000">
            <a:off x="343080" y="41522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 rot="16200000">
            <a:off x="1098360" y="4844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 rot="16200000">
            <a:off x="1174680" y="3396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133720" y="5729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886200" y="5729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1828800" y="4343400"/>
            <a:ext cx="167652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828800" y="2895480"/>
            <a:ext cx="167652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3505320" y="2895480"/>
            <a:ext cx="167616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3505320" y="4343400"/>
            <a:ext cx="167616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5562720" y="26668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Green:  Low Risk (Passive Acceptance – workaroun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Yellow:  Moderate Risk (Active Acceptance – contingenc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:  High Risk (Risk Response Plan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1066680" y="1676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a 2x2 Impact/Probability Matri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1828800" y="5943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638680" y="259092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:  Key project team member with specialized skill leaves project team before work is don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:  Hig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: L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457200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Yellow Zone – Moderate Ri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1066680" y="1676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x2 Impact/Probability Matrix examp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2590920" y="5943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 rot="16200000">
            <a:off x="343080" y="41522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 rot="16200000">
            <a:off x="1098360" y="4844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1"/>
          <p:cNvSpPr/>
          <p:nvPr/>
        </p:nvSpPr>
        <p:spPr>
          <a:xfrm rot="16200000">
            <a:off x="1174680" y="3396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2133720" y="5729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3886200" y="5729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1828800" y="4343400"/>
            <a:ext cx="1676520" cy="1447920"/>
          </a:xfrm>
          <a:prstGeom prst="rect">
            <a:avLst/>
          </a:prstGeom>
          <a:solidFill>
            <a:srgbClr val="04da1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1828800" y="2895480"/>
            <a:ext cx="1676520" cy="1447920"/>
          </a:xfrm>
          <a:prstGeom prst="rect">
            <a:avLst/>
          </a:prstGeom>
          <a:solidFill>
            <a:srgbClr val="04da1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3505320" y="2895480"/>
            <a:ext cx="1676160" cy="1447920"/>
          </a:xfrm>
          <a:prstGeom prst="rect">
            <a:avLst/>
          </a:prstGeom>
          <a:solidFill>
            <a:srgbClr val="e82b1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3505320" y="4343400"/>
            <a:ext cx="1676160" cy="1447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886200" y="4648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828800" y="5943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638680" y="2590920"/>
            <a:ext cx="3276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:  Change to regulatory ordinance requires additional wetland mitigation, requiring additional R/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:  Hig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: Hig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066680" y="1676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x2 Impact/Probability Matrix examp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2590920" y="5943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 rot="16200000">
            <a:off x="343080" y="41522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0"/>
          <p:cNvSpPr/>
          <p:nvPr/>
        </p:nvSpPr>
        <p:spPr>
          <a:xfrm rot="16200000">
            <a:off x="1098360" y="4844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 rot="16200000">
            <a:off x="1174680" y="3396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2133720" y="5729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886200" y="5729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1828800" y="4343400"/>
            <a:ext cx="1676520" cy="1447920"/>
          </a:xfrm>
          <a:prstGeom prst="rect">
            <a:avLst/>
          </a:prstGeom>
          <a:solidFill>
            <a:srgbClr val="04da1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1828800" y="2895480"/>
            <a:ext cx="1676520" cy="1447920"/>
          </a:xfrm>
          <a:prstGeom prst="rect">
            <a:avLst/>
          </a:prstGeom>
          <a:solidFill>
            <a:srgbClr val="04da1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505320" y="2895480"/>
            <a:ext cx="1676160" cy="1447920"/>
          </a:xfrm>
          <a:prstGeom prst="rect">
            <a:avLst/>
          </a:prstGeom>
          <a:solidFill>
            <a:srgbClr val="e82b1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3505320" y="4343400"/>
            <a:ext cx="1676160" cy="1447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886200" y="3124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472428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 Zone – High Ri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828800" y="5943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638680" y="2590920"/>
            <a:ext cx="3276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:  Mariners first World Series game is scheduled on the same date as the Environmental Hea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:  L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: Lo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066680" y="1676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x2 Impact/Probability Matrix examp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590920" y="5943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 rot="16200000">
            <a:off x="343080" y="415224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 rot="16200000">
            <a:off x="1098360" y="4844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 rot="16200000">
            <a:off x="1174680" y="3396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2133720" y="5729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886200" y="5729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828800" y="4343400"/>
            <a:ext cx="1676520" cy="1447920"/>
          </a:xfrm>
          <a:prstGeom prst="rect">
            <a:avLst/>
          </a:prstGeom>
          <a:solidFill>
            <a:srgbClr val="04da1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1828800" y="2895480"/>
            <a:ext cx="1676520" cy="1447920"/>
          </a:xfrm>
          <a:prstGeom prst="rect">
            <a:avLst/>
          </a:prstGeom>
          <a:solidFill>
            <a:srgbClr val="04da1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3505320" y="2895480"/>
            <a:ext cx="1676160" cy="1447920"/>
          </a:xfrm>
          <a:prstGeom prst="rect">
            <a:avLst/>
          </a:prstGeom>
          <a:solidFill>
            <a:srgbClr val="e82b1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3505320" y="4343400"/>
            <a:ext cx="1676160" cy="1447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2209680" y="4572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457200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33"/>
                </a:solidFill>
                <a:latin typeface="Arial"/>
              </a:rPr>
              <a:t>Green Zone – Low Ri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Defin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66680" y="1676520"/>
            <a:ext cx="792504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ncerta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nt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at has a positive or negative effect on at least one of the project objectives (scope, schedule, budget, quality)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1066680" y="1676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parative Risk Ra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Group 26"/>
          <p:cNvGrpSpPr/>
          <p:nvPr/>
        </p:nvGrpSpPr>
        <p:grpSpPr>
          <a:xfrm>
            <a:off x="1295280" y="2362320"/>
            <a:ext cx="4114800" cy="3735720"/>
            <a:chOff x="1295280" y="2362320"/>
            <a:chExt cx="4114800" cy="3735720"/>
          </a:xfrm>
        </p:grpSpPr>
        <p:sp>
          <p:nvSpPr>
            <p:cNvPr id="317" name="Rectangle 6"/>
            <p:cNvSpPr/>
            <p:nvPr/>
          </p:nvSpPr>
          <p:spPr>
            <a:xfrm>
              <a:off x="2057040" y="2362320"/>
              <a:ext cx="838440" cy="76176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057040" y="3124080"/>
              <a:ext cx="83844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2057040" y="3886200"/>
              <a:ext cx="83844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2057040" y="4648320"/>
              <a:ext cx="838440" cy="76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895480" y="3124080"/>
              <a:ext cx="838080" cy="7621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2895480" y="3886200"/>
              <a:ext cx="83808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2895480" y="4648320"/>
              <a:ext cx="838080" cy="76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3733560" y="3886200"/>
              <a:ext cx="838080" cy="7621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Rectangle 14"/>
            <p:cNvSpPr/>
            <p:nvPr/>
          </p:nvSpPr>
          <p:spPr>
            <a:xfrm>
              <a:off x="3733560" y="4648320"/>
              <a:ext cx="838080" cy="76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15"/>
            <p:cNvSpPr/>
            <p:nvPr/>
          </p:nvSpPr>
          <p:spPr>
            <a:xfrm>
              <a:off x="4571640" y="4648320"/>
              <a:ext cx="838440" cy="76176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16"/>
            <p:cNvSpPr/>
            <p:nvPr/>
          </p:nvSpPr>
          <p:spPr>
            <a:xfrm>
              <a:off x="1295280" y="2438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17"/>
            <p:cNvSpPr/>
            <p:nvPr/>
          </p:nvSpPr>
          <p:spPr>
            <a:xfrm>
              <a:off x="1295280" y="32306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129528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12952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Text Box 20"/>
            <p:cNvSpPr/>
            <p:nvPr/>
          </p:nvSpPr>
          <p:spPr>
            <a:xfrm>
              <a:off x="2133360" y="55166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Text Box 21"/>
            <p:cNvSpPr/>
            <p:nvPr/>
          </p:nvSpPr>
          <p:spPr>
            <a:xfrm>
              <a:off x="2971440" y="55166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Text Box 22"/>
            <p:cNvSpPr/>
            <p:nvPr/>
          </p:nvSpPr>
          <p:spPr>
            <a:xfrm>
              <a:off x="3809880" y="55166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Text Box 23"/>
            <p:cNvSpPr/>
            <p:nvPr/>
          </p:nvSpPr>
          <p:spPr>
            <a:xfrm>
              <a:off x="4647960" y="55166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Text Box 24"/>
          <p:cNvSpPr/>
          <p:nvPr/>
        </p:nvSpPr>
        <p:spPr>
          <a:xfrm>
            <a:off x="2133720" y="3230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2133720" y="3992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971800" y="4754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971800" y="3992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133720" y="4754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809880" y="4754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6629400" y="2433600"/>
            <a:ext cx="2209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k A –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k B – 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k C –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sk D –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5867280" y="5257800"/>
            <a:ext cx="3048120" cy="132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ority Order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 – A – B – 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xercise – Qualitative Risk Analy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219320" y="1523880"/>
            <a:ext cx="7848360" cy="43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litative Risk Analysis Exerc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2x2 impact &amp; probability matrix, assess the risks identified in the last exerci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evaluate the impact of the risk event on the project objecti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ith the risks identified as “high” impact, assess the probability of the risk even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 comparative risk rating on the “high-high” (red zone) risk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066680" y="1676520"/>
            <a:ext cx="79250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ative Risk Analys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cess of numerically analyzing the effect of identified risks on the project’s objectives.  (In particular, the project schedule and the project costs)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76520"/>
            <a:ext cx="792504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ost Risk Estimating &amp; Management (CREM) Off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RA:  Cost Risk Assessm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pg.37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$25 million or mo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$5 million or more with specific characteristic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EVP®:  Cost Estimate Validation Proces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pg.37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$100 million or mo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76520"/>
            <a:ext cx="792504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ative Risk Analys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Quantify possible outcomes for the projec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ssess probability of achieving specific project objectiv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dentify risks requiring most atten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066680" y="1676520"/>
            <a:ext cx="792504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ative Risk Analys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dentify realistic and achievable cost, schedule, or scope targets, given project risk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termine best management decision when conditions or outcomes are uncer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066680" y="1676520"/>
            <a:ext cx="79250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ative Risk Analysis too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viewing (SM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cision Tree Analy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onte Carlo Simul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1066680" y="1676520"/>
            <a:ext cx="792504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ative Risk Analysis produc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dated Risk Regis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babilistic analysis for project success (time and cost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dated priority of risk ev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rends in risk analy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819520" y="1692360"/>
            <a:ext cx="6172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3276720" y="1666800"/>
            <a:ext cx="5486400" cy="3911760"/>
          </a:xfrm>
          <a:custGeom>
            <a:avLst/>
            <a:gdLst/>
            <a:ahLst/>
            <a:rect l="l" t="t" r="r" b="b"/>
            <a:pathLst>
              <a:path w="3456" h="2464">
                <a:moveTo>
                  <a:pt x="0" y="2464"/>
                </a:moveTo>
                <a:cubicBezTo>
                  <a:pt x="220" y="2448"/>
                  <a:pt x="440" y="2432"/>
                  <a:pt x="624" y="2368"/>
                </a:cubicBezTo>
                <a:cubicBezTo>
                  <a:pt x="808" y="2304"/>
                  <a:pt x="984" y="2152"/>
                  <a:pt x="1104" y="2080"/>
                </a:cubicBezTo>
                <a:cubicBezTo>
                  <a:pt x="1224" y="2008"/>
                  <a:pt x="1288" y="1984"/>
                  <a:pt x="1344" y="1936"/>
                </a:cubicBezTo>
                <a:cubicBezTo>
                  <a:pt x="1400" y="1888"/>
                  <a:pt x="1400" y="1856"/>
                  <a:pt x="1440" y="1792"/>
                </a:cubicBezTo>
                <a:cubicBezTo>
                  <a:pt x="1480" y="1728"/>
                  <a:pt x="1504" y="1616"/>
                  <a:pt x="1584" y="1552"/>
                </a:cubicBezTo>
                <a:cubicBezTo>
                  <a:pt x="1664" y="1488"/>
                  <a:pt x="1800" y="1520"/>
                  <a:pt x="1920" y="1408"/>
                </a:cubicBezTo>
                <a:cubicBezTo>
                  <a:pt x="2040" y="1296"/>
                  <a:pt x="2224" y="1040"/>
                  <a:pt x="2304" y="880"/>
                </a:cubicBezTo>
                <a:cubicBezTo>
                  <a:pt x="2384" y="720"/>
                  <a:pt x="2336" y="568"/>
                  <a:pt x="2400" y="448"/>
                </a:cubicBezTo>
                <a:cubicBezTo>
                  <a:pt x="2464" y="328"/>
                  <a:pt x="2560" y="224"/>
                  <a:pt x="2688" y="160"/>
                </a:cubicBezTo>
                <a:cubicBezTo>
                  <a:pt x="2816" y="96"/>
                  <a:pt x="3040" y="88"/>
                  <a:pt x="3168" y="64"/>
                </a:cubicBezTo>
                <a:cubicBezTo>
                  <a:pt x="3296" y="40"/>
                  <a:pt x="3400" y="0"/>
                  <a:pt x="3456" y="16"/>
                </a:cubicBezTo>
              </a:path>
            </a:pathLst>
          </a:custGeom>
          <a:noFill/>
          <a:ln w="50760">
            <a:solidFill>
              <a:srgbClr val="e82b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2514600" y="352116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2514600" y="451152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2514600" y="25304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1981080" y="43592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981080" y="3336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1981080" y="2346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1905120" y="150804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1981080" y="5425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16"/>
          <p:cNvSpPr/>
          <p:nvPr/>
        </p:nvSpPr>
        <p:spPr>
          <a:xfrm>
            <a:off x="2819520" y="55785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17"/>
          <p:cNvSpPr/>
          <p:nvPr/>
        </p:nvSpPr>
        <p:spPr>
          <a:xfrm>
            <a:off x="3581280" y="55785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18"/>
          <p:cNvSpPr/>
          <p:nvPr/>
        </p:nvSpPr>
        <p:spPr>
          <a:xfrm>
            <a:off x="5105520" y="55785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6629400" y="55785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8153280" y="55785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3200400" y="5927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30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22"/>
          <p:cNvSpPr/>
          <p:nvPr/>
        </p:nvSpPr>
        <p:spPr>
          <a:xfrm>
            <a:off x="4724280" y="5927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$33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6248520" y="59277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36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7772400" y="5927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39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5"/>
          <p:cNvSpPr/>
          <p:nvPr/>
        </p:nvSpPr>
        <p:spPr>
          <a:xfrm flipV="1">
            <a:off x="5105520" y="48924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6"/>
          <p:cNvSpPr/>
          <p:nvPr/>
        </p:nvSpPr>
        <p:spPr>
          <a:xfrm flipV="1">
            <a:off x="7543800" y="1920600"/>
            <a:ext cx="0" cy="4343400"/>
          </a:xfrm>
          <a:prstGeom prst="line">
            <a:avLst/>
          </a:prstGeom>
          <a:ln w="507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7"/>
          <p:cNvSpPr/>
          <p:nvPr/>
        </p:nvSpPr>
        <p:spPr>
          <a:xfrm>
            <a:off x="2057400" y="1920960"/>
            <a:ext cx="5486400" cy="0"/>
          </a:xfrm>
          <a:prstGeom prst="line">
            <a:avLst/>
          </a:prstGeom>
          <a:ln w="507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7086600" y="62643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$37.5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29"/>
          <p:cNvSpPr/>
          <p:nvPr/>
        </p:nvSpPr>
        <p:spPr>
          <a:xfrm>
            <a:off x="2133720" y="4892760"/>
            <a:ext cx="2971800" cy="0"/>
          </a:xfrm>
          <a:prstGeom prst="line">
            <a:avLst/>
          </a:prstGeom>
          <a:ln w="507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30"/>
          <p:cNvSpPr/>
          <p:nvPr/>
        </p:nvSpPr>
        <p:spPr>
          <a:xfrm>
            <a:off x="1447920" y="1736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90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31"/>
          <p:cNvSpPr/>
          <p:nvPr/>
        </p:nvSpPr>
        <p:spPr>
          <a:xfrm>
            <a:off x="1447920" y="47084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15%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029200" y="6340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33"/>
          <p:cNvSpPr/>
          <p:nvPr/>
        </p:nvSpPr>
        <p:spPr>
          <a:xfrm rot="16200000">
            <a:off x="115560" y="3176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3657600" y="838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TAL PROJECT CO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3657600" y="1143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umulative Cha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Group 39"/>
          <p:cNvGrpSpPr/>
          <p:nvPr/>
        </p:nvGrpSpPr>
        <p:grpSpPr>
          <a:xfrm>
            <a:off x="5105520" y="4876920"/>
            <a:ext cx="2438280" cy="337320"/>
            <a:chOff x="5105520" y="4876920"/>
            <a:chExt cx="2438280" cy="337320"/>
          </a:xfrm>
        </p:grpSpPr>
        <p:sp>
          <p:nvSpPr>
            <p:cNvPr id="397" name="Text Box 36"/>
            <p:cNvSpPr/>
            <p:nvPr/>
          </p:nvSpPr>
          <p:spPr>
            <a:xfrm>
              <a:off x="5410080" y="4876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4da1d"/>
                  </a:solidFill>
                  <a:latin typeface="Arial"/>
                </a:rPr>
                <a:t>Contingency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Line 38"/>
            <p:cNvSpPr/>
            <p:nvPr/>
          </p:nvSpPr>
          <p:spPr>
            <a:xfrm>
              <a:off x="5105520" y="5181480"/>
              <a:ext cx="2438280" cy="0"/>
            </a:xfrm>
            <a:prstGeom prst="line">
              <a:avLst/>
            </a:prstGeom>
            <a:ln w="38160">
              <a:solidFill>
                <a:srgbClr val="04da1d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066680" y="1676520"/>
            <a:ext cx="792504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Strate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ocess of developing options and actions to enhance opportunities and to reduce threats to the project objectiv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Defin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66680" y="1676520"/>
            <a:ext cx="792504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hre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project risk that has a negative effec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ject Managers will look for ways to eliminate or reduce the effects of a threa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066680" y="1676520"/>
            <a:ext cx="792504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Strate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active, not reacti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ppropriate to significance of ris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imel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066680" y="1676520"/>
            <a:ext cx="792504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Strate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alistic within project contex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greed upon by project team and all parties involv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ssigned to / owned by a responsible pers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066680" y="1676520"/>
            <a:ext cx="7925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voidanc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Changing a project objective to eliminate the threat posed by an adverse risk eve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066680" y="1676520"/>
            <a:ext cx="792504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nsferenc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Shifting the negative impact of a threat, along with the ownership of the response, to a third part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066680" y="1676520"/>
            <a:ext cx="7925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ion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Reducing the Probability or Impact of an adverse risk event (threat) to an acceptable threshol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1066680" y="1676520"/>
            <a:ext cx="792504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ptanc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The project team decides not to change project objectives to deal with the risk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sive acceptanc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  no action , deal with threats as they occur (workaround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e acceptanc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  establish a contingency reserve to handle ris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3962520" y="5867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 rot="16200000">
            <a:off x="1867320" y="407592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 rot="16200000">
            <a:off x="2622600" y="4768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 rot="16200000">
            <a:off x="2698560" y="3321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581280" y="5653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Low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334120" y="565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igh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3276720" y="4267080"/>
            <a:ext cx="1676160" cy="1447920"/>
          </a:xfrm>
          <a:prstGeom prst="rect">
            <a:avLst/>
          </a:prstGeom>
          <a:solidFill>
            <a:srgbClr val="33cc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3276720" y="2819520"/>
            <a:ext cx="1676160" cy="1447560"/>
          </a:xfrm>
          <a:prstGeom prst="rect">
            <a:avLst/>
          </a:prstGeom>
          <a:solidFill>
            <a:srgbClr val="33cc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4952880" y="2819520"/>
            <a:ext cx="1676520" cy="14475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4952880" y="4267080"/>
            <a:ext cx="1676520" cy="14479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5562720" y="297180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 rot="16200000">
            <a:off x="3087360" y="3846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workaround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495288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or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– T – M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10666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Strategy (threats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066680" y="1676520"/>
            <a:ext cx="792504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loit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This strategy seeks to eliminate the uncertainty with an opportunity by changing a project objective to ensure it happen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1066680" y="1676520"/>
            <a:ext cx="792504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ar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Allocating ownership of the positive risk event to a third party who is best able to capture the opportunity for the projec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1066680" y="1676520"/>
            <a:ext cx="7925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hanc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Increasing the probability and/or positive impact of an opportunit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Defin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066680" y="1676520"/>
            <a:ext cx="792504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Opportun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project risk that has a positive effec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ject Managers will look for ways to enhance, exploit, or share the effects of an opportunit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066680" y="1676520"/>
            <a:ext cx="79250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Response Defini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gency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– Not a risk response, but an output from risk planning.  Developed for actively accepted project risks.  This is typically defined as time or fund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xercise – Qualitative Risk Analy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1219320" y="1523880"/>
            <a:ext cx="7848360" cy="509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sk Response Strategy Exerc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results from the qualitative analysis from the last exercis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isk response strategies for the “high-high” (red zone) risk event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who will be the responsible person to monitor the risk event and the effectiveness of the risk respon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if active acceptance or further risk response planning will be required for the “high-low” (yellow zone) risk event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066680" y="1676520"/>
            <a:ext cx="792504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onitoring &amp; Contro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naging the Risk Register during the “Work the Plan” phase of the project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cognize the probability and impact of risk events may change during the life of the projec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so recognizing that additional risks events can be identified during the “Work the Plan”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1066680" y="1676520"/>
            <a:ext cx="79250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onitoring &amp; Contro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ssign a responsible party (ownership) of the risk eve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rack risk event statu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ve/Dormant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: risk is currently being monitored and analyz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tire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:  risk event (trigger) no longer poses a threat to the projec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1066680" y="1676520"/>
            <a:ext cx="79250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Monitoring &amp; Contro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isk Registers should be a standing agenda item for project team meeting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isk reporting should be an standing reporting item for all project progress report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SDOT tools for reporting (PDIS, QPR, GMAP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Management Planning – Step 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Defin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066680" y="1676520"/>
            <a:ext cx="79250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Trigg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 indicator that a risk event is immine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Defini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1676520"/>
            <a:ext cx="79250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Toleran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sk Adverse / Risk Avert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sk Neutr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isk Taker / Risk Seek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Tolera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1371600" y="283356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1371600" y="5195880"/>
            <a:ext cx="3124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90720" y="29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7080" y="51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105520" y="2895480"/>
            <a:ext cx="3809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lerance diminishes as more money is at stak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ers a more certain outcome and will demand a premium to accept risk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1371600" y="3048120"/>
            <a:ext cx="2971800" cy="2133360"/>
          </a:xfrm>
          <a:custGeom>
            <a:avLst/>
            <a:gdLst/>
            <a:ahLst/>
            <a:rect l="l" t="t" r="r" b="b"/>
            <a:pathLst>
              <a:path w="1872" h="1344">
                <a:moveTo>
                  <a:pt x="0" y="1344"/>
                </a:moveTo>
                <a:cubicBezTo>
                  <a:pt x="56" y="1116"/>
                  <a:pt x="112" y="888"/>
                  <a:pt x="192" y="720"/>
                </a:cubicBezTo>
                <a:cubicBezTo>
                  <a:pt x="272" y="552"/>
                  <a:pt x="344" y="440"/>
                  <a:pt x="480" y="336"/>
                </a:cubicBezTo>
                <a:cubicBezTo>
                  <a:pt x="616" y="232"/>
                  <a:pt x="776" y="152"/>
                  <a:pt x="1008" y="96"/>
                </a:cubicBezTo>
                <a:cubicBezTo>
                  <a:pt x="1240" y="40"/>
                  <a:pt x="1556" y="20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0666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Adverse / Risk Avoid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28600" y="6248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1932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isk Tolera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0666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isk Neutr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371600" y="283356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371600" y="5195880"/>
            <a:ext cx="3124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990720" y="29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267080" y="51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105520" y="28954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ility rises at a constant ra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V="1">
            <a:off x="1371600" y="2971800"/>
            <a:ext cx="2971800" cy="2209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5:22:01Z</dcterms:created>
  <dc:creator>Patrick Forza</dc:creator>
  <dc:description/>
  <dc:language>en-US</dc:language>
  <cp:lastModifiedBy>contact@xlsxtemp.com</cp:lastModifiedBy>
  <dcterms:modified xsi:type="dcterms:W3CDTF">2017-06-30T11:23:20Z</dcterms:modified>
  <cp:revision>21</cp:revision>
  <dc:subject/>
  <dc:title>PowerPoint Presentation</dc:title>
</cp:coreProperties>
</file>