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D24-DA54-471F-978F-FC37AB9C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50A6-561F-471B-82C5-11B81FDD0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E6C2-75B9-4523-9806-01C10FE75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9666-6E20-479D-9E77-D028BFB731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4DD-D309-40E0-B199-2E717D615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AF6-4868-4E7D-86EC-A8B8F1B34F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D8FC-705E-44FE-9E69-C5A9C77572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D4D-234F-429B-B7B0-7FE2C45DA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B030-5D5B-436F-8DB4-E1A5A78CAF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C3BC-F37D-485A-85AD-AF1CEDFA46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12D2-C971-41CA-8A7A-0A0D330D3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912-27A0-4A8E-82A7-4B6EC2385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74F-6204-47A9-A380-0B5C7FE3E0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BBC1-E8D8-4A7F-BF86-DAC0C1C13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3859-18F7-4CF6-AA43-827B6ED96D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EC61-35F2-47B2-B3B9-207E4CF02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5EA-D089-49A9-A9D1-2AA99F3C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53E-1D46-40AA-9F94-79C1DECE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BAE-4D4C-4643-9FD2-062A42C6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E38-5771-4C17-ADF5-3A8114B8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6A5-DC55-42CA-BD0A-D7242E4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8BC-A742-44FE-9210-4C3A1E99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DDD7-D3BF-4D02-97D6-221E4C8D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0E24-C2BC-4C67-B2C2-ACD2BB4C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09EE-D76F-4423-81B3-3F234275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6964-F720-4477-82B3-48CBA0C5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16D1-C274-484E-A0DA-9CB688A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FCB-A3AA-46F9-871C-34D501DC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36EB-BA75-4B3A-9A9B-1204BD6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5B4-DC5D-48D0-8FA8-3C3A13D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7202-47F6-4DD7-93B5-1E9ECD54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B2C-3FFF-40D2-926D-6B7E80E0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F114-C21F-42EB-8B0A-C270E5F0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43C6-0A59-4B2B-B7EE-5909AFCC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3273-7E65-4619-9A4A-77356842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731F-46A5-46CB-9367-4B62B54E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415A-BA39-4151-8E8A-A35E9AEE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C93A-AFBC-4F0B-B3D9-0412EA17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B3D-0541-4774-948C-6C2549DE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3FAD-2BBC-4B45-842F-189AA7A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633F-E36B-40FD-8D95-938FAA23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E6E6-9884-4FA3-B2A9-F04EC2C7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0F18-BD0A-411C-AC5C-F60ECD6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91A4-91DF-4A14-B2AD-702FBC0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9570-C29B-43FF-BDFD-F31A0BA0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6DD7-49BC-442C-88AA-CB35C932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360-F3C4-4256-AB53-A666642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EE9-7625-4D7F-90CF-54504F0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732-26D6-4A4C-B873-67A22E3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A1C-5631-4B2E-9CE5-AC82E4DF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ADE-36DF-403C-A5D1-8CE323D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73F-3379-4ADB-9054-A715F2A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40C4-8F70-42D7-A271-B0DA23DFB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EDF6-AAE2-4FB1-98F1-F0AC47656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F2A-1714-4EC2-B6EC-8DB02486A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286000" y="2819520"/>
            <a:ext cx="63244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4a00"/>
                </a:solidFill>
                <a:latin typeface="Calibri"/>
                <a:ea typeface="ＭＳ Ｐゴシック"/>
              </a:rPr>
              <a:t>The R&amp;M Task Group mandate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b54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4a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b54a00"/>
                </a:solidFill>
                <a:latin typeface="Calibri"/>
                <a:ea typeface="ＭＳ Ｐゴシック"/>
              </a:rPr>
              <a:t>Develop specific recommendations on how social housing project reporting and monitoring could be improved and made mor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b54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4a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b54a00"/>
                </a:solidFill>
                <a:latin typeface="Calibri"/>
                <a:ea typeface="ＭＳ Ｐゴシック"/>
              </a:rPr>
              <a:t>Considering the need for an appropriate level of oversight and risk management. </a:t>
            </a:r>
            <a:r>
              <a:rPr b="0" lang="en-US" sz="2400" spc="-1" strike="noStrike">
                <a:solidFill>
                  <a:srgbClr val="b54a00"/>
                </a:solidFill>
                <a:latin typeface="Georgia"/>
                <a:ea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477160" y="184464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3108"/>
                </a:solidFill>
                <a:latin typeface="Calibri"/>
                <a:ea typeface="ＭＳ Ｐゴシック"/>
              </a:rPr>
              <a:t>MAN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484360" y="333360"/>
            <a:ext cx="602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AND MONITORING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TY-BASED SOCIAL HOUS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Terra_Housing_PP_11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Terra_Housing_PP_12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Terra_Housing_PP_13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Terra_Housing_PP_14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Terra_Housing_PP_15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Terra_Housing_PP_15a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Terra_Housing_PP_16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Terra_Housing_PP_14.jpg                                        00080859Macintosh HD                   7C26072B: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Terra_Housing_PP_17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0" y="3200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p Leve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0" y="13716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&amp; MONITOR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286000" y="2743200"/>
            <a:ext cx="6629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731d"/>
                </a:solidFill>
                <a:latin typeface="Calibri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d0731d"/>
                </a:solidFill>
                <a:latin typeface="Calibri"/>
                <a:ea typeface="ＭＳ Ｐゴシック"/>
              </a:rPr>
              <a:t>Develop a project monitoring framework that allows BC Housing to focus on program rather than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0731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731d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d0731d"/>
                </a:solidFill>
                <a:latin typeface="Calibri"/>
                <a:ea typeface="ＭＳ Ｐゴシック"/>
              </a:rPr>
              <a:t>Develop standard reporting forms and formats that enable appropriate risk management but are not unreasonably 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0731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731d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d0731d"/>
                </a:solidFill>
                <a:latin typeface="Calibri"/>
                <a:ea typeface="ＭＳ Ｐゴシック"/>
              </a:rPr>
              <a:t>Explore and assess the feasibility of electronic fil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286000" y="175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OPE, ISSUES &amp;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erra_6Gates_PP_18"/>
          <p:cNvPicPr/>
          <p:nvPr/>
        </p:nvPicPr>
        <p:blipFill>
          <a:blip r:embed="rId1"/>
          <a:stretch/>
        </p:blipFill>
        <p:spPr>
          <a:xfrm>
            <a:off x="-506520" y="-476280"/>
            <a:ext cx="1015848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terra_6Gates_PP_19"/>
          <p:cNvPicPr/>
          <p:nvPr/>
        </p:nvPicPr>
        <p:blipFill>
          <a:blip r:embed="rId1"/>
          <a:stretch/>
        </p:blipFill>
        <p:spPr>
          <a:xfrm>
            <a:off x="-504720" y="-476280"/>
            <a:ext cx="1015524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terra_6Gates_PP_20"/>
          <p:cNvPicPr/>
          <p:nvPr/>
        </p:nvPicPr>
        <p:blipFill>
          <a:blip r:embed="rId1"/>
          <a:stretch/>
        </p:blipFill>
        <p:spPr>
          <a:xfrm>
            <a:off x="0" y="-571680"/>
            <a:ext cx="1015524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terra_6Gates_PP_21"/>
          <p:cNvPicPr/>
          <p:nvPr/>
        </p:nvPicPr>
        <p:blipFill>
          <a:blip r:embed="rId1"/>
          <a:stretch/>
        </p:blipFill>
        <p:spPr>
          <a:xfrm>
            <a:off x="0" y="-719280"/>
            <a:ext cx="10155240" cy="9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terra_6Gates_PP_22"/>
          <p:cNvPicPr/>
          <p:nvPr/>
        </p:nvPicPr>
        <p:blipFill>
          <a:blip r:embed="rId1"/>
          <a:stretch/>
        </p:blipFill>
        <p:spPr>
          <a:xfrm>
            <a:off x="0" y="-795240"/>
            <a:ext cx="10155240" cy="9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terra_6Gates_PP_23"/>
          <p:cNvPicPr/>
          <p:nvPr/>
        </p:nvPicPr>
        <p:blipFill>
          <a:blip r:embed="rId1"/>
          <a:stretch/>
        </p:blipFill>
        <p:spPr>
          <a:xfrm>
            <a:off x="0" y="-795240"/>
            <a:ext cx="10264680" cy="91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286000" y="28954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sidiary Form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Risk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0" y="13716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ING &amp; MONITOR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terra_PP_master1_March new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0" y="3048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formanc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86000" y="1676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REPORTING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2299320" y="53352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 Projec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38"/>
          <p:cNvSpPr/>
          <p:nvPr/>
        </p:nvSpPr>
        <p:spPr>
          <a:xfrm>
            <a:off x="2286000" y="1371600"/>
            <a:ext cx="621504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ding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asibility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rating program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PA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thly report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DF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 for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itment Request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aim process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nge Order process specif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rating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l Projec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286000" y="18288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2305080" y="45720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n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38"/>
          <p:cNvSpPr/>
          <p:nvPr/>
        </p:nvSpPr>
        <p:spPr>
          <a:xfrm>
            <a:off x="2286000" y="1066680"/>
            <a:ext cx="640080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inform potential proponents of the housing services BCH wants to acquire and the assistance they are able to pro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sufficient clarity to enable proponents to evaluate the fit with their objectives, opportunities and capabiliti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prepare a proposal which responds to which responds to BCH’s requirements and evalu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2293200" y="6858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38"/>
          <p:cNvSpPr/>
          <p:nvPr/>
        </p:nvSpPr>
        <p:spPr>
          <a:xfrm>
            <a:off x="2286000" y="1600200"/>
            <a:ext cx="54864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provide a complete, coherent description of the proposed project in sufficient detail to allow BCH to evaluate the proposal’s match to BCH’s objectives and the costs and risks to attain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2279520" y="6094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38"/>
          <p:cNvSpPr/>
          <p:nvPr/>
        </p:nvSpPr>
        <p:spPr>
          <a:xfrm>
            <a:off x="2286000" y="1600200"/>
            <a:ext cx="557208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identify and ameliorate the main risks to BCH of meeting their objectives by setting conditions for the sponsor to meet prior to irrevocably committing BCH’s full resources to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quilliaComicHandBold"/>
                <a:ea typeface="ＭＳ Ｐゴシック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form and content of the PPA letter will set the form and content of the progress reports by the sponsor to BCH during the developmen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286000" y="1219320"/>
            <a:ext cx="660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CTRONIC FIL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FIL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2297160" y="175248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FIRS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38"/>
          <p:cNvSpPr/>
          <p:nvPr/>
        </p:nvSpPr>
        <p:spPr>
          <a:xfrm>
            <a:off x="2286000" y="2743200"/>
            <a:ext cx="66787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C Housing’s policy objectives and funding information should be available on the web and actively distributed electron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information should be exchanged by electronic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2307240" y="1676520"/>
            <a:ext cx="34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38"/>
          <p:cNvSpPr/>
          <p:nvPr/>
        </p:nvSpPr>
        <p:spPr>
          <a:xfrm>
            <a:off x="2286000" y="2743200"/>
            <a:ext cx="655308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identify optimal funding opportunities by soliciting responses filter to meet BC Housing’s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ic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rge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rogram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hedule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ding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ther evalu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615720" y="45720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43e0a"/>
                </a:solidFill>
                <a:latin typeface="Calibri"/>
                <a:ea typeface="Calibri"/>
              </a:rPr>
              <a:t>RFP Table of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2291400" y="167652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38"/>
          <p:cNvSpPr/>
          <p:nvPr/>
        </p:nvSpPr>
        <p:spPr>
          <a:xfrm>
            <a:off x="2286000" y="2895480"/>
            <a:ext cx="6400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further the proponent’s objectives by developing a proposal which comb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roponent’s objectiv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specific development opportunit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BC Housing’s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402240" y="53352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43e0a"/>
                </a:solidFill>
                <a:latin typeface="Calibri"/>
                <a:ea typeface="Calibri"/>
              </a:rPr>
              <a:t>Proposal Table of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732240" y="571680"/>
            <a:ext cx="46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visional Project Approva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38"/>
          <p:cNvSpPr/>
          <p:nvPr/>
        </p:nvSpPr>
        <p:spPr>
          <a:xfrm>
            <a:off x="785880" y="1357200"/>
            <a:ext cx="6929280" cy="43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To establish an approval frame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cific to a proposed project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ximizes the likelihood that the project submitted for funding commitment will meet BC Housing’s objective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lining conditions for funding which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eral fund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-specific risks to be mi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PA letter establishes the administrative framework for the develop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342120" y="71424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43e0a"/>
                </a:solidFill>
                <a:latin typeface="Calibri"/>
                <a:ea typeface="Calibri"/>
              </a:rPr>
              <a:t>Sample BCH P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2285280" y="1295280"/>
            <a:ext cx="34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SIO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APPROVA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8"/>
          <p:cNvSpPr/>
          <p:nvPr/>
        </p:nvSpPr>
        <p:spPr>
          <a:xfrm>
            <a:off x="2286000" y="2819520"/>
            <a:ext cx="692928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es to the PPA L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r letter addressing specif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documents (e.g. DP, B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2302560" y="1752480"/>
            <a:ext cx="45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 FOR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38"/>
          <p:cNvSpPr/>
          <p:nvPr/>
        </p:nvSpPr>
        <p:spPr>
          <a:xfrm>
            <a:off x="2286000" y="2971800"/>
            <a:ext cx="5943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confirm that all conditions precedent to project funding have been met and documented as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034680" y="45720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43e0a"/>
                </a:solidFill>
                <a:latin typeface="Calibri"/>
                <a:ea typeface="Calibri"/>
              </a:rPr>
              <a:t>Sample Request for Comm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Terra_Housing_PP_5a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2299680" y="16765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38"/>
          <p:cNvSpPr/>
          <p:nvPr/>
        </p:nvSpPr>
        <p:spPr>
          <a:xfrm>
            <a:off x="2286000" y="2819520"/>
            <a:ext cx="692928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communicate funding approval and to establish the specific legal framework within which funds will be made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urity document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anc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aim form and advanc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nge order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625000" y="181944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43e0a"/>
                </a:solidFill>
                <a:latin typeface="Calibri"/>
                <a:ea typeface="Calibri"/>
              </a:rPr>
              <a:t>Sample Claim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2286000" y="1600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38"/>
          <p:cNvSpPr/>
          <p:nvPr/>
        </p:nvSpPr>
        <p:spPr>
          <a:xfrm>
            <a:off x="2286000" y="2819520"/>
            <a:ext cx="571500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document fulfillment of the project approv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286000" y="1676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SK GROUP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286000" y="3017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rleen Mo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ennifer Hall</a:t>
            </a:r>
            <a:r>
              <a:rPr b="0" lang="en-US" sz="2400" spc="-1" strike="noStrike">
                <a:solidFill>
                  <a:srgbClr val="b54a00"/>
                </a:solidFill>
                <a:latin typeface="Calibri"/>
                <a:ea typeface="ＭＳ Ｐゴシック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0" y="2743200"/>
            <a:ext cx="66294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art Thom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|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SK GROUP CH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ncipal, Terra Housing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rbara Bac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ecutive Director, BC Housing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oline Bonesk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ecutive Director, Fraserside Communit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nevieve Buc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 Officer, BC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286000" y="1676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SK GROUP MEM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095880" y="63244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INUED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286000" y="2666880"/>
            <a:ext cx="66294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ey Cler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ociate, CPA Development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nis Gaut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G Consulting Services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nine Ry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ior Project Officer, BC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k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ecutive Director, National Society of H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y W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ior Project Officer, BC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286000" y="1447920"/>
            <a:ext cx="510552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SK GROUP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Terra_PP_HousContin_v2sm.jpg                                   002B1EB1Macintosh HD                   7C26072B:"/>
          <p:cNvPicPr/>
          <p:nvPr/>
        </p:nvPicPr>
        <p:blipFill>
          <a:blip r:embed="rId2"/>
          <a:stretch/>
        </p:blipFill>
        <p:spPr>
          <a:xfrm>
            <a:off x="152280" y="0"/>
            <a:ext cx="883944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2362320" y="14479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Terra_Housing_PP_6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Terra_Housing_PP_7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Terra_Housing_PP_8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Terra_Housing_PP_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erra_Housing_PP_10a"/>
          <p:cNvPicPr/>
          <p:nvPr/>
        </p:nvPicPr>
        <p:blipFill>
          <a:blip r:embed="rId1"/>
          <a:stretch/>
        </p:blipFill>
        <p:spPr>
          <a:xfrm>
            <a:off x="-457200" y="-457200"/>
            <a:ext cx="10059840" cy="77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6:53:15Z</dcterms:created>
  <dc:creator>Jerry Eberts</dc:creator>
  <dc:description/>
  <dc:language>en-US</dc:language>
  <cp:lastModifiedBy>contact@xlsxtemp.com</cp:lastModifiedBy>
  <dcterms:modified xsi:type="dcterms:W3CDTF">2017-06-30T11:20:07Z</dcterms:modified>
  <cp:revision>35</cp:revision>
  <dc:subject/>
  <dc:title>PowerPoint Presentation</dc:title>
</cp:coreProperties>
</file>